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FE2-DD65-4657-A8A2-6F985E99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924-563F-4152-B6BC-02BB6240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8E7-4FC3-4C5F-9CC9-13E65748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1D1-A32E-4BDA-9ABF-B7A6CA01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CB09-AD96-41CB-9B70-78193346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F5D1-F9ED-492B-A4CD-BEF1997D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41BA-6C49-4356-BB87-17CDF9C0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BD89-CDC8-4F64-9EF9-D254D2EB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4A06-9372-4F44-A96B-33F099E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8F96-AE4A-4A5B-8398-C38C6531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644F-2F31-414A-A4BC-C3CC595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186-7313-46FE-A23F-F204129E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E7A8-7207-467D-B1CA-E7094597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D7BE-E70A-4EC9-90AC-0B48F6C9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1E77-D854-4414-9A40-255E7FE9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3B8F-68A6-4E3A-AFF3-60E33E2D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DD20-5E40-465E-9B58-C5758059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6D1-6CC9-403F-9F4B-F8C9961D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B93-DE9E-4121-9DC1-DD8A4D7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2E7-E735-4823-B07A-86DA2A60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A48-C3F8-4973-B4FB-8D4D1824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249-BFD9-471E-945F-A59F019E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82B-8F03-4CA1-B97E-23AE1EB5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AA3-4FEF-4205-B595-B60F159F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0EB-E639-404B-92F4-527230794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1E72-816A-419D-B626-B860E8A84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" Target="slide3.xm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.wmf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image" Target="../media/image8.wmf"/><Relationship Id="rId6" Type="http://schemas.openxmlformats.org/officeDocument/2006/relationships/slide" Target="slide13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3.xml"/><Relationship Id="rId10" Type="http://schemas.openxmlformats.org/officeDocument/2006/relationships/image" Target="../media/image2.wmf"/><Relationship Id="rId11" Type="http://schemas.openxmlformats.org/officeDocument/2006/relationships/slide" Target="slide12.xml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6.xml"/><Relationship Id="rId3" Type="http://schemas.openxmlformats.org/officeDocument/2006/relationships/image" Target="../media/image8.wmf"/><Relationship Id="rId4" Type="http://schemas.openxmlformats.org/officeDocument/2006/relationships/slide" Target="slide16.xml"/><Relationship Id="rId5" Type="http://schemas.openxmlformats.org/officeDocument/2006/relationships/slide" Target="slide10.xml"/><Relationship Id="rId6" Type="http://schemas.openxmlformats.org/officeDocument/2006/relationships/image" Target="../media/image2.wmf"/><Relationship Id="rId7" Type="http://schemas.openxmlformats.org/officeDocument/2006/relationships/image" Target="../media/image5.wmf"/><Relationship Id="rId8" Type="http://schemas.openxmlformats.org/officeDocument/2006/relationships/image" Target="../media/image3.wmf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6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0.xml"/><Relationship Id="rId6" Type="http://schemas.openxmlformats.org/officeDocument/2006/relationships/image" Target="../media/image2.wmf"/><Relationship Id="rId7" Type="http://schemas.openxmlformats.org/officeDocument/2006/relationships/image" Target="../media/image5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" Target="slide4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image" Target="../media/image7.wmf"/><Relationship Id="rId8" Type="http://schemas.openxmlformats.org/officeDocument/2006/relationships/slide" Target="slide6.xml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" Target="slide10.xml"/><Relationship Id="rId4" Type="http://schemas.openxmlformats.org/officeDocument/2006/relationships/image" Target="../media/image7.wmf"/><Relationship Id="rId5" Type="http://schemas.openxmlformats.org/officeDocument/2006/relationships/slide" Target="slide6.xml"/><Relationship Id="rId6" Type="http://schemas.openxmlformats.org/officeDocument/2006/relationships/image" Target="../media/image8.wmf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0920" y="1447920"/>
            <a:ext cx="5032440" cy="5410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 Narrow"/>
              </a:rPr>
              <a:t>El Tiempo</a:t>
            </a:r>
            <a:endParaRPr b="1" lang="en-US" sz="8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205740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16668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781680" y="4114800"/>
            <a:ext cx="2057400" cy="17226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5638680" y="20574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238880" y="1600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2286000" y="1676520"/>
            <a:ext cx="4724280" cy="4876560"/>
          </a:xfrm>
          <a:custGeom>
            <a:avLst/>
            <a:gdLst>
              <a:gd name="textAreaLeft" fmla="*/ 306000 w 4724280"/>
              <a:gd name="textAreaRight" fmla="*/ 4418280 w 4724280"/>
              <a:gd name="textAreaTop" fmla="*/ 306000 h 4876560"/>
              <a:gd name="textAreaBottom" fmla="*/ 4570560 h 4876560"/>
            </a:gdLst>
            <a:ahLst/>
            <a:rect l="textAreaLeft" t="textAreaTop" r="textAreaRight" b="textAreaBottom"/>
            <a:pathLst>
              <a:path w="21600" h="22296">
                <a:moveTo>
                  <a:pt x="0" y="0"/>
                </a:moveTo>
                <a:lnTo>
                  <a:pt x="21600" y="0"/>
                </a:lnTo>
                <a:lnTo>
                  <a:pt x="21600" y="22296"/>
                </a:lnTo>
                <a:lnTo>
                  <a:pt x="0" y="22296"/>
                </a:lnTo>
                <a:close/>
              </a:path>
              <a:path fill="lightenLess" w="21600" h="222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6">
                <a:moveTo>
                  <a:pt x="21600" y="0"/>
                </a:moveTo>
                <a:lnTo>
                  <a:pt x="21600" y="22296"/>
                </a:lnTo>
                <a:lnTo>
                  <a:pt x="20200" y="20896"/>
                </a:lnTo>
                <a:lnTo>
                  <a:pt x="20200" y="1400"/>
                </a:lnTo>
                <a:close/>
              </a:path>
              <a:path fill="darkenLess" w="21600" h="22296">
                <a:moveTo>
                  <a:pt x="21600" y="22296"/>
                </a:moveTo>
                <a:lnTo>
                  <a:pt x="0" y="22296"/>
                </a:lnTo>
                <a:lnTo>
                  <a:pt x="1400" y="20896"/>
                </a:lnTo>
                <a:lnTo>
                  <a:pt x="20200" y="20896"/>
                </a:lnTo>
                <a:close/>
              </a:path>
              <a:path fill="lighten" w="21600" h="22296">
                <a:moveTo>
                  <a:pt x="0" y="222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191120" y="3656880"/>
            <a:ext cx="4419360" cy="1219320"/>
          </a:xfrm>
          <a:custGeom>
            <a:avLst/>
            <a:gdLst>
              <a:gd name="textAreaLeft" fmla="*/ 78840 w 4419360"/>
              <a:gd name="textAreaRight" fmla="*/ 4340520 w 44193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1" h="21600">
                <a:moveTo>
                  <a:pt x="0" y="0"/>
                </a:moveTo>
                <a:lnTo>
                  <a:pt x="78271" y="0"/>
                </a:lnTo>
                <a:lnTo>
                  <a:pt x="78271" y="21600"/>
                </a:lnTo>
                <a:lnTo>
                  <a:pt x="0" y="21600"/>
                </a:lnTo>
                <a:close/>
              </a:path>
              <a:path fill="lightenLess" w="78271" h="21600">
                <a:moveTo>
                  <a:pt x="0" y="0"/>
                </a:moveTo>
                <a:lnTo>
                  <a:pt x="78271" y="0"/>
                </a:lnTo>
                <a:lnTo>
                  <a:pt x="76871" y="1400"/>
                </a:lnTo>
                <a:lnTo>
                  <a:pt x="1400" y="1400"/>
                </a:lnTo>
                <a:close/>
              </a:path>
              <a:path fill="darken" w="78271" h="21600">
                <a:moveTo>
                  <a:pt x="78271" y="0"/>
                </a:moveTo>
                <a:lnTo>
                  <a:pt x="78271" y="21600"/>
                </a:lnTo>
                <a:lnTo>
                  <a:pt x="76871" y="20200"/>
                </a:lnTo>
                <a:lnTo>
                  <a:pt x="76871" y="1400"/>
                </a:lnTo>
                <a:close/>
              </a:path>
              <a:path fill="darkenLess" w="78271" h="21600">
                <a:moveTo>
                  <a:pt x="7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1" y="20200"/>
                </a:lnTo>
                <a:close/>
              </a:path>
              <a:path fill="lighten" w="7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Hace mal tiemp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5715000" y="4648320"/>
            <a:ext cx="1371600" cy="121896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81080" y="4267080"/>
            <a:ext cx="1544760" cy="18115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5715000" y="45720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38680" y="4267080"/>
            <a:ext cx="1692360" cy="177012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2057400" y="4343400"/>
            <a:ext cx="1143000" cy="16765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676520"/>
              <a:gd name="textAreaBottom" fmla="*/ 1602720 h 1676520"/>
            </a:gdLst>
            <a:ahLst/>
            <a:rect l="textAreaLeft" t="textAreaTop" r="textAreaRight" b="textAreaBottom"/>
            <a:pathLst>
              <a:path w="21600" h="31679">
                <a:moveTo>
                  <a:pt x="0" y="0"/>
                </a:moveTo>
                <a:lnTo>
                  <a:pt x="21600" y="0"/>
                </a:lnTo>
                <a:lnTo>
                  <a:pt x="21600" y="31679"/>
                </a:lnTo>
                <a:lnTo>
                  <a:pt x="0" y="31679"/>
                </a:lnTo>
                <a:close/>
              </a:path>
              <a:path fill="lightenLess" w="21600" h="31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79">
                <a:moveTo>
                  <a:pt x="21600" y="0"/>
                </a:moveTo>
                <a:lnTo>
                  <a:pt x="21600" y="31679"/>
                </a:lnTo>
                <a:lnTo>
                  <a:pt x="20200" y="30279"/>
                </a:lnTo>
                <a:lnTo>
                  <a:pt x="20200" y="1400"/>
                </a:lnTo>
                <a:close/>
              </a:path>
              <a:path fill="darkenLess" w="21600" h="31679">
                <a:moveTo>
                  <a:pt x="21600" y="31679"/>
                </a:moveTo>
                <a:lnTo>
                  <a:pt x="0" y="31679"/>
                </a:lnTo>
                <a:lnTo>
                  <a:pt x="1400" y="30279"/>
                </a:lnTo>
                <a:lnTo>
                  <a:pt x="20200" y="30279"/>
                </a:lnTo>
                <a:close/>
              </a:path>
              <a:path fill="lighten" w="21600" h="31679">
                <a:moveTo>
                  <a:pt x="0" y="31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1600200" y="198108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>
            <a:hlinkClick r:id="rId8" action="ppaction://hlinksldjump"/>
          </p:cNvPr>
          <p:cNvSpPr/>
          <p:nvPr/>
        </p:nvSpPr>
        <p:spPr>
          <a:xfrm>
            <a:off x="5715000" y="1905120"/>
            <a:ext cx="1752480" cy="182880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828800"/>
              <a:gd name="textAreaBottom" fmla="*/ 1715400 h 1828800"/>
            </a:gdLst>
            <a:ahLst/>
            <a:rect l="textAreaLeft" t="textAreaTop" r="textAreaRight" b="textAreaBottom"/>
            <a:pathLst>
              <a:path w="21600" h="22540">
                <a:moveTo>
                  <a:pt x="0" y="0"/>
                </a:moveTo>
                <a:lnTo>
                  <a:pt x="21600" y="0"/>
                </a:lnTo>
                <a:lnTo>
                  <a:pt x="21600" y="22540"/>
                </a:lnTo>
                <a:lnTo>
                  <a:pt x="0" y="22540"/>
                </a:lnTo>
                <a:close/>
              </a:path>
              <a:path fill="lightenLess" w="21600" h="22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0">
                <a:moveTo>
                  <a:pt x="21600" y="0"/>
                </a:moveTo>
                <a:lnTo>
                  <a:pt x="21600" y="22540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0">
                <a:moveTo>
                  <a:pt x="21600" y="22540"/>
                </a:moveTo>
                <a:lnTo>
                  <a:pt x="0" y="22540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0">
                <a:moveTo>
                  <a:pt x="0" y="22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52480" y="2014560"/>
            <a:ext cx="2057400" cy="1728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715000" y="2011320"/>
            <a:ext cx="2057400" cy="1722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4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648320"/>
            <a:ext cx="4572000" cy="121896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80998" h="21600">
                <a:moveTo>
                  <a:pt x="0" y="0"/>
                </a:moveTo>
                <a:lnTo>
                  <a:pt x="80998" y="0"/>
                </a:lnTo>
                <a:lnTo>
                  <a:pt x="80998" y="21600"/>
                </a:lnTo>
                <a:lnTo>
                  <a:pt x="0" y="21600"/>
                </a:lnTo>
                <a:close/>
              </a:path>
              <a:path fill="lightenLess" w="80998" h="21600">
                <a:moveTo>
                  <a:pt x="0" y="0"/>
                </a:moveTo>
                <a:lnTo>
                  <a:pt x="80998" y="0"/>
                </a:lnTo>
                <a:lnTo>
                  <a:pt x="79598" y="1400"/>
                </a:lnTo>
                <a:lnTo>
                  <a:pt x="1400" y="1400"/>
                </a:lnTo>
                <a:close/>
              </a:path>
              <a:path fill="darken" w="80998" h="21600">
                <a:moveTo>
                  <a:pt x="80998" y="0"/>
                </a:moveTo>
                <a:lnTo>
                  <a:pt x="80998" y="21600"/>
                </a:lnTo>
                <a:lnTo>
                  <a:pt x="79598" y="20200"/>
                </a:lnTo>
                <a:lnTo>
                  <a:pt x="79598" y="1400"/>
                </a:lnTo>
                <a:close/>
              </a:path>
              <a:path fill="darkenLess" w="80998" h="21600">
                <a:moveTo>
                  <a:pt x="80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8" y="20200"/>
                </a:lnTo>
                <a:close/>
              </a:path>
              <a:path fill="lighten" w="80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548640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3733200"/>
            <a:ext cx="4419360" cy="1143000"/>
          </a:xfrm>
          <a:custGeom>
            <a:avLst/>
            <a:gdLst>
              <a:gd name="textAreaLeft" fmla="*/ 73800 w 4419360"/>
              <a:gd name="textAreaRight" fmla="*/ 4345560 w 4419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83496" h="21600">
                <a:moveTo>
                  <a:pt x="0" y="0"/>
                </a:moveTo>
                <a:lnTo>
                  <a:pt x="83496" y="0"/>
                </a:lnTo>
                <a:lnTo>
                  <a:pt x="83496" y="21600"/>
                </a:lnTo>
                <a:lnTo>
                  <a:pt x="0" y="21600"/>
                </a:lnTo>
                <a:close/>
              </a:path>
              <a:path fill="lightenLess" w="83496" h="21600">
                <a:moveTo>
                  <a:pt x="0" y="0"/>
                </a:moveTo>
                <a:lnTo>
                  <a:pt x="83496" y="0"/>
                </a:lnTo>
                <a:lnTo>
                  <a:pt x="82096" y="1400"/>
                </a:lnTo>
                <a:lnTo>
                  <a:pt x="1400" y="1400"/>
                </a:lnTo>
                <a:close/>
              </a:path>
              <a:path fill="darken" w="83496" h="21600">
                <a:moveTo>
                  <a:pt x="83496" y="0"/>
                </a:moveTo>
                <a:lnTo>
                  <a:pt x="83496" y="21600"/>
                </a:lnTo>
                <a:lnTo>
                  <a:pt x="82096" y="20200"/>
                </a:lnTo>
                <a:lnTo>
                  <a:pt x="82096" y="1400"/>
                </a:lnTo>
                <a:close/>
              </a:path>
              <a:path fill="darkenLess" w="83496" h="21600">
                <a:moveTo>
                  <a:pt x="834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096" y="20200"/>
                </a:lnTo>
                <a:close/>
              </a:path>
              <a:path fill="lighten" w="834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Está lloviend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5715000" y="4648320"/>
            <a:ext cx="1371600" cy="121896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5715000" y="45720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64000" y="4267080"/>
            <a:ext cx="1967040" cy="2057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66680" y="4267080"/>
            <a:ext cx="2286000" cy="228600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1295280" y="198108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5715000" y="1905120"/>
            <a:ext cx="1752480" cy="182880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828800"/>
              <a:gd name="textAreaBottom" fmla="*/ 1715400 h 1828800"/>
            </a:gdLst>
            <a:ahLst/>
            <a:rect l="textAreaLeft" t="textAreaTop" r="textAreaRight" b="textAreaBottom"/>
            <a:pathLst>
              <a:path w="21600" h="22540">
                <a:moveTo>
                  <a:pt x="0" y="0"/>
                </a:moveTo>
                <a:lnTo>
                  <a:pt x="21600" y="0"/>
                </a:lnTo>
                <a:lnTo>
                  <a:pt x="21600" y="22540"/>
                </a:lnTo>
                <a:lnTo>
                  <a:pt x="0" y="22540"/>
                </a:lnTo>
                <a:close/>
              </a:path>
              <a:path fill="lightenLess" w="21600" h="22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0">
                <a:moveTo>
                  <a:pt x="21600" y="0"/>
                </a:moveTo>
                <a:lnTo>
                  <a:pt x="21600" y="22540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0">
                <a:moveTo>
                  <a:pt x="21600" y="22540"/>
                </a:moveTo>
                <a:lnTo>
                  <a:pt x="0" y="22540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0">
                <a:moveTo>
                  <a:pt x="0" y="22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990720" y="1828800"/>
            <a:ext cx="2286000" cy="1920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1219320" y="4210200"/>
            <a:ext cx="1885680" cy="1885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5308560" y="1676520"/>
            <a:ext cx="2082960" cy="2286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9" action="ppaction://hlinksldjump"/>
          </p:cNvPr>
          <p:cNvSpPr/>
          <p:nvPr/>
        </p:nvSpPr>
        <p:spPr>
          <a:xfrm>
            <a:off x="5257800" y="1676520"/>
            <a:ext cx="2286000" cy="24382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438280"/>
              <a:gd name="textAreaBottom" fmla="*/ 2290320 h 2438280"/>
            </a:gdLst>
            <a:ahLst/>
            <a:rect l="textAreaLeft" t="textAreaTop" r="textAreaRight" b="textAreaBottom"/>
            <a:pathLst>
              <a:path w="21600" h="23039">
                <a:moveTo>
                  <a:pt x="0" y="0"/>
                </a:moveTo>
                <a:lnTo>
                  <a:pt x="21600" y="0"/>
                </a:lnTo>
                <a:lnTo>
                  <a:pt x="21600" y="23039"/>
                </a:lnTo>
                <a:lnTo>
                  <a:pt x="0" y="23039"/>
                </a:lnTo>
                <a:close/>
              </a:path>
              <a:path fill="lightenLess" w="21600" h="23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9">
                <a:moveTo>
                  <a:pt x="21600" y="0"/>
                </a:moveTo>
                <a:lnTo>
                  <a:pt x="21600" y="23039"/>
                </a:lnTo>
                <a:lnTo>
                  <a:pt x="20200" y="21639"/>
                </a:lnTo>
                <a:lnTo>
                  <a:pt x="20200" y="1400"/>
                </a:lnTo>
                <a:close/>
              </a:path>
              <a:path fill="darkenLess" w="21600" h="23039">
                <a:moveTo>
                  <a:pt x="21600" y="23039"/>
                </a:moveTo>
                <a:lnTo>
                  <a:pt x="0" y="23039"/>
                </a:lnTo>
                <a:lnTo>
                  <a:pt x="1400" y="21639"/>
                </a:lnTo>
                <a:lnTo>
                  <a:pt x="20200" y="21639"/>
                </a:lnTo>
                <a:close/>
              </a:path>
              <a:path fill="lighten" w="21600" h="23039">
                <a:moveTo>
                  <a:pt x="0" y="23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>
            <a:hlinkClick r:id="rId10" action="ppaction://hlinksldjump"/>
          </p:cNvPr>
          <p:cNvSpPr/>
          <p:nvPr/>
        </p:nvSpPr>
        <p:spPr>
          <a:xfrm>
            <a:off x="5257800" y="4267080"/>
            <a:ext cx="1676520" cy="198144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81440"/>
              <a:gd name="textAreaBottom" fmla="*/ 1873080 h 1981440"/>
            </a:gdLst>
            <a:ahLst/>
            <a:rect l="textAreaLeft" t="textAreaTop" r="textAreaRight" b="textAreaBottom"/>
            <a:pathLst>
              <a:path w="21600" h="25528">
                <a:moveTo>
                  <a:pt x="0" y="0"/>
                </a:moveTo>
                <a:lnTo>
                  <a:pt x="21600" y="0"/>
                </a:lnTo>
                <a:lnTo>
                  <a:pt x="21600" y="25528"/>
                </a:lnTo>
                <a:lnTo>
                  <a:pt x="0" y="25528"/>
                </a:lnTo>
                <a:close/>
              </a:path>
              <a:path fill="lightenLess" w="21600" h="255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28">
                <a:moveTo>
                  <a:pt x="21600" y="0"/>
                </a:moveTo>
                <a:lnTo>
                  <a:pt x="21600" y="25528"/>
                </a:lnTo>
                <a:lnTo>
                  <a:pt x="20200" y="24128"/>
                </a:lnTo>
                <a:lnTo>
                  <a:pt x="20200" y="1400"/>
                </a:lnTo>
                <a:close/>
              </a:path>
              <a:path fill="darkenLess" w="21600" h="25528">
                <a:moveTo>
                  <a:pt x="21600" y="25528"/>
                </a:moveTo>
                <a:lnTo>
                  <a:pt x="0" y="25528"/>
                </a:lnTo>
                <a:lnTo>
                  <a:pt x="1400" y="24128"/>
                </a:lnTo>
                <a:lnTo>
                  <a:pt x="20200" y="24128"/>
                </a:lnTo>
                <a:close/>
              </a:path>
              <a:path fill="lighten" w="21600" h="25528">
                <a:moveTo>
                  <a:pt x="0" y="255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5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3352680" y="4648320"/>
            <a:ext cx="4572000" cy="121896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80998" h="21600">
                <a:moveTo>
                  <a:pt x="0" y="0"/>
                </a:moveTo>
                <a:lnTo>
                  <a:pt x="80998" y="0"/>
                </a:lnTo>
                <a:lnTo>
                  <a:pt x="80998" y="21600"/>
                </a:lnTo>
                <a:lnTo>
                  <a:pt x="0" y="21600"/>
                </a:lnTo>
                <a:close/>
              </a:path>
              <a:path fill="lightenLess" w="80998" h="21600">
                <a:moveTo>
                  <a:pt x="0" y="0"/>
                </a:moveTo>
                <a:lnTo>
                  <a:pt x="80998" y="0"/>
                </a:lnTo>
                <a:lnTo>
                  <a:pt x="79598" y="1400"/>
                </a:lnTo>
                <a:lnTo>
                  <a:pt x="1400" y="1400"/>
                </a:lnTo>
                <a:close/>
              </a:path>
              <a:path fill="darken" w="80998" h="21600">
                <a:moveTo>
                  <a:pt x="80998" y="0"/>
                </a:moveTo>
                <a:lnTo>
                  <a:pt x="80998" y="21600"/>
                </a:lnTo>
                <a:lnTo>
                  <a:pt x="79598" y="20200"/>
                </a:lnTo>
                <a:lnTo>
                  <a:pt x="79598" y="1400"/>
                </a:lnTo>
                <a:close/>
              </a:path>
              <a:path fill="darkenLess" w="80998" h="21600">
                <a:moveTo>
                  <a:pt x="80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8" y="20200"/>
                </a:lnTo>
                <a:close/>
              </a:path>
              <a:path fill="lighten" w="80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48640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3656880"/>
            <a:ext cx="4419360" cy="1219320"/>
          </a:xfrm>
          <a:custGeom>
            <a:avLst/>
            <a:gdLst>
              <a:gd name="textAreaLeft" fmla="*/ 78840 w 4419360"/>
              <a:gd name="textAreaRight" fmla="*/ 4340520 w 44193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1" h="21600">
                <a:moveTo>
                  <a:pt x="0" y="0"/>
                </a:moveTo>
                <a:lnTo>
                  <a:pt x="78271" y="0"/>
                </a:lnTo>
                <a:lnTo>
                  <a:pt x="78271" y="21600"/>
                </a:lnTo>
                <a:lnTo>
                  <a:pt x="0" y="21600"/>
                </a:lnTo>
                <a:close/>
              </a:path>
              <a:path fill="lightenLess" w="78271" h="21600">
                <a:moveTo>
                  <a:pt x="0" y="0"/>
                </a:moveTo>
                <a:lnTo>
                  <a:pt x="78271" y="0"/>
                </a:lnTo>
                <a:lnTo>
                  <a:pt x="76871" y="1400"/>
                </a:lnTo>
                <a:lnTo>
                  <a:pt x="1400" y="1400"/>
                </a:lnTo>
                <a:close/>
              </a:path>
              <a:path fill="darken" w="78271" h="21600">
                <a:moveTo>
                  <a:pt x="78271" y="0"/>
                </a:moveTo>
                <a:lnTo>
                  <a:pt x="78271" y="21600"/>
                </a:lnTo>
                <a:lnTo>
                  <a:pt x="76871" y="20200"/>
                </a:lnTo>
                <a:lnTo>
                  <a:pt x="76871" y="1400"/>
                </a:lnTo>
                <a:close/>
              </a:path>
              <a:path fill="darkenLess" w="78271" h="21600">
                <a:moveTo>
                  <a:pt x="7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1" y="20200"/>
                </a:lnTo>
                <a:close/>
              </a:path>
              <a:path fill="lighten" w="7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Está nevand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5715000" y="4648320"/>
            <a:ext cx="1371600" cy="121896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4304" h="21600">
                <a:moveTo>
                  <a:pt x="0" y="0"/>
                </a:moveTo>
                <a:lnTo>
                  <a:pt x="24304" y="0"/>
                </a:lnTo>
                <a:lnTo>
                  <a:pt x="24304" y="21600"/>
                </a:lnTo>
                <a:lnTo>
                  <a:pt x="0" y="21600"/>
                </a:lnTo>
                <a:close/>
              </a:path>
              <a:path fill="lightenLess" w="24304" h="21600">
                <a:moveTo>
                  <a:pt x="0" y="0"/>
                </a:moveTo>
                <a:lnTo>
                  <a:pt x="24304" y="0"/>
                </a:lnTo>
                <a:lnTo>
                  <a:pt x="22904" y="1400"/>
                </a:lnTo>
                <a:lnTo>
                  <a:pt x="1400" y="1400"/>
                </a:lnTo>
                <a:close/>
              </a:path>
              <a:path fill="darken" w="24304" h="21600">
                <a:moveTo>
                  <a:pt x="24304" y="0"/>
                </a:moveTo>
                <a:lnTo>
                  <a:pt x="24304" y="21600"/>
                </a:lnTo>
                <a:lnTo>
                  <a:pt x="22904" y="20200"/>
                </a:lnTo>
                <a:lnTo>
                  <a:pt x="22904" y="1400"/>
                </a:lnTo>
                <a:close/>
              </a:path>
              <a:path fill="darkenLess" w="24304" h="21600">
                <a:moveTo>
                  <a:pt x="2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4" y="20200"/>
                </a:lnTo>
                <a:close/>
              </a:path>
              <a:path fill="lighten" w="2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5715000" y="45720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1219320" y="4343400"/>
            <a:ext cx="2133360" cy="1676520"/>
          </a:xfrm>
          <a:custGeom>
            <a:avLst/>
            <a:gdLst>
              <a:gd name="textAreaLeft" fmla="*/ 108360 w 2133360"/>
              <a:gd name="textAreaRight" fmla="*/ 2025000 w 21333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7485" h="21600">
                <a:moveTo>
                  <a:pt x="0" y="0"/>
                </a:moveTo>
                <a:lnTo>
                  <a:pt x="27485" y="0"/>
                </a:lnTo>
                <a:lnTo>
                  <a:pt x="27485" y="21600"/>
                </a:lnTo>
                <a:lnTo>
                  <a:pt x="0" y="21600"/>
                </a:lnTo>
                <a:close/>
              </a:path>
              <a:path fill="lightenLess" w="27485" h="21600">
                <a:moveTo>
                  <a:pt x="0" y="0"/>
                </a:moveTo>
                <a:lnTo>
                  <a:pt x="27485" y="0"/>
                </a:lnTo>
                <a:lnTo>
                  <a:pt x="26085" y="1400"/>
                </a:lnTo>
                <a:lnTo>
                  <a:pt x="1400" y="1400"/>
                </a:lnTo>
                <a:close/>
              </a:path>
              <a:path fill="darken" w="27485" h="21600">
                <a:moveTo>
                  <a:pt x="27485" y="0"/>
                </a:moveTo>
                <a:lnTo>
                  <a:pt x="27485" y="21600"/>
                </a:lnTo>
                <a:lnTo>
                  <a:pt x="26085" y="20200"/>
                </a:lnTo>
                <a:lnTo>
                  <a:pt x="26085" y="1400"/>
                </a:lnTo>
                <a:close/>
              </a:path>
              <a:path fill="darkenLess" w="27485" h="21600">
                <a:moveTo>
                  <a:pt x="2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5" y="20200"/>
                </a:lnTo>
                <a:close/>
              </a:path>
              <a:path fill="lighten" w="2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>
            <a:hlinkClick r:id="rId4" action="ppaction://hlinksldjump"/>
          </p:cNvPr>
          <p:cNvSpPr/>
          <p:nvPr/>
        </p:nvSpPr>
        <p:spPr>
          <a:xfrm>
            <a:off x="1295280" y="198108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>
            <a:hlinkClick r:id="rId5" action="ppaction://hlinksldjump"/>
          </p:cNvPr>
          <p:cNvSpPr/>
          <p:nvPr/>
        </p:nvSpPr>
        <p:spPr>
          <a:xfrm>
            <a:off x="5715000" y="1905120"/>
            <a:ext cx="1752480" cy="182880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828800"/>
              <a:gd name="textAreaBottom" fmla="*/ 1715400 h 1828800"/>
            </a:gdLst>
            <a:ahLst/>
            <a:rect l="textAreaLeft" t="textAreaTop" r="textAreaRight" b="textAreaBottom"/>
            <a:pathLst>
              <a:path w="21600" h="22540">
                <a:moveTo>
                  <a:pt x="0" y="0"/>
                </a:moveTo>
                <a:lnTo>
                  <a:pt x="21600" y="0"/>
                </a:lnTo>
                <a:lnTo>
                  <a:pt x="21600" y="22540"/>
                </a:lnTo>
                <a:lnTo>
                  <a:pt x="0" y="22540"/>
                </a:lnTo>
                <a:close/>
              </a:path>
              <a:path fill="lightenLess" w="21600" h="22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0">
                <a:moveTo>
                  <a:pt x="21600" y="0"/>
                </a:moveTo>
                <a:lnTo>
                  <a:pt x="21600" y="22540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0">
                <a:moveTo>
                  <a:pt x="21600" y="22540"/>
                </a:moveTo>
                <a:lnTo>
                  <a:pt x="0" y="22540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0">
                <a:moveTo>
                  <a:pt x="0" y="22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1143000" y="1822320"/>
            <a:ext cx="2286000" cy="1920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1371600" y="411480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5308560" y="1676520"/>
            <a:ext cx="2082960" cy="2286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57800" y="1676520"/>
            <a:ext cx="2286000" cy="24382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2438280"/>
              <a:gd name="textAreaBottom" fmla="*/ 2290320 h 2438280"/>
            </a:gdLst>
            <a:ahLst/>
            <a:rect l="textAreaLeft" t="textAreaTop" r="textAreaRight" b="textAreaBottom"/>
            <a:pathLst>
              <a:path w="21600" h="23039">
                <a:moveTo>
                  <a:pt x="0" y="0"/>
                </a:moveTo>
                <a:lnTo>
                  <a:pt x="21600" y="0"/>
                </a:lnTo>
                <a:lnTo>
                  <a:pt x="21600" y="23039"/>
                </a:lnTo>
                <a:lnTo>
                  <a:pt x="0" y="23039"/>
                </a:lnTo>
                <a:close/>
              </a:path>
              <a:path fill="lightenLess" w="21600" h="23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9">
                <a:moveTo>
                  <a:pt x="21600" y="0"/>
                </a:moveTo>
                <a:lnTo>
                  <a:pt x="21600" y="23039"/>
                </a:lnTo>
                <a:lnTo>
                  <a:pt x="20200" y="21639"/>
                </a:lnTo>
                <a:lnTo>
                  <a:pt x="20200" y="1400"/>
                </a:lnTo>
                <a:close/>
              </a:path>
              <a:path fill="darkenLess" w="21600" h="23039">
                <a:moveTo>
                  <a:pt x="21600" y="23039"/>
                </a:moveTo>
                <a:lnTo>
                  <a:pt x="0" y="23039"/>
                </a:lnTo>
                <a:lnTo>
                  <a:pt x="1400" y="21639"/>
                </a:lnTo>
                <a:lnTo>
                  <a:pt x="20200" y="21639"/>
                </a:lnTo>
                <a:close/>
              </a:path>
              <a:path fill="lighten" w="21600" h="23039">
                <a:moveTo>
                  <a:pt x="0" y="23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267080"/>
            <a:ext cx="2361960" cy="1860840"/>
          </a:xfrm>
          <a:custGeom>
            <a:avLst/>
            <a:gdLst>
              <a:gd name="textAreaLeft" fmla="*/ 120600 w 2361960"/>
              <a:gd name="textAreaRight" fmla="*/ 2241360 w 2361960"/>
              <a:gd name="textAreaTop" fmla="*/ 120600 h 1860840"/>
              <a:gd name="textAreaBottom" fmla="*/ 1740240 h 1860840"/>
            </a:gdLst>
            <a:ahLst/>
            <a:rect l="textAreaLeft" t="textAreaTop" r="textAreaRight" b="textAreaBottom"/>
            <a:pathLst>
              <a:path w="27416" h="21600">
                <a:moveTo>
                  <a:pt x="0" y="0"/>
                </a:moveTo>
                <a:lnTo>
                  <a:pt x="27416" y="0"/>
                </a:lnTo>
                <a:lnTo>
                  <a:pt x="27416" y="21600"/>
                </a:lnTo>
                <a:lnTo>
                  <a:pt x="0" y="21600"/>
                </a:lnTo>
                <a:close/>
              </a:path>
              <a:path fill="lightenLess" w="27416" h="21600">
                <a:moveTo>
                  <a:pt x="0" y="0"/>
                </a:moveTo>
                <a:lnTo>
                  <a:pt x="27416" y="0"/>
                </a:lnTo>
                <a:lnTo>
                  <a:pt x="26016" y="1400"/>
                </a:lnTo>
                <a:lnTo>
                  <a:pt x="1400" y="1400"/>
                </a:lnTo>
                <a:close/>
              </a:path>
              <a:path fill="darken" w="27416" h="21600">
                <a:moveTo>
                  <a:pt x="27416" y="0"/>
                </a:moveTo>
                <a:lnTo>
                  <a:pt x="27416" y="21600"/>
                </a:lnTo>
                <a:lnTo>
                  <a:pt x="26016" y="20200"/>
                </a:lnTo>
                <a:lnTo>
                  <a:pt x="26016" y="1400"/>
                </a:lnTo>
                <a:close/>
              </a:path>
              <a:path fill="darkenLess" w="27416" h="21600">
                <a:moveTo>
                  <a:pt x="274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16" y="20200"/>
                </a:lnTo>
                <a:close/>
              </a:path>
              <a:path fill="lighten" w="274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5638680" y="434340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6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8080" y="76320"/>
            <a:ext cx="7944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as terminado..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33480" y="3286080"/>
            <a:ext cx="7277040" cy="33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Enhorabuena!</a:t>
            </a:r>
            <a:endParaRPr b="0" lang="en-US" sz="9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5791320"/>
            <a:ext cx="1295280" cy="76176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21" h="21600">
                <a:moveTo>
                  <a:pt x="0" y="0"/>
                </a:moveTo>
                <a:lnTo>
                  <a:pt x="36721" y="0"/>
                </a:lnTo>
                <a:lnTo>
                  <a:pt x="36721" y="21600"/>
                </a:lnTo>
                <a:lnTo>
                  <a:pt x="0" y="21600"/>
                </a:lnTo>
                <a:close/>
              </a:path>
              <a:path fill="lightenLess" w="36721" h="21600">
                <a:moveTo>
                  <a:pt x="0" y="0"/>
                </a:moveTo>
                <a:lnTo>
                  <a:pt x="36721" y="0"/>
                </a:lnTo>
                <a:lnTo>
                  <a:pt x="35321" y="1400"/>
                </a:lnTo>
                <a:lnTo>
                  <a:pt x="1400" y="1400"/>
                </a:lnTo>
                <a:close/>
              </a:path>
              <a:path fill="darken" w="36721" h="21600">
                <a:moveTo>
                  <a:pt x="36721" y="0"/>
                </a:moveTo>
                <a:lnTo>
                  <a:pt x="36721" y="21600"/>
                </a:lnTo>
                <a:lnTo>
                  <a:pt x="35321" y="20200"/>
                </a:lnTo>
                <a:lnTo>
                  <a:pt x="35321" y="1400"/>
                </a:lnTo>
                <a:close/>
              </a:path>
              <a:path fill="darkenLess" w="36721" h="21600">
                <a:moveTo>
                  <a:pt x="3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1" y="20200"/>
                </a:lnTo>
                <a:close/>
              </a:path>
              <a:path fill="lighten" w="3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1" h="21600">
                <a:moveTo>
                  <a:pt x="11354" y="3794"/>
                </a:moveTo>
                <a:lnTo>
                  <a:pt x="25367" y="10800"/>
                </a:lnTo>
                <a:lnTo>
                  <a:pt x="1135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2971080"/>
            <a:ext cx="4419360" cy="1219320"/>
          </a:xfrm>
          <a:custGeom>
            <a:avLst/>
            <a:gdLst>
              <a:gd name="textAreaLeft" fmla="*/ 78840 w 4419360"/>
              <a:gd name="textAreaRight" fmla="*/ 4340520 w 44193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1" h="21600">
                <a:moveTo>
                  <a:pt x="0" y="0"/>
                </a:moveTo>
                <a:lnTo>
                  <a:pt x="78271" y="0"/>
                </a:lnTo>
                <a:lnTo>
                  <a:pt x="78271" y="21600"/>
                </a:lnTo>
                <a:lnTo>
                  <a:pt x="0" y="21600"/>
                </a:lnTo>
                <a:close/>
              </a:path>
              <a:path fill="lightenLess" w="78271" h="21600">
                <a:moveTo>
                  <a:pt x="0" y="0"/>
                </a:moveTo>
                <a:lnTo>
                  <a:pt x="78271" y="0"/>
                </a:lnTo>
                <a:lnTo>
                  <a:pt x="76871" y="1400"/>
                </a:lnTo>
                <a:lnTo>
                  <a:pt x="1400" y="1400"/>
                </a:lnTo>
                <a:close/>
              </a:path>
              <a:path fill="darken" w="78271" h="21600">
                <a:moveTo>
                  <a:pt x="78271" y="0"/>
                </a:moveTo>
                <a:lnTo>
                  <a:pt x="78271" y="21600"/>
                </a:lnTo>
                <a:lnTo>
                  <a:pt x="76871" y="20200"/>
                </a:lnTo>
                <a:lnTo>
                  <a:pt x="76871" y="1400"/>
                </a:lnTo>
                <a:close/>
              </a:path>
              <a:path fill="darkenLess" w="78271" h="21600">
                <a:moveTo>
                  <a:pt x="7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1" y="20200"/>
                </a:lnTo>
                <a:close/>
              </a:path>
              <a:path fill="lighten" w="7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Hace sol</a:t>
            </a:r>
            <a:endParaRPr b="1" lang="en-US" sz="8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47920" y="1757520"/>
            <a:ext cx="2666880" cy="224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91320" y="165744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550880" y="4191120"/>
            <a:ext cx="222264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34120" y="4162320"/>
            <a:ext cx="2666880" cy="22352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1752480" y="1981080"/>
            <a:ext cx="2057400" cy="1905120"/>
          </a:xfrm>
          <a:custGeom>
            <a:avLst/>
            <a:gdLst>
              <a:gd name="textAreaLeft" fmla="*/ 123480 w 2057400"/>
              <a:gd name="textAreaRight" fmla="*/ 1933920 w 205740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23326" h="21600">
                <a:moveTo>
                  <a:pt x="0" y="0"/>
                </a:moveTo>
                <a:lnTo>
                  <a:pt x="23326" y="0"/>
                </a:lnTo>
                <a:lnTo>
                  <a:pt x="23326" y="21600"/>
                </a:lnTo>
                <a:lnTo>
                  <a:pt x="0" y="21600"/>
                </a:lnTo>
                <a:close/>
              </a:path>
              <a:path fill="lightenLess" w="23326" h="21600">
                <a:moveTo>
                  <a:pt x="0" y="0"/>
                </a:moveTo>
                <a:lnTo>
                  <a:pt x="23326" y="0"/>
                </a:lnTo>
                <a:lnTo>
                  <a:pt x="21926" y="1400"/>
                </a:lnTo>
                <a:lnTo>
                  <a:pt x="1400" y="1400"/>
                </a:lnTo>
                <a:close/>
              </a:path>
              <a:path fill="darken" w="23326" h="21600">
                <a:moveTo>
                  <a:pt x="23326" y="0"/>
                </a:moveTo>
                <a:lnTo>
                  <a:pt x="23326" y="21600"/>
                </a:lnTo>
                <a:lnTo>
                  <a:pt x="21926" y="20200"/>
                </a:lnTo>
                <a:lnTo>
                  <a:pt x="21926" y="1400"/>
                </a:lnTo>
                <a:close/>
              </a:path>
              <a:path fill="darkenLess" w="23326" h="21600">
                <a:moveTo>
                  <a:pt x="23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26" y="20200"/>
                </a:lnTo>
                <a:close/>
              </a:path>
              <a:path fill="lighten" w="23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>
            <a:hlinkClick r:id="rId6" action="ppaction://hlinksldjump"/>
          </p:cNvPr>
          <p:cNvSpPr/>
          <p:nvPr/>
        </p:nvSpPr>
        <p:spPr>
          <a:xfrm>
            <a:off x="5867280" y="1752480"/>
            <a:ext cx="2057400" cy="2210040"/>
          </a:xfrm>
          <a:custGeom>
            <a:avLst/>
            <a:gdLst>
              <a:gd name="textAreaLeft" fmla="*/ 133200 w 2057400"/>
              <a:gd name="textAreaRight" fmla="*/ 1924200 w 2057400"/>
              <a:gd name="textAreaTop" fmla="*/ 133200 h 2210040"/>
              <a:gd name="textAreaBottom" fmla="*/ 2076840 h 2210040"/>
            </a:gdLst>
            <a:ahLst/>
            <a:rect l="textAreaLeft" t="textAreaTop" r="textAreaRight" b="textAreaBottom"/>
            <a:pathLst>
              <a:path w="21600" h="23202">
                <a:moveTo>
                  <a:pt x="0" y="0"/>
                </a:moveTo>
                <a:lnTo>
                  <a:pt x="21600" y="0"/>
                </a:lnTo>
                <a:lnTo>
                  <a:pt x="21600" y="23202"/>
                </a:lnTo>
                <a:lnTo>
                  <a:pt x="0" y="23202"/>
                </a:lnTo>
                <a:close/>
              </a:path>
              <a:path fill="lightenLess" w="21600" h="232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2">
                <a:moveTo>
                  <a:pt x="21600" y="0"/>
                </a:moveTo>
                <a:lnTo>
                  <a:pt x="21600" y="23202"/>
                </a:lnTo>
                <a:lnTo>
                  <a:pt x="20200" y="21802"/>
                </a:lnTo>
                <a:lnTo>
                  <a:pt x="20200" y="1400"/>
                </a:lnTo>
                <a:close/>
              </a:path>
              <a:path fill="darkenLess" w="21600" h="23202">
                <a:moveTo>
                  <a:pt x="21600" y="23202"/>
                </a:moveTo>
                <a:lnTo>
                  <a:pt x="0" y="23202"/>
                </a:lnTo>
                <a:lnTo>
                  <a:pt x="1400" y="21802"/>
                </a:lnTo>
                <a:lnTo>
                  <a:pt x="20200" y="21802"/>
                </a:lnTo>
                <a:close/>
              </a:path>
              <a:path fill="lighten" w="21600" h="23202">
                <a:moveTo>
                  <a:pt x="0" y="232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>
            <a:hlinkClick r:id="rId7" action="ppaction://hlinksldjump"/>
          </p:cNvPr>
          <p:cNvSpPr/>
          <p:nvPr/>
        </p:nvSpPr>
        <p:spPr>
          <a:xfrm>
            <a:off x="1905120" y="4572000"/>
            <a:ext cx="1676160" cy="1676520"/>
          </a:xfrm>
          <a:custGeom>
            <a:avLst/>
            <a:gdLst>
              <a:gd name="textAreaLeft" fmla="*/ 108360 w 1676160"/>
              <a:gd name="textAreaRight" fmla="*/ 1567800 w 16761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867280" y="4648320"/>
            <a:ext cx="1828800" cy="1523880"/>
          </a:xfrm>
          <a:custGeom>
            <a:avLst/>
            <a:gdLst>
              <a:gd name="textAreaLeft" fmla="*/ 98640 w 1828800"/>
              <a:gd name="textAreaRight" fmla="*/ 1730160 w 18288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1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1" y="20200"/>
                </a:lnTo>
                <a:lnTo>
                  <a:pt x="24521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1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1" h="21600">
                <a:moveTo>
                  <a:pt x="5954" y="3794"/>
                </a:moveTo>
                <a:lnTo>
                  <a:pt x="19967" y="10800"/>
                </a:lnTo>
                <a:lnTo>
                  <a:pt x="595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1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El Tiempo (repaso)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1249560" cy="1371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419720" y="1447920"/>
            <a:ext cx="1676160" cy="1404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28600" y="4648320"/>
            <a:ext cx="1457280" cy="1523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228600" y="2971800"/>
            <a:ext cx="1363680" cy="1600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Hace so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48769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Hace buen tiemp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8769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Está nevand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3429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Está lloviend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16765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Hace mal tiemp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397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Hace viento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295280" cy="76176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21" h="21600">
                <a:moveTo>
                  <a:pt x="0" y="0"/>
                </a:moveTo>
                <a:lnTo>
                  <a:pt x="36721" y="0"/>
                </a:lnTo>
                <a:lnTo>
                  <a:pt x="36721" y="21600"/>
                </a:lnTo>
                <a:lnTo>
                  <a:pt x="0" y="21600"/>
                </a:lnTo>
                <a:close/>
              </a:path>
              <a:path fill="lightenLess" w="36721" h="21600">
                <a:moveTo>
                  <a:pt x="0" y="0"/>
                </a:moveTo>
                <a:lnTo>
                  <a:pt x="36721" y="0"/>
                </a:lnTo>
                <a:lnTo>
                  <a:pt x="35321" y="1400"/>
                </a:lnTo>
                <a:lnTo>
                  <a:pt x="1400" y="1400"/>
                </a:lnTo>
                <a:close/>
              </a:path>
              <a:path fill="darken" w="36721" h="21600">
                <a:moveTo>
                  <a:pt x="36721" y="0"/>
                </a:moveTo>
                <a:lnTo>
                  <a:pt x="36721" y="21600"/>
                </a:lnTo>
                <a:lnTo>
                  <a:pt x="35321" y="20200"/>
                </a:lnTo>
                <a:lnTo>
                  <a:pt x="35321" y="1400"/>
                </a:lnTo>
                <a:close/>
              </a:path>
              <a:path fill="darkenLess" w="36721" h="21600">
                <a:moveTo>
                  <a:pt x="3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1" y="20200"/>
                </a:lnTo>
                <a:close/>
              </a:path>
              <a:path fill="lighten" w="3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1" h="21600">
                <a:moveTo>
                  <a:pt x="11354" y="3794"/>
                </a:moveTo>
                <a:lnTo>
                  <a:pt x="25367" y="10800"/>
                </a:lnTo>
                <a:lnTo>
                  <a:pt x="11354" y="1780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El Tiemp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914400" cy="863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7924680" y="0"/>
            <a:ext cx="831960" cy="914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20680" cy="939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6934320" y="279360"/>
            <a:ext cx="971280" cy="101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5410080" y="228600"/>
            <a:ext cx="908280" cy="1066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8600" y="1332000"/>
            <a:ext cx="86868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Now it’s your turn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66"/>
                </a:solidFill>
                <a:uFillTx/>
                <a:latin typeface="Arial"/>
              </a:rPr>
              <a:t>Click here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 to find today’s weather in Europe. Use the information in the images to complete the phrases below 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e.g. En Roma hace so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1. En Madrid …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2. En Londres…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3. En Oslo…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4.  Make two more sentences of your own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2133720"/>
            <a:ext cx="1524240" cy="228600"/>
          </a:xfrm>
          <a:custGeom>
            <a:avLst/>
            <a:gdLst>
              <a:gd name="textAreaLeft" fmla="*/ 14760 w 1524240"/>
              <a:gd name="textAreaRight" fmla="*/ 1509480 w 1524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43830" h="21600">
                <a:moveTo>
                  <a:pt x="0" y="0"/>
                </a:moveTo>
                <a:lnTo>
                  <a:pt x="143830" y="0"/>
                </a:lnTo>
                <a:lnTo>
                  <a:pt x="143830" y="21600"/>
                </a:lnTo>
                <a:lnTo>
                  <a:pt x="0" y="21600"/>
                </a:lnTo>
                <a:close/>
              </a:path>
              <a:path fill="lightenLess" w="143830" h="21600">
                <a:moveTo>
                  <a:pt x="0" y="0"/>
                </a:moveTo>
                <a:lnTo>
                  <a:pt x="143830" y="0"/>
                </a:lnTo>
                <a:lnTo>
                  <a:pt x="142430" y="1400"/>
                </a:lnTo>
                <a:lnTo>
                  <a:pt x="1400" y="1400"/>
                </a:lnTo>
                <a:close/>
              </a:path>
              <a:path fill="darken" w="143830" h="21600">
                <a:moveTo>
                  <a:pt x="143830" y="0"/>
                </a:moveTo>
                <a:lnTo>
                  <a:pt x="143830" y="21600"/>
                </a:lnTo>
                <a:lnTo>
                  <a:pt x="142430" y="20200"/>
                </a:lnTo>
                <a:lnTo>
                  <a:pt x="142430" y="1400"/>
                </a:lnTo>
                <a:close/>
              </a:path>
              <a:path fill="darkenLess" w="143830" h="21600">
                <a:moveTo>
                  <a:pt x="143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30" y="20200"/>
                </a:lnTo>
                <a:close/>
              </a:path>
              <a:path fill="lighten" w="143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 flipV="1">
            <a:off x="4191120" y="3656880"/>
            <a:ext cx="4419360" cy="1219320"/>
          </a:xfrm>
          <a:custGeom>
            <a:avLst/>
            <a:gdLst>
              <a:gd name="textAreaLeft" fmla="*/ 78840 w 4419360"/>
              <a:gd name="textAreaRight" fmla="*/ 4340520 w 44193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1" h="21600">
                <a:moveTo>
                  <a:pt x="0" y="0"/>
                </a:moveTo>
                <a:lnTo>
                  <a:pt x="78271" y="0"/>
                </a:lnTo>
                <a:lnTo>
                  <a:pt x="78271" y="21600"/>
                </a:lnTo>
                <a:lnTo>
                  <a:pt x="0" y="21600"/>
                </a:lnTo>
                <a:close/>
              </a:path>
              <a:path fill="lightenLess" w="78271" h="21600">
                <a:moveTo>
                  <a:pt x="0" y="0"/>
                </a:moveTo>
                <a:lnTo>
                  <a:pt x="78271" y="0"/>
                </a:lnTo>
                <a:lnTo>
                  <a:pt x="76871" y="1400"/>
                </a:lnTo>
                <a:lnTo>
                  <a:pt x="1400" y="1400"/>
                </a:lnTo>
                <a:close/>
              </a:path>
              <a:path fill="darken" w="78271" h="21600">
                <a:moveTo>
                  <a:pt x="78271" y="0"/>
                </a:moveTo>
                <a:lnTo>
                  <a:pt x="78271" y="21600"/>
                </a:lnTo>
                <a:lnTo>
                  <a:pt x="76871" y="20200"/>
                </a:lnTo>
                <a:lnTo>
                  <a:pt x="76871" y="1400"/>
                </a:lnTo>
                <a:close/>
              </a:path>
              <a:path fill="darkenLess" w="78271" h="21600">
                <a:moveTo>
                  <a:pt x="7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1" y="20200"/>
                </a:lnTo>
                <a:close/>
              </a:path>
              <a:path fill="lighten" w="7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352680" y="4800600"/>
            <a:ext cx="4572000" cy="121932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80974" h="21600">
                <a:moveTo>
                  <a:pt x="0" y="0"/>
                </a:moveTo>
                <a:lnTo>
                  <a:pt x="80974" y="0"/>
                </a:lnTo>
                <a:lnTo>
                  <a:pt x="80974" y="21600"/>
                </a:lnTo>
                <a:lnTo>
                  <a:pt x="0" y="21600"/>
                </a:lnTo>
                <a:close/>
              </a:path>
              <a:path fill="lightenLess" w="80974" h="21600">
                <a:moveTo>
                  <a:pt x="0" y="0"/>
                </a:moveTo>
                <a:lnTo>
                  <a:pt x="80974" y="0"/>
                </a:lnTo>
                <a:lnTo>
                  <a:pt x="79575" y="1400"/>
                </a:lnTo>
                <a:lnTo>
                  <a:pt x="1400" y="1400"/>
                </a:lnTo>
                <a:close/>
              </a:path>
              <a:path fill="darken" w="80974" h="21600">
                <a:moveTo>
                  <a:pt x="80974" y="0"/>
                </a:moveTo>
                <a:lnTo>
                  <a:pt x="80974" y="21600"/>
                </a:lnTo>
                <a:lnTo>
                  <a:pt x="79575" y="20200"/>
                </a:lnTo>
                <a:lnTo>
                  <a:pt x="79575" y="1400"/>
                </a:lnTo>
                <a:close/>
              </a:path>
              <a:path fill="darkenLess" w="80974" h="21600">
                <a:moveTo>
                  <a:pt x="80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75" y="20200"/>
                </a:lnTo>
                <a:close/>
              </a:path>
              <a:path fill="lighten" w="80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410080"/>
            <a:ext cx="2133720" cy="457200"/>
          </a:xfrm>
          <a:prstGeom prst="rightArrow">
            <a:avLst>
              <a:gd name="adj1" fmla="val 50000"/>
              <a:gd name="adj2" fmla="val 116673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Hace vient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173340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68440" y="167652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638680" y="4343400"/>
            <a:ext cx="2286000" cy="191448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6211800" y="1676520"/>
            <a:ext cx="1865520" cy="1981080"/>
          </a:xfrm>
          <a:custGeom>
            <a:avLst/>
            <a:gdLst>
              <a:gd name="textAreaLeft" fmla="*/ 120600 w 1865520"/>
              <a:gd name="textAreaRight" fmla="*/ 1744920 w 1865520"/>
              <a:gd name="textAreaTop" fmla="*/ 120600 h 1981080"/>
              <a:gd name="textAreaBottom" fmla="*/ 1860480 h 198108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>
            <a:hlinkClick r:id="rId5" action="ppaction://hlinksldjump"/>
          </p:cNvPr>
          <p:cNvSpPr/>
          <p:nvPr/>
        </p:nvSpPr>
        <p:spPr>
          <a:xfrm>
            <a:off x="1828800" y="1905120"/>
            <a:ext cx="1371600" cy="190476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904760"/>
              <a:gd name="textAreaBottom" fmla="*/ 1816200 h 1904760"/>
            </a:gdLst>
            <a:ahLst/>
            <a:rect l="textAreaLeft" t="textAreaTop" r="textAreaRight" b="textAreaBottom"/>
            <a:pathLst>
              <a:path w="21600" h="29994">
                <a:moveTo>
                  <a:pt x="0" y="0"/>
                </a:moveTo>
                <a:lnTo>
                  <a:pt x="21600" y="0"/>
                </a:lnTo>
                <a:lnTo>
                  <a:pt x="21600" y="29994"/>
                </a:lnTo>
                <a:lnTo>
                  <a:pt x="0" y="29994"/>
                </a:lnTo>
                <a:close/>
              </a:path>
              <a:path fill="lightenLess" w="21600" h="29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94">
                <a:moveTo>
                  <a:pt x="21600" y="0"/>
                </a:moveTo>
                <a:lnTo>
                  <a:pt x="21600" y="29994"/>
                </a:lnTo>
                <a:lnTo>
                  <a:pt x="20200" y="28594"/>
                </a:lnTo>
                <a:lnTo>
                  <a:pt x="20200" y="1400"/>
                </a:lnTo>
                <a:close/>
              </a:path>
              <a:path fill="darkenLess" w="21600" h="29994">
                <a:moveTo>
                  <a:pt x="21600" y="29994"/>
                </a:moveTo>
                <a:lnTo>
                  <a:pt x="0" y="29994"/>
                </a:lnTo>
                <a:lnTo>
                  <a:pt x="1400" y="28594"/>
                </a:lnTo>
                <a:lnTo>
                  <a:pt x="20200" y="28594"/>
                </a:lnTo>
                <a:close/>
              </a:path>
              <a:path fill="lighten" w="21600" h="29994">
                <a:moveTo>
                  <a:pt x="0" y="29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5867280" y="4495680"/>
            <a:ext cx="1828800" cy="18288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695600" y="4419720"/>
            <a:ext cx="1753920" cy="205740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8" action="ppaction://hlinksldjump"/>
          </p:cNvPr>
          <p:cNvSpPr/>
          <p:nvPr/>
        </p:nvSpPr>
        <p:spPr>
          <a:xfrm>
            <a:off x="1676520" y="4486320"/>
            <a:ext cx="2057400" cy="1838160"/>
          </a:xfrm>
          <a:custGeom>
            <a:avLst/>
            <a:gdLst>
              <a:gd name="textAreaLeft" fmla="*/ 118800 w 2057400"/>
              <a:gd name="textAreaRight" fmla="*/ 1938600 w 2057400"/>
              <a:gd name="textAreaTop" fmla="*/ 118800 h 1838160"/>
              <a:gd name="textAreaBottom" fmla="*/ 1719360 h 1838160"/>
            </a:gdLst>
            <a:ahLst/>
            <a:rect l="textAreaLeft" t="textAreaTop" r="textAreaRight" b="textAreaBottom"/>
            <a:pathLst>
              <a:path w="24176" h="21600">
                <a:moveTo>
                  <a:pt x="0" y="0"/>
                </a:moveTo>
                <a:lnTo>
                  <a:pt x="24176" y="0"/>
                </a:lnTo>
                <a:lnTo>
                  <a:pt x="24176" y="21600"/>
                </a:lnTo>
                <a:lnTo>
                  <a:pt x="0" y="21600"/>
                </a:lnTo>
                <a:close/>
              </a:path>
              <a:path fill="lightenLess" w="24176" h="21600">
                <a:moveTo>
                  <a:pt x="0" y="0"/>
                </a:moveTo>
                <a:lnTo>
                  <a:pt x="24176" y="0"/>
                </a:lnTo>
                <a:lnTo>
                  <a:pt x="22776" y="1400"/>
                </a:lnTo>
                <a:lnTo>
                  <a:pt x="1400" y="1400"/>
                </a:lnTo>
                <a:close/>
              </a:path>
              <a:path fill="darken" w="24176" h="21600">
                <a:moveTo>
                  <a:pt x="24176" y="0"/>
                </a:moveTo>
                <a:lnTo>
                  <a:pt x="24176" y="21600"/>
                </a:lnTo>
                <a:lnTo>
                  <a:pt x="22776" y="20200"/>
                </a:lnTo>
                <a:lnTo>
                  <a:pt x="22776" y="1400"/>
                </a:lnTo>
                <a:close/>
              </a:path>
              <a:path fill="darkenLess" w="24176" h="21600">
                <a:moveTo>
                  <a:pt x="2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6" y="20200"/>
                </a:lnTo>
                <a:close/>
              </a:path>
              <a:path fill="lighten" w="2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1276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2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3352680" y="4648320"/>
            <a:ext cx="4572000" cy="121896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80998" h="21600">
                <a:moveTo>
                  <a:pt x="0" y="0"/>
                </a:moveTo>
                <a:lnTo>
                  <a:pt x="80998" y="0"/>
                </a:lnTo>
                <a:lnTo>
                  <a:pt x="80998" y="21600"/>
                </a:lnTo>
                <a:lnTo>
                  <a:pt x="0" y="21600"/>
                </a:lnTo>
                <a:close/>
              </a:path>
              <a:path fill="lightenLess" w="80998" h="21600">
                <a:moveTo>
                  <a:pt x="0" y="0"/>
                </a:moveTo>
                <a:lnTo>
                  <a:pt x="80998" y="0"/>
                </a:lnTo>
                <a:lnTo>
                  <a:pt x="79598" y="1400"/>
                </a:lnTo>
                <a:lnTo>
                  <a:pt x="1400" y="1400"/>
                </a:lnTo>
                <a:close/>
              </a:path>
              <a:path fill="darken" w="80998" h="21600">
                <a:moveTo>
                  <a:pt x="80998" y="0"/>
                </a:moveTo>
                <a:lnTo>
                  <a:pt x="80998" y="21600"/>
                </a:lnTo>
                <a:lnTo>
                  <a:pt x="79598" y="20200"/>
                </a:lnTo>
                <a:lnTo>
                  <a:pt x="79598" y="1400"/>
                </a:lnTo>
                <a:close/>
              </a:path>
              <a:path fill="darkenLess" w="80998" h="21600">
                <a:moveTo>
                  <a:pt x="80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8" y="20200"/>
                </a:lnTo>
                <a:close/>
              </a:path>
              <a:path fill="lighten" w="80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48640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724280" y="35053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 flipV="1">
            <a:off x="4191120" y="3809880"/>
            <a:ext cx="4419360" cy="1067040"/>
          </a:xfrm>
          <a:custGeom>
            <a:avLst/>
            <a:gdLst>
              <a:gd name="textAreaLeft" fmla="*/ 69120 w 4419360"/>
              <a:gd name="textAreaRight" fmla="*/ 4350240 w 44193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38" h="21600">
                <a:moveTo>
                  <a:pt x="0" y="0"/>
                </a:moveTo>
                <a:lnTo>
                  <a:pt x="89438" y="0"/>
                </a:lnTo>
                <a:lnTo>
                  <a:pt x="89438" y="21600"/>
                </a:lnTo>
                <a:lnTo>
                  <a:pt x="0" y="21600"/>
                </a:lnTo>
                <a:close/>
              </a:path>
              <a:path fill="lightenLess" w="89438" h="21600">
                <a:moveTo>
                  <a:pt x="0" y="0"/>
                </a:moveTo>
                <a:lnTo>
                  <a:pt x="89438" y="0"/>
                </a:lnTo>
                <a:lnTo>
                  <a:pt x="88038" y="1400"/>
                </a:lnTo>
                <a:lnTo>
                  <a:pt x="1400" y="1400"/>
                </a:lnTo>
                <a:close/>
              </a:path>
              <a:path fill="darken" w="89438" h="21600">
                <a:moveTo>
                  <a:pt x="89438" y="0"/>
                </a:moveTo>
                <a:lnTo>
                  <a:pt x="89438" y="21600"/>
                </a:lnTo>
                <a:lnTo>
                  <a:pt x="88038" y="20200"/>
                </a:lnTo>
                <a:lnTo>
                  <a:pt x="88038" y="1400"/>
                </a:lnTo>
                <a:close/>
              </a:path>
              <a:path fill="darkenLess" w="89438" h="21600">
                <a:moveTo>
                  <a:pt x="8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38" y="20200"/>
                </a:lnTo>
                <a:close/>
              </a:path>
              <a:path fill="lighten" w="8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1371600"/>
            <a:ext cx="4411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Fallo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2670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2571480" cy="172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Arial Narrow"/>
              </a:rPr>
              <a:t>Hace buen tiempo</a:t>
            </a:r>
            <a:endParaRPr b="1" lang="en-US" sz="72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2057400" cy="172260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84872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12598" y="3837"/>
                </a:moveTo>
                <a:lnTo>
                  <a:pt x="15174" y="6448"/>
                </a:ln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lnTo>
                  <a:pt x="19561" y="10800"/>
                </a:lnTo>
                <a:lnTo>
                  <a:pt x="17907" y="10800"/>
                </a:lnTo>
                <a:lnTo>
                  <a:pt x="17907" y="17989"/>
                </a:lnTo>
                <a:lnTo>
                  <a:pt x="7289" y="17989"/>
                </a:lnTo>
                <a:lnTo>
                  <a:pt x="7289" y="10800"/>
                </a:lnTo>
                <a:lnTo>
                  <a:pt x="5635" y="10800"/>
                </a:lnTo>
                <a:close/>
              </a:path>
              <a:path fill="darkenLess" w="25196" h="21600">
                <a:moveTo>
                  <a:pt x="15174" y="6448"/>
                </a:moveTo>
                <a:lnTo>
                  <a:pt x="15174" y="4707"/>
                </a:lnTo>
                <a:lnTo>
                  <a:pt x="16950" y="4707"/>
                </a:lnTo>
                <a:lnTo>
                  <a:pt x="16950" y="8224"/>
                </a:lnTo>
                <a:close/>
              </a:path>
              <a:path fill="darkenLess" w="25196" h="21600">
                <a:moveTo>
                  <a:pt x="11675" y="14299"/>
                </a:moveTo>
                <a:lnTo>
                  <a:pt x="13520" y="14299"/>
                </a:lnTo>
                <a:lnTo>
                  <a:pt x="13520" y="17989"/>
                </a:lnTo>
                <a:lnTo>
                  <a:pt x="17907" y="17989"/>
                </a:lnTo>
                <a:lnTo>
                  <a:pt x="17907" y="10800"/>
                </a:lnTo>
                <a:lnTo>
                  <a:pt x="7289" y="10800"/>
                </a:lnTo>
                <a:lnTo>
                  <a:pt x="7289" y="17989"/>
                </a:lnTo>
                <a:lnTo>
                  <a:pt x="11675" y="17989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2057400" y="1676520"/>
            <a:ext cx="1676520" cy="167616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676160"/>
              <a:gd name="textAreaBottom" fmla="*/ 1567800 h 16761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981080" y="4267080"/>
            <a:ext cx="1544760" cy="18115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5715000" y="4572000"/>
            <a:ext cx="1600200" cy="1523880"/>
          </a:xfrm>
          <a:custGeom>
            <a:avLst/>
            <a:gdLst>
              <a:gd name="textAreaLeft" fmla="*/ 98640 w 1600200"/>
              <a:gd name="textAreaRight" fmla="*/ 1501560 w 16002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2682" h="21600">
                <a:moveTo>
                  <a:pt x="0" y="0"/>
                </a:moveTo>
                <a:lnTo>
                  <a:pt x="22682" y="0"/>
                </a:lnTo>
                <a:lnTo>
                  <a:pt x="22682" y="21600"/>
                </a:lnTo>
                <a:lnTo>
                  <a:pt x="0" y="21600"/>
                </a:lnTo>
                <a:close/>
              </a:path>
              <a:path fill="lightenLess" w="22682" h="21600">
                <a:moveTo>
                  <a:pt x="0" y="0"/>
                </a:moveTo>
                <a:lnTo>
                  <a:pt x="22682" y="0"/>
                </a:lnTo>
                <a:lnTo>
                  <a:pt x="21282" y="1400"/>
                </a:lnTo>
                <a:lnTo>
                  <a:pt x="1400" y="1400"/>
                </a:lnTo>
                <a:close/>
              </a:path>
              <a:path fill="darken" w="22682" h="21600">
                <a:moveTo>
                  <a:pt x="22682" y="0"/>
                </a:moveTo>
                <a:lnTo>
                  <a:pt x="22682" y="21600"/>
                </a:lnTo>
                <a:lnTo>
                  <a:pt x="21282" y="20200"/>
                </a:lnTo>
                <a:lnTo>
                  <a:pt x="21282" y="1400"/>
                </a:lnTo>
                <a:close/>
              </a:path>
              <a:path fill="darkenLess" w="22682" h="21600">
                <a:moveTo>
                  <a:pt x="22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2" y="20200"/>
                </a:lnTo>
                <a:close/>
              </a:path>
              <a:path fill="lighten" w="22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638680" y="4267080"/>
            <a:ext cx="1692360" cy="17701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7" action="ppaction://hlinksldjump"/>
          </p:cNvPr>
          <p:cNvSpPr/>
          <p:nvPr/>
        </p:nvSpPr>
        <p:spPr>
          <a:xfrm>
            <a:off x="2209680" y="4343400"/>
            <a:ext cx="1143000" cy="16765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676520"/>
              <a:gd name="textAreaBottom" fmla="*/ 1602720 h 1676520"/>
            </a:gdLst>
            <a:ahLst/>
            <a:rect l="textAreaLeft" t="textAreaTop" r="textAreaRight" b="textAreaBottom"/>
            <a:pathLst>
              <a:path w="21600" h="31679">
                <a:moveTo>
                  <a:pt x="0" y="0"/>
                </a:moveTo>
                <a:lnTo>
                  <a:pt x="21600" y="0"/>
                </a:lnTo>
                <a:lnTo>
                  <a:pt x="21600" y="31679"/>
                </a:lnTo>
                <a:lnTo>
                  <a:pt x="0" y="31679"/>
                </a:lnTo>
                <a:close/>
              </a:path>
              <a:path fill="lightenLess" w="21600" h="31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79">
                <a:moveTo>
                  <a:pt x="21600" y="0"/>
                </a:moveTo>
                <a:lnTo>
                  <a:pt x="21600" y="31679"/>
                </a:lnTo>
                <a:lnTo>
                  <a:pt x="20200" y="30279"/>
                </a:lnTo>
                <a:lnTo>
                  <a:pt x="20200" y="1400"/>
                </a:lnTo>
                <a:close/>
              </a:path>
              <a:path fill="darkenLess" w="21600" h="31679">
                <a:moveTo>
                  <a:pt x="21600" y="31679"/>
                </a:moveTo>
                <a:lnTo>
                  <a:pt x="0" y="31679"/>
                </a:lnTo>
                <a:lnTo>
                  <a:pt x="1400" y="30279"/>
                </a:lnTo>
                <a:lnTo>
                  <a:pt x="20200" y="30279"/>
                </a:lnTo>
                <a:close/>
              </a:path>
              <a:path fill="lighten" w="21600" h="31679">
                <a:moveTo>
                  <a:pt x="0" y="31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>
            <a:hlinkClick r:id="rId8" action="ppaction://hlinksldjump"/>
          </p:cNvPr>
          <p:cNvSpPr/>
          <p:nvPr/>
        </p:nvSpPr>
        <p:spPr>
          <a:xfrm>
            <a:off x="5486400" y="4343400"/>
            <a:ext cx="1905120" cy="1828800"/>
          </a:xfrm>
          <a:custGeom>
            <a:avLst/>
            <a:gdLst>
              <a:gd name="textAreaLeft" fmla="*/ 118440 w 1905120"/>
              <a:gd name="textAreaRight" fmla="*/ 1786680 w 19051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2501" h="21600">
                <a:moveTo>
                  <a:pt x="0" y="0"/>
                </a:moveTo>
                <a:lnTo>
                  <a:pt x="22501" y="0"/>
                </a:lnTo>
                <a:lnTo>
                  <a:pt x="22501" y="21600"/>
                </a:lnTo>
                <a:lnTo>
                  <a:pt x="0" y="21600"/>
                </a:lnTo>
                <a:close/>
              </a:path>
              <a:path fill="lightenLess" w="22501" h="21600">
                <a:moveTo>
                  <a:pt x="0" y="0"/>
                </a:moveTo>
                <a:lnTo>
                  <a:pt x="22501" y="0"/>
                </a:lnTo>
                <a:lnTo>
                  <a:pt x="21101" y="1400"/>
                </a:lnTo>
                <a:lnTo>
                  <a:pt x="1400" y="1400"/>
                </a:lnTo>
                <a:close/>
              </a:path>
              <a:path fill="darken" w="22501" h="21600">
                <a:moveTo>
                  <a:pt x="22501" y="0"/>
                </a:moveTo>
                <a:lnTo>
                  <a:pt x="22501" y="21600"/>
                </a:lnTo>
                <a:lnTo>
                  <a:pt x="21101" y="20200"/>
                </a:lnTo>
                <a:lnTo>
                  <a:pt x="21101" y="1400"/>
                </a:lnTo>
                <a:close/>
              </a:path>
              <a:path fill="darkenLess" w="22501" h="21600">
                <a:moveTo>
                  <a:pt x="2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1" y="20200"/>
                </a:lnTo>
                <a:close/>
              </a:path>
              <a:path fill="lighten" w="2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>
            <a:hlinkClick r:id="rId9" action="ppaction://hlinksldjump"/>
          </p:cNvPr>
          <p:cNvSpPr/>
          <p:nvPr/>
        </p:nvSpPr>
        <p:spPr>
          <a:xfrm>
            <a:off x="5791320" y="1905120"/>
            <a:ext cx="1752480" cy="182880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828800"/>
              <a:gd name="textAreaBottom" fmla="*/ 1715400 h 1828800"/>
            </a:gdLst>
            <a:ahLst/>
            <a:rect l="textAreaLeft" t="textAreaTop" r="textAreaRight" b="textAreaBottom"/>
            <a:pathLst>
              <a:path w="21600" h="22540">
                <a:moveTo>
                  <a:pt x="0" y="0"/>
                </a:moveTo>
                <a:lnTo>
                  <a:pt x="21600" y="0"/>
                </a:lnTo>
                <a:lnTo>
                  <a:pt x="21600" y="22540"/>
                </a:lnTo>
                <a:lnTo>
                  <a:pt x="0" y="22540"/>
                </a:lnTo>
                <a:close/>
              </a:path>
              <a:path fill="lightenLess" w="21600" h="22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0">
                <a:moveTo>
                  <a:pt x="21600" y="0"/>
                </a:moveTo>
                <a:lnTo>
                  <a:pt x="21600" y="22540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0">
                <a:moveTo>
                  <a:pt x="21600" y="22540"/>
                </a:moveTo>
                <a:lnTo>
                  <a:pt x="0" y="22540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0">
                <a:moveTo>
                  <a:pt x="0" y="22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286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Narrow"/>
              </a:rPr>
              <a:t>3</a:t>
            </a:r>
            <a:endParaRPr b="0" lang="en-US" sz="8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2362320" y="4419720"/>
            <a:ext cx="5867280" cy="380880"/>
          </a:xfrm>
          <a:custGeom>
            <a:avLst/>
            <a:gdLst>
              <a:gd name="textAreaLeft" fmla="*/ 24480 w 5867280"/>
              <a:gd name="textAreaRight" fmla="*/ 5842800 w 5867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32444" h="21600">
                <a:moveTo>
                  <a:pt x="0" y="0"/>
                </a:moveTo>
                <a:lnTo>
                  <a:pt x="332444" y="0"/>
                </a:lnTo>
                <a:lnTo>
                  <a:pt x="332444" y="21600"/>
                </a:lnTo>
                <a:lnTo>
                  <a:pt x="0" y="21600"/>
                </a:lnTo>
                <a:close/>
              </a:path>
              <a:path fill="lightenLess" w="332444" h="21600">
                <a:moveTo>
                  <a:pt x="0" y="0"/>
                </a:moveTo>
                <a:lnTo>
                  <a:pt x="332444" y="0"/>
                </a:lnTo>
                <a:lnTo>
                  <a:pt x="331044" y="1400"/>
                </a:lnTo>
                <a:lnTo>
                  <a:pt x="1400" y="1400"/>
                </a:lnTo>
                <a:close/>
              </a:path>
              <a:path fill="darken" w="332444" h="21600">
                <a:moveTo>
                  <a:pt x="332444" y="0"/>
                </a:moveTo>
                <a:lnTo>
                  <a:pt x="332444" y="21600"/>
                </a:lnTo>
                <a:lnTo>
                  <a:pt x="331044" y="20200"/>
                </a:lnTo>
                <a:lnTo>
                  <a:pt x="331044" y="1400"/>
                </a:lnTo>
                <a:close/>
              </a:path>
              <a:path fill="darkenLess" w="332444" h="21600">
                <a:moveTo>
                  <a:pt x="332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44" y="20200"/>
                </a:lnTo>
                <a:close/>
              </a:path>
              <a:path fill="lighten" w="332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2209680"/>
            <a:ext cx="794412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¡Correcto!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352680" y="4648320"/>
            <a:ext cx="4572000" cy="1218960"/>
          </a:xfrm>
          <a:custGeom>
            <a:avLst/>
            <a:gdLst>
              <a:gd name="textAreaLeft" fmla="*/ 78840 w 4572000"/>
              <a:gd name="textAreaRight" fmla="*/ 4493160 w 4572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80998" h="21600">
                <a:moveTo>
                  <a:pt x="0" y="0"/>
                </a:moveTo>
                <a:lnTo>
                  <a:pt x="80998" y="0"/>
                </a:lnTo>
                <a:lnTo>
                  <a:pt x="80998" y="21600"/>
                </a:lnTo>
                <a:lnTo>
                  <a:pt x="0" y="21600"/>
                </a:lnTo>
                <a:close/>
              </a:path>
              <a:path fill="lightenLess" w="80998" h="21600">
                <a:moveTo>
                  <a:pt x="0" y="0"/>
                </a:moveTo>
                <a:lnTo>
                  <a:pt x="80998" y="0"/>
                </a:lnTo>
                <a:lnTo>
                  <a:pt x="79598" y="1400"/>
                </a:lnTo>
                <a:lnTo>
                  <a:pt x="1400" y="1400"/>
                </a:lnTo>
                <a:close/>
              </a:path>
              <a:path fill="darken" w="80998" h="21600">
                <a:moveTo>
                  <a:pt x="80998" y="0"/>
                </a:moveTo>
                <a:lnTo>
                  <a:pt x="80998" y="21600"/>
                </a:lnTo>
                <a:lnTo>
                  <a:pt x="79598" y="20200"/>
                </a:lnTo>
                <a:lnTo>
                  <a:pt x="79598" y="1400"/>
                </a:lnTo>
                <a:close/>
              </a:path>
              <a:path fill="darkenLess" w="80998" h="21600">
                <a:moveTo>
                  <a:pt x="80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8" y="20200"/>
                </a:lnTo>
                <a:close/>
              </a:path>
              <a:path fill="lighten" w="80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9560" y="47545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 Narrow"/>
              </a:rPr>
              <a:t>Haz el clic aquí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48640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2:56:37Z</dcterms:created>
  <dc:creator>chahals</dc:creator>
  <dc:description/>
  <dc:language>en-US</dc:language>
  <cp:lastModifiedBy>Nicholas Weightman</cp:lastModifiedBy>
  <dcterms:modified xsi:type="dcterms:W3CDTF">2002-02-08T14:21:11Z</dcterms:modified>
  <cp:revision>14</cp:revision>
  <dc:subject/>
  <dc:title>El Tiempo</dc:title>
</cp:coreProperties>
</file>