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B5A-5E78-4D85-B1BA-A94D71BE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B05-7A95-40B2-BDB1-06618801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E4E-B03E-4D60-B10A-53571830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671-A0DB-44CF-801C-C7518A75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E2A-7634-4EF8-A327-5494348A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E83-11CF-492D-9684-6758B386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907-191F-43C8-8DD2-41F7F3FC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AB4-4E0C-40A0-B636-8A67F838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3C4-5AB4-4BE5-8C77-88F141E9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E29-6A1C-48D7-999A-249BFDCB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775-702C-4C02-BF14-61D681BC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09D-DC20-4C6C-A4AE-6515D849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7A35-C22B-41C5-851D-43351704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792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here is Spanish spoken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64911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[Map of North America]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[Map of Central America]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Caribbean Physical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[Map of South America]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0795" r="50391" b="12481"/>
          <a:stretch/>
        </p:blipFill>
        <p:spPr>
          <a:xfrm>
            <a:off x="468360" y="0"/>
            <a:ext cx="817236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9024" t="20795" r="1665" b="12481"/>
          <a:stretch/>
        </p:blipFill>
        <p:spPr>
          <a:xfrm>
            <a:off x="468360" y="6480"/>
            <a:ext cx="8101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99" t="56337" r="50379" b="25707"/>
          <a:stretch/>
        </p:blipFill>
        <p:spPr>
          <a:xfrm>
            <a:off x="395280" y="549360"/>
            <a:ext cx="8209080" cy="187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49039" t="56337" r="1352" b="25707"/>
          <a:stretch/>
        </p:blipFill>
        <p:spPr>
          <a:xfrm>
            <a:off x="395280" y="2421000"/>
            <a:ext cx="8209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9:17:33Z</dcterms:created>
  <dc:creator>Clare</dc:creator>
  <dc:description/>
  <dc:language>en-US</dc:language>
  <cp:lastModifiedBy>Clare</cp:lastModifiedBy>
  <dcterms:modified xsi:type="dcterms:W3CDTF">2008-11-03T15:49:51Z</dcterms:modified>
  <cp:revision>10</cp:revision>
  <dc:subject/>
  <dc:title>Slide 1</dc:title>
</cp:coreProperties>
</file>