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2117-142E-41E8-8119-73D0E26FE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A55A-35DF-48A8-AD15-BE934A4EF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8FA4-7D48-43F9-AC1C-CDF9D37ED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70D9-5C98-407A-A74F-6B9074186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45E1-F538-494C-AE27-FCCB5E993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E4BD-A0AE-4E81-B263-A6957E8BA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F031-06A2-4C7A-884F-089D3AED2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54AC-505E-4807-A041-B83929DEC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0F59-6FFA-48F9-BD4F-9D243D55A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6712-0FA7-4136-AB57-53046AB8B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5522-609A-4346-A979-405686AA7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AEB2-9651-4C85-AF8A-395821B2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CB410-FD4F-45D1-AC0C-6CDBAAFE4D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underlandschools.org/mfl-sunderland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620640"/>
            <a:ext cx="7921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Where is Spanish spoken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788000" y="6491160"/>
            <a:ext cx="43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MFL Sunderland 2008 CS </a:t>
            </a:r>
            <a:r>
              <a:rPr b="0" lang="en-GB" sz="800" spc="-1" strike="noStrike" u="sng">
                <a:solidFill>
                  <a:srgbClr val="009999"/>
                </a:solidFill>
                <a:uFillTx/>
                <a:latin typeface="Arial Rounded MT Bold"/>
                <a:hlinkClick r:id="rId1"/>
              </a:rPr>
              <a:t>http://www.sunderlandschools.org/mfl-sunderlan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[Map of North America]"/>
          <p:cNvPicPr/>
          <p:nvPr/>
        </p:nvPicPr>
        <p:blipFill>
          <a:blip r:embed="rId1"/>
          <a:stretch/>
        </p:blipFill>
        <p:spPr>
          <a:xfrm>
            <a:off x="0" y="0"/>
            <a:ext cx="9144000" cy="69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[Map of Central America]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Caribbean Physical Map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[Map of South America]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20795" r="50391" b="12481"/>
          <a:stretch/>
        </p:blipFill>
        <p:spPr>
          <a:xfrm>
            <a:off x="468360" y="0"/>
            <a:ext cx="817236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49024" t="20795" r="1665" b="12481"/>
          <a:stretch/>
        </p:blipFill>
        <p:spPr>
          <a:xfrm>
            <a:off x="468360" y="6480"/>
            <a:ext cx="810108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599" t="56337" r="50379" b="25707"/>
          <a:stretch/>
        </p:blipFill>
        <p:spPr>
          <a:xfrm>
            <a:off x="395280" y="549360"/>
            <a:ext cx="8209080" cy="1879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rcRect l="49039" t="56337" r="1352" b="25707"/>
          <a:stretch/>
        </p:blipFill>
        <p:spPr>
          <a:xfrm>
            <a:off x="395280" y="2421000"/>
            <a:ext cx="820908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5T19:17:33Z</dcterms:created>
  <dc:creator>Clare</dc:creator>
  <dc:description/>
  <dc:language>en-US</dc:language>
  <cp:lastModifiedBy>Clare</cp:lastModifiedBy>
  <dcterms:modified xsi:type="dcterms:W3CDTF">2008-11-03T15:49:51Z</dcterms:modified>
  <cp:revision>10</cp:revision>
  <dc:subject/>
  <dc:title>Slide 1</dc:title>
</cp:coreProperties>
</file>