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FEA0-7A53-4D7A-A238-B19200BD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51D5-9183-4C55-804D-FAF49FD8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8652-80AA-464D-AEA4-AB0FD21E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8A13-48C3-4C1A-83C5-B0C542F28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CECC-A2C5-427D-8155-2D15AA2F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D15B-68E7-4E1E-9CC9-5D212189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245B-6231-4B90-B2FC-68911D54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AC66-2CCF-4637-AEAD-F22E433E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17D4-C276-4006-A2B2-8CE3AD9C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2E72-C791-4F34-B1AC-2364AC21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F8A5-06A9-41E3-B676-4FFE102C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B748-8647-4467-9060-206B7161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F7E7-C3F7-4749-9A2E-7103B48E9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hyperlink" Target="http://www.sunderlandschools.org/mfl-sunderland" TargetMode="External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2320" y="2720880"/>
            <a:ext cx="2089440" cy="13906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948360" y="4941720"/>
            <a:ext cx="1801800" cy="1344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771640" y="49417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887640" y="189000"/>
            <a:ext cx="1800360" cy="1576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826920" y="189000"/>
            <a:ext cx="2089440" cy="1566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468360" y="2527200"/>
            <a:ext cx="771480" cy="1584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6659640" y="18900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5076720" y="494172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6948360" y="2708280"/>
            <a:ext cx="1871640" cy="1403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468360" y="4941720"/>
            <a:ext cx="1728720" cy="141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4494240" y="2708280"/>
            <a:ext cx="1871640" cy="1403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4000" y="18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18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84720" y="189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2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6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270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16720" y="270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86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40000" y="49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3280" y="4941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16720" y="49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6524640"/>
            <a:ext cx="54356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9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2"/>
              </a:rPr>
              <a:t>http://www.sunderlandschools.org/mfl-sunderland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22320" y="2720880"/>
            <a:ext cx="2089440" cy="1390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948360" y="4941720"/>
            <a:ext cx="1801800" cy="1344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771640" y="49417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887640" y="189000"/>
            <a:ext cx="1800360" cy="1576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826920" y="189000"/>
            <a:ext cx="2089440" cy="1566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468360" y="2527200"/>
            <a:ext cx="771480" cy="1584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6659640" y="18900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5076720" y="494172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6948360" y="2708280"/>
            <a:ext cx="1871640" cy="1403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468360" y="4941720"/>
            <a:ext cx="1728720" cy="1413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4494240" y="2708280"/>
            <a:ext cx="1871640" cy="1403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26920" y="170028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08360" y="17002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sal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72360" y="17002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ru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07664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35280" y="407664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ue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67280" y="4076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atatas fri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04000" y="407664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s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63388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56000" y="63388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16360" y="63388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63388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rd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8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19640" y="18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189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492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32000" y="26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67280" y="270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70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86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40000" y="49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3280" y="4941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16720" y="49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20:10:06Z</dcterms:created>
  <dc:creator>Clare</dc:creator>
  <dc:description/>
  <dc:language>en-US</dc:language>
  <cp:lastModifiedBy>Clare</cp:lastModifiedBy>
  <dcterms:modified xsi:type="dcterms:W3CDTF">2009-02-23T13:37:17Z</dcterms:modified>
  <cp:revision>8</cp:revision>
  <dc:subject/>
  <dc:title>Slide 1</dc:title>
</cp:coreProperties>
</file>