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C0B-5588-41DA-9546-4CE5B820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674-BF32-4D1C-A86A-322C540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A4F-018B-428A-BF3C-C3E7D64A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F5A-6C85-4390-A401-FE575ECE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08E-2595-466E-BBF0-694BF31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D97-63D2-408E-BC9D-D4A620B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6B3-899B-4D45-BB3A-60F10F0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3BC-7515-4A28-9C1A-58EFCAB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15A-1508-41AC-9ADA-49BE873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554-D5F7-4B4A-B833-A841D5E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322-EB13-4795-A170-4293816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76A-9BC3-4D93-BF10-CFD083D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2FB6-EEA8-415B-9ED7-F9A52334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hyperlink" Target="http://www.sunderlandschools.org/mfl-sunderland" TargetMode="Externa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2320" y="27208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948360" y="4941720"/>
            <a:ext cx="1801800" cy="1344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7164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87640" y="18900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26920" y="189000"/>
            <a:ext cx="208944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68360" y="2527200"/>
            <a:ext cx="77148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65964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076720" y="4941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948360" y="270828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68360" y="494172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494240" y="2708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49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6524640"/>
            <a:ext cx="543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2320" y="272088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948360" y="4941720"/>
            <a:ext cx="1801800" cy="1344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77164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87640" y="18900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826920" y="189000"/>
            <a:ext cx="208944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68360" y="2527200"/>
            <a:ext cx="77148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65964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076720" y="4941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948360" y="270828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468360" y="494172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4494240" y="2708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6920" y="1700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7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sa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17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76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407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e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40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tatas f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407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63388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1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49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10:06Z</dcterms:created>
  <dc:creator>Clare</dc:creator>
  <dc:description/>
  <dc:language>en-US</dc:language>
  <cp:lastModifiedBy>Clare</cp:lastModifiedBy>
  <dcterms:modified xsi:type="dcterms:W3CDTF">2009-02-23T13:37:17Z</dcterms:modified>
  <cp:revision>8</cp:revision>
  <dc:subject/>
  <dc:title>Slide 1</dc:title>
</cp:coreProperties>
</file>