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03C-5DD0-4884-84E1-36CD3C42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B51-6049-44D3-9230-787FAF2E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DB1-C1BA-485F-AD01-FF35D61E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A9AF-31B4-4212-B45A-3F1DD042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6A29-1334-4FD9-92D0-82288172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C063-0FE9-4B87-86B7-4FAC0E13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3E03-7EE0-4369-8D97-44BA54F7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E0C4-BA16-4414-81D0-8A1307AD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9C57-7F7C-4912-B36D-067B49BB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351E-2EA0-48C4-BB5E-6836A376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AF79-C18E-4251-92F9-E26755AF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873B-F525-42AF-9458-2207BFA3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2AE9-1F14-40F3-8A61-513B6E32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8997-A465-4C51-9DDC-8C5C4829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9B28-18BB-4499-A7F3-543E1FD9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27F6-A7D3-4801-A7F5-EDB7D3F1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258C-8310-408A-8B88-62004E0A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6BC-B434-4E16-B484-42CA9823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CBC-4B01-428E-AA2F-C91BDEC4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347-CB4D-4AEE-A37B-C1031EC2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EA4-AFFE-4018-9DC7-406D8A5B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CE9-20BC-47C0-8E6C-CAB931B8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669-B9DB-4D6F-AA8C-AFBD2FC7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EA0-AFC5-4083-81B0-0CCF2976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28a84"/>
                </a:gs>
                <a:gs pos="5000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4B79-87A2-4108-8402-FFAAA90ECD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28a84"/>
                </a:gs>
                <a:gs pos="5000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202F-DF75-4199-95D1-5D83C03FAB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bd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dddddd"/>
                </a:solidFill>
                <a:latin typeface="Arial"/>
              </a:rPr>
              <a:t>Los robots</a:t>
            </a:r>
            <a:endParaRPr b="0" lang="en-US" sz="8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a de 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6597720"/>
            <a:ext cx="6156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MFL Sunderland 2009 EB </a:t>
            </a:r>
            <a:r>
              <a:rPr b="0" lang="en-GB" sz="800" spc="-1" strike="noStrike" u="sng">
                <a:solidFill>
                  <a:srgbClr val="ffcc00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Una familia de cuatro personas tiene cuatro robots para ayudarl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Cada persona hace una tarea doméstica, ayudado con un robot y lo hacen varias veces a la sema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u trabajo es decidir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dddddd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quien trabaja con cual robo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dddddd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que tarea cumplen juntos 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dddddd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cuantas veces a la semana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utilizando los índic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Apunta tus contestas en la tabla siguien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08000" y="274680"/>
          <a:ext cx="8964720" cy="6416640"/>
        </p:xfrm>
        <a:graphic>
          <a:graphicData uri="http://schemas.openxmlformats.org/drawingml/2006/table">
            <a:tbl>
              <a:tblPr/>
              <a:tblGrid>
                <a:gridCol w="431640"/>
                <a:gridCol w="594000"/>
                <a:gridCol w="688680"/>
                <a:gridCol w="689040"/>
                <a:gridCol w="687600"/>
                <a:gridCol w="690480"/>
                <a:gridCol w="646200"/>
                <a:gridCol w="649080"/>
                <a:gridCol w="647640"/>
                <a:gridCol w="646200"/>
                <a:gridCol w="650880"/>
                <a:gridCol w="647640"/>
                <a:gridCol w="647640"/>
                <a:gridCol w="64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bo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antas ve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-3P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2-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mina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iega los pla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va el co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c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ce el jardí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n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da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n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f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antas ve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n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da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ue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iega los pla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cc66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va el co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cc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n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c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cc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f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ce el jardí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cc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08000" y="274680"/>
          <a:ext cx="8964720" cy="6416640"/>
        </p:xfrm>
        <a:graphic>
          <a:graphicData uri="http://schemas.openxmlformats.org/drawingml/2006/table">
            <a:tbl>
              <a:tblPr/>
              <a:tblGrid>
                <a:gridCol w="431640"/>
                <a:gridCol w="594000"/>
                <a:gridCol w="688680"/>
                <a:gridCol w="689040"/>
                <a:gridCol w="687600"/>
                <a:gridCol w="690480"/>
                <a:gridCol w="646200"/>
                <a:gridCol w="649080"/>
                <a:gridCol w="647640"/>
                <a:gridCol w="646200"/>
                <a:gridCol w="650880"/>
                <a:gridCol w="647640"/>
                <a:gridCol w="647640"/>
                <a:gridCol w="64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bo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antas ve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-3P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2-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mina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iega los pla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va el co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c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ce el jardí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n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da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n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f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antas ve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n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da d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ue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iega los pla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cc66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va el co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cc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n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c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cc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f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ce el jardí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cc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419640" y="2205000"/>
            <a:ext cx="352728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5e58"/>
                </a:solidFill>
                <a:latin typeface="Arial"/>
              </a:rPr>
              <a:t>We are going to us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765e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5e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65e58"/>
                </a:solidFill>
                <a:latin typeface="Arial"/>
              </a:rPr>
              <a:t>O for yes/true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765e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5e58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765e58"/>
                </a:solidFill>
                <a:latin typeface="Arial"/>
              </a:rPr>
              <a:t>for no/fal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2637000"/>
            <a:ext cx="3527280" cy="37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65e58"/>
                </a:solidFill>
                <a:latin typeface="Arial"/>
              </a:rPr>
              <a:t>For example, if I s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65e58"/>
                </a:solidFill>
                <a:latin typeface="Arial"/>
              </a:rPr>
              <a:t>Paco works with Bender, we put a O at the intersection t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65e58"/>
                </a:solidFill>
                <a:latin typeface="Arial"/>
              </a:rPr>
              <a:t>Down and across, we put – , because if Paco works with Bender, then he can’t work with any other robot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3600" y="1366920"/>
            <a:ext cx="1363320" cy="2709360"/>
            <a:chOff x="2703600" y="1366920"/>
            <a:chExt cx="1363320" cy="2709360"/>
          </a:xfrm>
        </p:grpSpPr>
        <p:sp>
          <p:nvSpPr>
            <p:cNvPr id="110" name=""/>
            <p:cNvSpPr/>
            <p:nvPr/>
          </p:nvSpPr>
          <p:spPr>
            <a:xfrm flipH="1" flipV="1">
              <a:off x="2916000" y="1699920"/>
              <a:ext cx="1150920" cy="2376360"/>
            </a:xfrm>
            <a:prstGeom prst="line">
              <a:avLst/>
            </a:prstGeom>
            <a:ln w="63360">
              <a:solidFill>
                <a:srgbClr val="cc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03600" y="1366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258920" y="1341360"/>
            <a:ext cx="2592360" cy="1132920"/>
            <a:chOff x="1258920" y="1341360"/>
            <a:chExt cx="2592360" cy="1132920"/>
          </a:xfrm>
        </p:grpSpPr>
        <p:sp>
          <p:nvSpPr>
            <p:cNvPr id="113" name=""/>
            <p:cNvSpPr/>
            <p:nvPr/>
          </p:nvSpPr>
          <p:spPr>
            <a:xfrm>
              <a:off x="1258920" y="134136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                    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28800" y="1557360"/>
              <a:ext cx="257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 rot="282600">
            <a:off x="-36000" y="115560"/>
            <a:ext cx="666252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oudy Stout"/>
              </a:rPr>
              <a:t>¿Est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oudy Stout"/>
              <a:ea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oudy Stout"/>
              </a:rPr>
              <a:t>bie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oudy Stout"/>
              <a:ea typeface="Goudy Stou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753080" y="4513320"/>
            <a:ext cx="399564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hora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 toca a ti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ddddd"/>
                </a:solidFill>
                <a:latin typeface="Arial"/>
              </a:rPr>
              <a:t>Los índice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co trabaja en la casa casi todos los dí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ender no trabaja más de una vez a la semana porque es perezo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afa trabaja con C-3PO y no le gusta estar en el interior de la c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onia trabaja en el jardín todos los dí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2-D2 prepara la comida más de la mitad de la sem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620640"/>
          <a:ext cx="8229600" cy="5586480"/>
        </p:xfrm>
        <a:graphic>
          <a:graphicData uri="http://schemas.openxmlformats.org/drawingml/2006/table">
            <a:tbl>
              <a:tblPr/>
              <a:tblGrid>
                <a:gridCol w="2065320"/>
                <a:gridCol w="2054160"/>
                <a:gridCol w="2055960"/>
                <a:gridCol w="2054160"/>
              </a:tblGrid>
              <a:tr h="704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ues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b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antas vec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2-D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c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nco (5)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n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min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ce el jardí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da día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f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-3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va el coche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s (3)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iega los platos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a (1)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ddddd"/>
                </a:solidFill>
                <a:latin typeface="Arial"/>
              </a:rPr>
              <a:t>Ahora escribe frases para dar tus respuestas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co trabaja con R2-D2. Cocinan 5 veces a la sem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23:28:18Z</dcterms:created>
  <dc:creator>E. Burguin</dc:creator>
  <dc:description/>
  <dc:language>en-US</dc:language>
  <cp:lastModifiedBy>Clare</cp:lastModifiedBy>
  <dcterms:modified xsi:type="dcterms:W3CDTF">2009-02-23T14:14:06Z</dcterms:modified>
  <cp:revision>19</cp:revision>
  <dc:subject/>
  <dc:title>Los robots</dc:title>
</cp:coreProperties>
</file>