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427-F31C-4ED5-8E35-95385BB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544-BD7D-4571-96B4-CC0C9E45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86E-D2A2-43CD-A957-6FC71AD9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6F3-6E43-41E9-84C3-60305392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68A-2EC5-44D4-AEE3-AFD690D7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6B4-D69A-41B4-94BD-4ED6F47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523D-F53A-4A8B-9E3A-5DFBFBF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80B-31BC-4C3B-BD6C-7E0F417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1CA-A2ED-4E67-B3EB-16C4215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58C-8BAF-4BE0-8F15-01F10D70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CD59-2BB9-4654-9AC3-0204B36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7C1-7758-4F1A-8511-67B7B2E5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0D8-3525-4621-BA78-E20E12E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AE2-230A-466D-AB0A-5A349BF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F80-CB98-4062-8A86-DC9FDD8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A480-4D0F-41A3-B13B-0096408B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C4A4-BB50-42CA-BD6E-961D6F63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661-C792-45B8-921C-F503C43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10A-CDAE-4B2A-9A96-70A4438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2AC-4DBA-49C2-9B0D-C3E2BF0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C43-470B-4B9D-BA56-621E7A2E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3D9-093C-4F09-A889-026CF8A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84D-B4D3-4756-A2AE-A857F0B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F53-2E3F-4DE7-BB75-1AD3F95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080-498A-4F59-A676-D0959B17DC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927A-F531-464B-BC41-957D52DBF2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dddddd"/>
                </a:solidFill>
                <a:latin typeface="Arial"/>
              </a:rPr>
              <a:t>Los robots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a de 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6597720"/>
            <a:ext cx="615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9 EB </a:t>
            </a:r>
            <a:r>
              <a:rPr b="0" lang="en-GB" sz="800" spc="-1" strike="noStrike" u="sng">
                <a:solidFill>
                  <a:srgbClr val="ffcc00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Una familia de cuatro personas tiene cuatro robots para ayudarl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ada persona hace una tarea doméstica, ayudado con un robot y lo hacen varias veces a la sem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u trabajo es decidi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quien trabaja con cual robo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que tarea cumplen juntos 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cuantas veces a la semana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tilizando los índi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punta tus contestas en la tabla sigui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8000" y="274680"/>
          <a:ext cx="8964720" cy="6416640"/>
        </p:xfrm>
        <a:graphic>
          <a:graphicData uri="http://schemas.openxmlformats.org/drawingml/2006/table">
            <a:tbl>
              <a:tblPr/>
              <a:tblGrid>
                <a:gridCol w="431640"/>
                <a:gridCol w="594000"/>
                <a:gridCol w="688680"/>
                <a:gridCol w="689040"/>
                <a:gridCol w="687600"/>
                <a:gridCol w="690480"/>
                <a:gridCol w="646200"/>
                <a:gridCol w="649080"/>
                <a:gridCol w="647640"/>
                <a:gridCol w="646200"/>
                <a:gridCol w="650880"/>
                <a:gridCol w="647640"/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bo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8000" y="274680"/>
          <a:ext cx="8964720" cy="6416640"/>
        </p:xfrm>
        <a:graphic>
          <a:graphicData uri="http://schemas.openxmlformats.org/drawingml/2006/table">
            <a:tbl>
              <a:tblPr/>
              <a:tblGrid>
                <a:gridCol w="431640"/>
                <a:gridCol w="594000"/>
                <a:gridCol w="688680"/>
                <a:gridCol w="689040"/>
                <a:gridCol w="687600"/>
                <a:gridCol w="690480"/>
                <a:gridCol w="646200"/>
                <a:gridCol w="649080"/>
                <a:gridCol w="647640"/>
                <a:gridCol w="646200"/>
                <a:gridCol w="650880"/>
                <a:gridCol w="647640"/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bo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419640" y="2205000"/>
            <a:ext cx="35272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We are going to u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765e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O for yes/tru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765e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for no/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637000"/>
            <a:ext cx="3527280" cy="37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For example, if I s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5e58"/>
                </a:solidFill>
                <a:latin typeface="Arial"/>
              </a:rPr>
              <a:t>Paco works with Bender, we put a O at the intersection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5e58"/>
                </a:solidFill>
                <a:latin typeface="Arial"/>
              </a:rPr>
              <a:t>Down and across, we put – , because if Paco works with Bender, then he can’t work with any other robo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3600" y="1366920"/>
            <a:ext cx="1363320" cy="2709360"/>
            <a:chOff x="2703600" y="1366920"/>
            <a:chExt cx="1363320" cy="2709360"/>
          </a:xfrm>
        </p:grpSpPr>
        <p:sp>
          <p:nvSpPr>
            <p:cNvPr id="110" name=""/>
            <p:cNvSpPr/>
            <p:nvPr/>
          </p:nvSpPr>
          <p:spPr>
            <a:xfrm flipH="1" flipV="1">
              <a:off x="2916000" y="1699920"/>
              <a:ext cx="1150920" cy="2376360"/>
            </a:xfrm>
            <a:prstGeom prst="line">
              <a:avLst/>
            </a:prstGeom>
            <a:ln w="63360">
              <a:solidFill>
                <a:srgbClr val="cc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03600" y="1366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58920" y="1341360"/>
            <a:ext cx="2592360" cy="1132920"/>
            <a:chOff x="1258920" y="1341360"/>
            <a:chExt cx="2592360" cy="1132920"/>
          </a:xfrm>
        </p:grpSpPr>
        <p:sp>
          <p:nvSpPr>
            <p:cNvPr id="113" name=""/>
            <p:cNvSpPr/>
            <p:nvPr/>
          </p:nvSpPr>
          <p:spPr>
            <a:xfrm>
              <a:off x="1258920" y="134136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                    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8800" y="1557360"/>
              <a:ext cx="257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282600">
            <a:off x="-36000" y="115560"/>
            <a:ext cx="666252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¿Est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bi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753080" y="4513320"/>
            <a:ext cx="3995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hor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 toca a t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Arial"/>
              </a:rPr>
              <a:t>Los índic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o trabaja en la casa casi todos los d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ender no trabaja más de una vez a la semana porque es perez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afa trabaja con C-3PO y no le gusta estar en el interior de la c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ia trabaja en el jardín todos los d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2-D2 prepara la comida más de la mitad de la sem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620640"/>
          <a:ext cx="8229600" cy="5586480"/>
        </p:xfrm>
        <a:graphic>
          <a:graphicData uri="http://schemas.openxmlformats.org/drawingml/2006/table">
            <a:tbl>
              <a:tblPr/>
              <a:tblGrid>
                <a:gridCol w="2065320"/>
                <a:gridCol w="2054160"/>
                <a:gridCol w="2055960"/>
                <a:gridCol w="2054160"/>
              </a:tblGrid>
              <a:tr h="704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ntas ve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 (5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 (3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 (1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ddddd"/>
                </a:solidFill>
                <a:latin typeface="Arial"/>
              </a:rPr>
              <a:t>Ahora escribe frases para dar tus respuesta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co trabaja con R2-D2. Cocinan 5 veces a la se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23:28:18Z</dcterms:created>
  <dc:creator>E. Burguin</dc:creator>
  <dc:description/>
  <dc:language>en-US</dc:language>
  <cp:lastModifiedBy>Clare</cp:lastModifiedBy>
  <dcterms:modified xsi:type="dcterms:W3CDTF">2009-02-23T14:14:06Z</dcterms:modified>
  <cp:revision>19</cp:revision>
  <dc:subject/>
  <dc:title>Los robots</dc:title>
</cp:coreProperties>
</file>