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DFFD-C7A4-464C-9F5A-596141E43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0FDA-AF6F-4B62-A053-2685A8FA4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6E66-6302-45E6-A45F-7B1D825EF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1C89-4E94-4E4D-AE71-DEB7FF349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7D3B-263C-4F33-91E7-BF2FE7EBB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D314-8C40-4E72-B310-05B4DDD6F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2C61-992F-4D05-8D50-A30FDFC3F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6523-31A4-4C25-BF67-C55219E3A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6F74-A000-4B7B-A0F9-667D4BDB5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2F23-30E1-4234-93D7-E6118891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ECF1-F030-4393-B2ED-4567F755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4ABF-9FAD-43E6-B7D4-0F8DC4BB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FBDF7-3594-432B-8288-08E4E2A913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underlandschools.org/mfl-sunderland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82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d4d4d"/>
                </a:solidFill>
                <a:latin typeface="Goudy Stout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042920" y="620640"/>
            <a:ext cx="70581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aaaaaa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¿ En qué pienso 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3399"/>
                  </a:gs>
                  <a:gs pos="100000">
                    <a:srgbClr val="aaaaaa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56000" y="2276640"/>
            <a:ext cx="4176720" cy="3132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140360" y="6524640"/>
            <a:ext cx="500364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MFL Sunderland 2009 CS </a:t>
            </a:r>
            <a:r>
              <a:rPr b="0" lang="en-GB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2"/>
              </a:rPr>
              <a:t>http://www.sunderlandschools.org/mfl-sunderland</a:t>
            </a: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14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d4d4d"/>
                </a:solidFill>
                <a:latin typeface="Goudy Stout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042920" y="620640"/>
            <a:ext cx="70581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aaaaaa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¿ En qué pienso 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3399"/>
                  </a:gs>
                  <a:gs pos="100000">
                    <a:srgbClr val="aaaaaa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124000" y="2349360"/>
            <a:ext cx="5112000" cy="38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13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d4d4d"/>
                </a:solidFill>
                <a:latin typeface="Goudy Stout"/>
              </a:rPr>
              <a:t>1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042920" y="620640"/>
            <a:ext cx="70581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aaaaaa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¿ En qué pienso 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3399"/>
                  </a:gs>
                  <a:gs pos="100000">
                    <a:srgbClr val="aaaaaa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763640" y="2349360"/>
            <a:ext cx="5904000" cy="39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13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d4d4d"/>
                </a:solidFill>
                <a:latin typeface="Goudy Stout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042920" y="620640"/>
            <a:ext cx="70581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aaaaaa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¿ En qué pienso 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3399"/>
                  </a:gs>
                  <a:gs pos="100000">
                    <a:srgbClr val="aaaaaa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340000" y="2133720"/>
            <a:ext cx="4824360" cy="41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13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d4d4d"/>
                </a:solidFill>
                <a:latin typeface="Goudy Stout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042920" y="620640"/>
            <a:ext cx="70581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aaaaaa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¿ En qué pienso 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3399"/>
                  </a:gs>
                  <a:gs pos="100000">
                    <a:srgbClr val="aaaaaa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619280" y="2133720"/>
            <a:ext cx="590544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13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d4d4d"/>
                </a:solidFill>
                <a:latin typeface="Goudy Stout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042920" y="620640"/>
            <a:ext cx="70581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aaaaaa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¿ En qué pienso 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3399"/>
                  </a:gs>
                  <a:gs pos="100000">
                    <a:srgbClr val="aaaaaa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124000" y="2133720"/>
            <a:ext cx="487512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13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d4d4d"/>
                </a:solidFill>
                <a:latin typeface="Goudy Stout"/>
              </a:rPr>
              <a:t>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042920" y="620640"/>
            <a:ext cx="70581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aaaaaa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¿ En qué pienso 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3399"/>
                  </a:gs>
                  <a:gs pos="100000">
                    <a:srgbClr val="aaaaaa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79640" y="1916280"/>
            <a:ext cx="5492880" cy="45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13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d4d4d"/>
                </a:solidFill>
                <a:latin typeface="Goudy Stout"/>
              </a:rPr>
              <a:t>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042920" y="620640"/>
            <a:ext cx="70581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aaaaaa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¿ En qué pienso 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3399"/>
                  </a:gs>
                  <a:gs pos="100000">
                    <a:srgbClr val="aaaaaa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908000" y="1989000"/>
            <a:ext cx="56898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195640" y="1413000"/>
            <a:ext cx="4609800" cy="3457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87280" y="5300640"/>
            <a:ext cx="24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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227640" y="260280"/>
            <a:ext cx="24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35640" y="5229360"/>
            <a:ext cx="24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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260280"/>
            <a:ext cx="24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40" dur="1" fill="hold"/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187280" y="5300640"/>
            <a:ext cx="24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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227640" y="260280"/>
            <a:ext cx="24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435640" y="5229360"/>
            <a:ext cx="24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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260280"/>
            <a:ext cx="24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692360" y="1197000"/>
            <a:ext cx="482436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68" dur="1" fill="hold"/>
                                  <p:tgtEl>
                                    <p:spTgt spid="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87280" y="5300640"/>
            <a:ext cx="24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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27640" y="260280"/>
            <a:ext cx="24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35640" y="5229360"/>
            <a:ext cx="24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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260280"/>
            <a:ext cx="24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835280" y="1341360"/>
            <a:ext cx="432108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96" dur="1" fill="hold"/>
                                  <p:tgtEl>
                                    <p:spTgt spid="1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82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d4d4d"/>
                </a:solidFill>
                <a:latin typeface="Goudy Stout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042920" y="620640"/>
            <a:ext cx="70581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aaaaaa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¿ En qué pienso 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3399"/>
                  </a:gs>
                  <a:gs pos="100000">
                    <a:srgbClr val="aaaaaa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484360" y="2276640"/>
            <a:ext cx="439272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87280" y="5300640"/>
            <a:ext cx="24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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227640" y="260280"/>
            <a:ext cx="24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35640" y="5229360"/>
            <a:ext cx="24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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8360" y="260280"/>
            <a:ext cx="24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590544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24" dur="1" fill="hold"/>
                                  <p:tgtEl>
                                    <p:spTgt spid="1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187280" y="5300640"/>
            <a:ext cx="24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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227640" y="260280"/>
            <a:ext cx="24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435640" y="5229360"/>
            <a:ext cx="24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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8360" y="260280"/>
            <a:ext cx="24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124000" y="1268280"/>
            <a:ext cx="487512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52" dur="1" fill="hold"/>
                                  <p:tgtEl>
                                    <p:spTgt spid="1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68360" y="404640"/>
            <a:ext cx="813600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Me encantan los perritos calient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Están muy rico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68360" y="404640"/>
            <a:ext cx="8136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Me encantan las chuleta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Son deliciosa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68360" y="404640"/>
            <a:ext cx="813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Me gusta el flan porque es dulc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68360" y="404640"/>
            <a:ext cx="8136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Me gustan las sardin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Son muy sana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68360" y="404640"/>
            <a:ext cx="8136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Me encantan las gamba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Son nutritiva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82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d4d4d"/>
                </a:solidFill>
                <a:latin typeface="Goudy Stout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042920" y="620640"/>
            <a:ext cx="70581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aaaaaa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¿ En qué pienso 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3399"/>
                  </a:gs>
                  <a:gs pos="100000">
                    <a:srgbClr val="aaaaaa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411280" y="2133720"/>
            <a:ext cx="3961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82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d4d4d"/>
                </a:solidFill>
                <a:latin typeface="Goudy Stout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042920" y="620640"/>
            <a:ext cx="70581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aaaaaa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¿ En qué pienso 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3399"/>
                  </a:gs>
                  <a:gs pos="100000">
                    <a:srgbClr val="aaaaaa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84360" y="2205000"/>
            <a:ext cx="4175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82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d4d4d"/>
                </a:solidFill>
                <a:latin typeface="Goudy Stout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042920" y="620640"/>
            <a:ext cx="70581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aaaaaa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¿ En qué pienso 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3399"/>
                  </a:gs>
                  <a:gs pos="100000">
                    <a:srgbClr val="aaaaaa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124000" y="2421000"/>
            <a:ext cx="496908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82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d4d4d"/>
                </a:solidFill>
                <a:latin typeface="Goudy Stout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042920" y="620640"/>
            <a:ext cx="70581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aaaaaa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¿ En qué pienso 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3399"/>
                  </a:gs>
                  <a:gs pos="100000">
                    <a:srgbClr val="aaaaaa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40000" y="2205000"/>
            <a:ext cx="482436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82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d4d4d"/>
                </a:solidFill>
                <a:latin typeface="Goudy Stout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042920" y="620640"/>
            <a:ext cx="70581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aaaaaa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¿ En qué pienso 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3399"/>
                  </a:gs>
                  <a:gs pos="100000">
                    <a:srgbClr val="aaaaaa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68360" y="2133720"/>
            <a:ext cx="525636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82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d4d4d"/>
                </a:solidFill>
                <a:latin typeface="Goudy Stout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042920" y="620640"/>
            <a:ext cx="70581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aaaaaa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¿ En qué pienso 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3399"/>
                  </a:gs>
                  <a:gs pos="100000">
                    <a:srgbClr val="aaaaaa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68360" y="2133720"/>
            <a:ext cx="475164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82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d4d4d"/>
                </a:solidFill>
                <a:latin typeface="Goudy Stout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042920" y="620640"/>
            <a:ext cx="70581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aaaaaa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¿ En qué pienso 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3399"/>
                  </a:gs>
                  <a:gs pos="100000">
                    <a:srgbClr val="aaaaaa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708360" y="2133720"/>
            <a:ext cx="20336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20:10:06Z</dcterms:created>
  <dc:creator>Clare</dc:creator>
  <dc:description/>
  <dc:language>en-US</dc:language>
  <cp:lastModifiedBy>Clare</cp:lastModifiedBy>
  <dcterms:modified xsi:type="dcterms:W3CDTF">2009-04-26T20:40:41Z</dcterms:modified>
  <cp:revision>15</cp:revision>
  <dc:subject/>
  <dc:title>Slide 1</dc:title>
</cp:coreProperties>
</file>