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FCB5-B798-466C-A3FE-E14AB903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F3BF-D012-404F-B43F-BFBD91C6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8ECA-D1A1-42BA-BE46-A1B1EB81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E9E2-44F3-4749-BC04-FA0280EC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F686-E9C1-4A7F-A73E-83E241F5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E3BF-71DE-414F-A7A4-DD29F26F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616C-8212-4AD5-801D-F0297FA1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EF7B-77E2-42E1-8C0B-45695904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B3D3-D9DE-49DC-A968-C33CD940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33D3-3AFB-4268-9697-7435BA38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D078-8EEF-47CD-900C-E4FB2405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98A3-0D4A-4F8A-86FB-F761E988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A4D2-5E6B-4AF7-8EC5-0B93B03DF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Goudy Stout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42920" y="62064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¿ En qué pienso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56000" y="227664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140360" y="6524640"/>
            <a:ext cx="50036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9 CS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14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Goudy Stout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42920" y="62064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¿ En qué pienso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511200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13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Goudy Stout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42920" y="62064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¿ En qué pienso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590400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13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Goudy Stout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42920" y="62064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¿ En qué pienso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482436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13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Goudy Stout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42920" y="62064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¿ En qué pienso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59054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13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Goudy Stout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042920" y="62064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¿ En qué pienso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124000" y="2133720"/>
            <a:ext cx="48751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13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Goudy Stout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42920" y="62064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¿ En qué pienso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492880" cy="45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13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Goudy Stout"/>
              </a:rPr>
              <a:t>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42920" y="62064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¿ En qué pienso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5689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09800" cy="3457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87280" y="530064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27640" y="26028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35640" y="522936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6028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0" dur="1" fill="hold"/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87280" y="530064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27640" y="26028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35640" y="522936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26028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482436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8" dur="1" fill="hold"/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87280" y="530064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27640" y="26028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35640" y="522936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26028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432108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6" dur="1" fill="hold"/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8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Goudy Stout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42920" y="62064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¿ En qué pienso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84360" y="2276640"/>
            <a:ext cx="439272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87280" y="530064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27640" y="26028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522936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26028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90544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4" dur="1" fill="hold"/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87280" y="530064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27640" y="26028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35640" y="522936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26028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751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2" dur="1" fill="hold"/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404640"/>
            <a:ext cx="81360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e encantan los perritos calient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Están muy rico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68360" y="404640"/>
            <a:ext cx="8136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e encantan las chuleta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Son deliciosa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8360" y="40464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e gusta el flan porque es dul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68360" y="404640"/>
            <a:ext cx="8136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e gustan las sardin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Son muy sana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8360" y="404640"/>
            <a:ext cx="8136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e encantan las gamba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Son nutritiva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8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Goudy Stout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42920" y="62064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¿ En qué pienso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3961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8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Goudy Stout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42920" y="62064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¿ En qué pienso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4175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8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Goudy Stout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42920" y="62064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¿ En qué pienso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24000" y="2421000"/>
            <a:ext cx="496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8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Goudy Stout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42920" y="62064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¿ En qué pienso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2205000"/>
            <a:ext cx="48243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8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Goudy Stout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42920" y="62064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¿ En qué pienso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525636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8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Goudy Stout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042920" y="62064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¿ En qué pienso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47516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8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Goudy Stout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42920" y="62064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¿ En qué pienso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708360" y="2133720"/>
            <a:ext cx="2033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0:10:06Z</dcterms:created>
  <dc:creator>Clare</dc:creator>
  <dc:description/>
  <dc:language>en-US</dc:language>
  <cp:lastModifiedBy>Clare</cp:lastModifiedBy>
  <dcterms:modified xsi:type="dcterms:W3CDTF">2009-04-26T20:40:41Z</dcterms:modified>
  <cp:revision>15</cp:revision>
  <dc:subject/>
  <dc:title>Slide 1</dc:title>
</cp:coreProperties>
</file>