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048-CD24-4C81-A946-A5FE1DCD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CCD-216C-4033-8E6D-E1CB31A3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C08-1A3E-4807-B70C-0FF706BF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671-BCBB-4A33-BFED-4DD243E9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0AA-41A2-4815-8467-EDFDCB0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743-045B-45DB-A5EB-D7A7B3E7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DD1-F655-4740-8B00-34192944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9D3-1846-4480-9B59-7966552C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135-DF52-48C8-9459-801EF258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81F-B05C-4271-886A-11BB9ED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60D-8AD3-48E8-876E-42963AA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842-FB80-4B59-B381-7DD88AE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DAF2-0C24-4E9A-8E6C-FD751E2E6CC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image46.webshots.com/47/0/45/82/2684045820094096634lnpuGm_fs.jpg&amp;imgrefurl=http://travel.webshots.com/photo/2684045820094096634lnpuGm&amp;usg=__3lQThH3qXttQr1i2YYm0nisl9pE=&amp;h=2304&amp;w=1728&amp;sz=350&amp;hl=en&amp;start=21&amp;tbnid=Z-8PNh1CykS-zM:&amp;tbnh=150&amp;tbnw=113&amp;prev=/images?q=short+man&amp;gbv=2&amp;ndsp=20&amp;hl=en&amp;sa=N&amp;start=20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joe-ks.com/archives_jun2004/7.4ftWoman4.jpg&amp;imgrefurl=http://www.minimins.com/nutrition-health-beauty/19185-what-does-23-stone-woman-look-like.html&amp;usg=__d_ew9LmR3ZJVjxRGin8Q1sR51Tg=&amp;h=378&amp;w=316&amp;sz=15&amp;hl=en&amp;start=6&amp;tbnid=FRanLzy4zI9DDM:&amp;tbnh=122&amp;tbnw=102&amp;prev=/images?q=short+woman&amp;gbv=2&amp;hl=e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delivery.superstock.com/WI/223/1804/PreviewComp/SuperStock_1804R-7697.jpg&amp;imgrefurl=http://www.superstock.com/stock-photos-images/1804R-7697&amp;usg=__A1WjSLc1fPR1kiVxry41agMIbSM=&amp;h=350&amp;w=350&amp;sz=63&amp;hl=en&amp;start=50&amp;tbnid=s1FnYCpXJ-HYhM:&amp;tbnh=120&amp;tbnw=120&amp;prev=/images?q=slim+man&amp;gbv=2&amp;ndsp=20&amp;hl=en&amp;sa=N&amp;start=40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uk/imgres?imgurl=http://media.ebaumsworld.com/picture/stewieispimpin/FatBurger.jpg&amp;imgrefurl=http://www.ebaumsworld.com/pictures/view/54317/&amp;usg=__I5fSKpGKv7kHtHye6CY2EGedrd4=&amp;h=450&amp;w=565&amp;sz=33&amp;hl=en&amp;start=29&amp;tbnid=x20wABqFnGdwjM:&amp;tbnh=107&amp;tbnw=134&amp;prev=/images?q=fat+man&amp;gbv=2&amp;ndsp=20&amp;hl=en&amp;sa=N&amp;start=20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gotwaldo.com/ww/wp-content/uploads/2008/06/news_pagepublication_fat-woman.jpg&amp;imgrefurl=http://www.gotwaldo.com/ww/?cat=39&amp;usg=__0_6vGtx9GT54U5322f5SXMbd6N0=&amp;h=634&amp;w=400&amp;sz=55&amp;hl=en&amp;start=26&amp;tbnid=V9cF0kIipri3nM:&amp;tbnh=137&amp;tbnw=86&amp;prev=/images?q=fat+woman&amp;gbv=2&amp;ndsp=20&amp;hl=en&amp;sa=N&amp;start=20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wonderquest.com/2006-12-05-american-woman.jpg&amp;imgrefurl=http://www.wonderquest.com/size-women-us.htm&amp;usg=__SSWgMkfLzHVm31rltqk68NRvSUE=&amp;h=300&amp;w=200&amp;sz=25&amp;hl=en&amp;start=13&amp;tbnid=dfgED4383WkgYM:&amp;tbnh=116&amp;tbnw=77&amp;prev=/images?q=average+sized+woman&amp;gbv=2&amp;hl=en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alive.com/site_12/279_78_01.gif&amp;imgrefurl=http://www.alive.com/4209a12a2.php?subject_bread_cramb=12&amp;usg=__NsYuMT1TBK-AyVtsNF1wQifJEW4=&amp;h=200&amp;w=170&amp;sz=20&amp;hl=en&amp;start=43&amp;tbnid=vyVMtS1vcuGtHM:&amp;tbnh=104&amp;tbnw=88&amp;prev=/images?q=slim+woman&amp;gbv=2&amp;ndsp=20&amp;hl=en&amp;sa=N&amp;start=40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co.uk/imgres?imgurl=http://media.rd.com/rd/images/rdc/slideshows/farming/farming-11-ss.jpg&amp;imgrefurl=http://www.rd.com/content/printContent.do?contentId=111883&amp;KeepThis=true&amp;TB_iframe=true&amp;height=500&amp;width=790&amp;modal=true&amp;usg=__cVrEGpqeTsTKBON-LM3ARNtqztQ=&amp;h=492&amp;w=492&amp;sz=80&amp;hl=en&amp;start=88&amp;tbnid=SuF_Vq0kbFf1xM:&amp;tbnh=130&amp;tbnw=130&amp;prev=/images?q=average+sized+man&amp;gbv=2&amp;ndsp=20&amp;hl=en&amp;sa=N&amp;start=80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users.bandzoogle.com/RobertKellerComedian/images/content/Gabriel.bmp&amp;imgrefurl=http://www.roberthkeller.com/blog.cfm?showall=1&amp;usg=__IoZjfMmzaOg0TWbq1O0y0MBnpGg=&amp;h=400&amp;w=400&amp;sz=469&amp;hl=en&amp;start=3&amp;tbnid=bSYc8T6pAi5MUM:&amp;tbnh=124&amp;tbnw=124&amp;prev=/images?q=handsome+man&amp;gbv=2&amp;hl=en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.uk/imgres?imgurl=http://www.funpicsfree.com/photogallery/funny-pics-0924/funny-pic-ugly-man.jpg&amp;imgrefurl=http://www.funpicsfree.com/funny-pic-ugly-man.htm&amp;usg=__jjLVntlp1gcKZgDS7Ar-cLkqal4=&amp;h=458&amp;w=450&amp;sz=57&amp;hl=en&amp;start=5&amp;tbnid=qH1qtm-A-fFVuM:&amp;tbnh=128&amp;tbnw=126&amp;prev=/images?q=ugly+man&amp;gbv=2&amp;hl=en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melbourne.indymedia.org/uploads/pig-ugly-woman-fat-face.jpgnpjjnb.jpg&amp;imgrefurl=http://melbourne.indymedia.org/news/2006/07/117165_comment.php&amp;usg=__wN55eFjgv-rCsINFOhLlAXrIN-M=&amp;h=302&amp;w=233&amp;sz=23&amp;hl=en&amp;start=9&amp;tbnid=MV8qGeuTE9biAM:&amp;tbnh=116&amp;tbnw=89&amp;prev=/images?q=ugly+woman&amp;gbv=2&amp;hl=en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ji.co.uk/hjimages/images/qhs706/hji/medium/2006-black-bo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img.photobucket.com/albums/v235/cheron_cmc/sharon_xie/KingoneBrownHair.jpg&amp;imgrefurl=http://www.clubsnap.com/forums/showthread.php?t=328472&amp;usg=__SYBJKXtmgtzJynGFnCDLeXjAJbo=&amp;h=542&amp;w=386&amp;sz=64&amp;hl=en&amp;start=28&amp;tbnid=9OF1nqsuK1sACM:&amp;tbnh=132&amp;tbnw=94&amp;prev=/images?q=brown+hair&amp;gbv=2&amp;ndsp=20&amp;hl=en&amp;sa=N&amp;start=2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home.comcast.net/~yoram7/May/May_040.jpg&amp;imgrefurl=http://home.comcast.net/~yoram7/&amp;usg=__HoFGcrBjDIc5OPJdvXMfydCGvos=&amp;h=408&amp;w=306&amp;sz=57&amp;hl=en&amp;start=30&amp;tbnid=wEkVCKyDYMEYAM:&amp;tbnh=125&amp;tbnw=94&amp;prev=/images?q=blonde+hair&amp;gbv=2&amp;ndsp=20&amp;hl=en&amp;sa=N&amp;start=20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dougbarber.com/red/db_me11.jpg&amp;imgrefurl=http://dougbarber.com/red/Friends_Photos_4/Friends4/friends4_35.html&amp;usg=__kwqPKt08Ib_-UtF1U663bNmlg2Q=&amp;h=400&amp;w=301&amp;sz=19&amp;hl=en&amp;start=13&amp;tbnid=_FN8oryhQDV9ZM:&amp;tbnh=124&amp;tbnw=93&amp;prev=/images?q=red+hair&amp;gbv=2&amp;hl=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z.about.com/d/menshair/1/0/-/1/-/-/bald2.jpg&amp;imgrefurl=http://menshair.about.com/od/picturegalleries/ig/Bald-and-Shaved-Men/Bald-Men---Young-and-Shaved.htm&amp;usg=__IVbHGCyg4KkGHMN2tlfYqYnIVM8=&amp;h=500&amp;w=500&amp;sz=31&amp;hl=en&amp;start=39&amp;tbnid=Yw3VBMK3UfEkTM:&amp;tbnh=130&amp;tbnw=130&amp;prev=/images?q=bald&amp;gbv=2&amp;ndsp=20&amp;hl=en&amp;sa=N&amp;start=2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2.bp.blogspot.com/_koFXUwAbrrI/RnHbgdL10jI/AAAAAAAAArQ/CRHcexXD_ak/s400/SharifahAmaniBald.jpe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eviantart.com/download/75004287/Dark_Blue_eyes_by_awakenbydreams_stock.jpg&amp;imgrefurl=http://www.sodahead.com/blog/68017/what-color-are-your-eyes/&amp;usg=__Qm4op0fpZ4NOyBEH9d0XugkSQdk=&amp;h=1117&amp;w=1441&amp;sz=224&amp;hl=en&amp;start=14&amp;tbnid=io0LA5nnQVdYPM:&amp;tbnh=116&amp;tbnw=150&amp;prev=/images?q=blue+eyes&amp;gbv=2&amp;hl=e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upload.wikimedia.org/wikipedia/commons/1/18/Blue-green_eyes.jpg&amp;imgrefurl=http://commons.wikimedia.org/wiki/File:Blue-green_eyes.jpg&amp;usg=__cJeLkl3euJpp2ge_JE7Tqa3xBM4=&amp;h=350&amp;w=1198&amp;sz=41&amp;hl=en&amp;start=16&amp;tbnid=aq59daj8VhPoNM:&amp;tbnh=44&amp;tbnw=150&amp;prev=/images?q=green+eyes&amp;gbv=2&amp;hl=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lightproofbox.com/wp-content/20050819_browneyes.jpg&amp;imgrefurl=http://lightproofbox.com/brown-eyes/&amp;usg=__Fj89yWjtgmVvjGoqb3vmy9za3lg=&amp;h=600&amp;w=750&amp;sz=159&amp;hl=en&amp;start=118&amp;tbnid=UWIAxEo8nPuGYM:&amp;tbnh=113&amp;tbnw=141&amp;prev=/images?q=brown+eyes&amp;gbv=2&amp;ndsp=20&amp;hl=en&amp;sa=N&amp;start=100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¿Cómo e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2071440"/>
            <a:ext cx="8072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8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 ?</a:t>
            </a:r>
            <a:endParaRPr b="0" lang="en-US" sz="8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C:\Users\Mum\AppData\Local\Microsoft\Windows\Temporary Internet Files\Content.IE5\CZTX594J\MMj02827480000[1].gif"/>
          <p:cNvPicPr/>
          <p:nvPr/>
        </p:nvPicPr>
        <p:blipFill>
          <a:blip r:embed="rId2"/>
          <a:stretch/>
        </p:blipFill>
        <p:spPr>
          <a:xfrm>
            <a:off x="2928960" y="1928880"/>
            <a:ext cx="350028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51280" y="6453360"/>
            <a:ext cx="52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4533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©MFL Sunderland 2009 MC http://www.sunderlandschools.org/mfl-sunderland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6572160" y="2714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baj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28800" y="1214280"/>
            <a:ext cx="150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alt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http://tbn3.google.com/images?q=tbn:Z-8PNh1CykS-zM:http://image46.webshots.com/47/0/45/82/2684045820094096634lnpuGm_f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0200" y="714240"/>
            <a:ext cx="40626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000080" y="1071720"/>
            <a:ext cx="18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alta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572160" y="2714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baj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http://tbn3.google.com/images?q=tbn:FRanLzy4zI9DDM:http://www.joe-ks.com/archives_jun2004/7.4ftWoman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28920" y="1000080"/>
            <a:ext cx="407196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tbn3.google.com/images?q=tbn:s1FnYCpXJ-HYhM:http://wwwdelivery.superstock.com/WI/223/1804/PreviewComp/SuperStock_1804R-769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50004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tbn0.google.com/images?q=tbn:x20wABqFnGdwjM:http://media.ebaumsworld.com/picture/stewieispimpin/FatBurg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6200" y="1000080"/>
            <a:ext cx="3936960" cy="3714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68000" y="4500720"/>
            <a:ext cx="35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delgad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627880" y="5000760"/>
            <a:ext cx="3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gord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tbn1.google.com/images?q=tbn:V9cF0kIipri3nM:http://www.gotwaldo.com/ww/wp-content/uploads/2008/06/news_pagepublication_fat-woma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29200" y="1000080"/>
            <a:ext cx="2643480" cy="4210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5779080" y="5357880"/>
            <a:ext cx="29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gord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76280" y="4857840"/>
            <a:ext cx="352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delgad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http://tbn0.google.com/images?q=tbn:dfgED4383WkgYM:http://www.wonderquest.com/2006-12-05-american-woma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28800" y="928800"/>
            <a:ext cx="25002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tbn0.google.com/images?q=tbn:vyVMtS1vcuGtHM:http://www.alive.com/site_12/279_78_0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57880" y="785880"/>
            <a:ext cx="302256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tbn3.google.com/images?q=tbn:SuF_Vq0kbFf1xM:http://media.rd.com/rd/images/rdc/slideshows/farming/farming-11-s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171468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518400" y="5500800"/>
            <a:ext cx="398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promedi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955760" y="4572000"/>
            <a:ext cx="39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promedi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2087640" y="642960"/>
            <a:ext cx="269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bell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345200" y="5429160"/>
            <a:ext cx="225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fe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http://tbn0.google.com/images?q=tbn:bSYc8T6pAi5MUM:http://users.bandzoogle.com/RobertKellerComedian/images/content/Gabriel.bm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8584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tbn2.google.com/images?q=tbn:qH1qtm-A-fFVuM:http://www.funpicsfree.com/photogallery/funny-pics-0924/funny-pic-ugly-ma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00080" y="3071880"/>
            <a:ext cx="3305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6451920" y="4214880"/>
            <a:ext cx="266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bell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81520" y="1071720"/>
            <a:ext cx="222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fe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http://tbn2.google.com/images?q=tbn:MV8qGeuTE9biAM:http://www.melbourne.indymedia.org/uploads/pig-ugly-woman-fat-face.jpgnpjjn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2000160"/>
            <a:ext cx="3143520" cy="409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http://tbn1.google.com/images?q=tbn:-k2tmugFwo58XM:http://3.bp.blogspot.com/_BwhIxvRk96Q/SU5IXp9otfI/AAAAAAAACnE/7HC87sCEKUE/s400/aishwarya-rai-4.jpg"/>
          <p:cNvPicPr/>
          <p:nvPr/>
        </p:nvPicPr>
        <p:blipFill>
          <a:blip r:embed="rId4"/>
          <a:stretch/>
        </p:blipFill>
        <p:spPr>
          <a:xfrm>
            <a:off x="4286160" y="714240"/>
            <a:ext cx="43815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el pelo negr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43120" y="15001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857240" y="500040"/>
            <a:ext cx="59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el pelo castañ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10" descr="http://tbn1.google.com/images?q=tbn:9OF1nqsuK1sACM:http://img.photobucket.com/albums/v235/cheron_cmc/sharon_xie/KingoneBrownHai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28960" y="1785960"/>
            <a:ext cx="31431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932840" y="428760"/>
            <a:ext cx="542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el pelo rubi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http://tbn1.google.com/images?q=tbn:wEkVCKyDYMEYAM:http://home.comcast.net/~yoram7/May/May_04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00240" y="1500120"/>
            <a:ext cx="34290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92400" y="500040"/>
            <a:ext cx="50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el pelo roj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http://tbn0.google.com/images?q=tbn:_FN8oryhQDV9ZM:http://dougbarber.com/red/db_me1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71880" y="1643040"/>
            <a:ext cx="3357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bn1.google.com/images?q=tbn:Yw3VBMK3UfEkTM:http://z.about.com/d/menshair/1/0/-/1/-/-/bald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071720"/>
            <a:ext cx="3714840" cy="3714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71680" y="214200"/>
            <a:ext cx="514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calv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2000160"/>
            <a:ext cx="3726000" cy="3548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5521320" y="571500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calv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687320" y="571680"/>
            <a:ext cx="59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los ojos azule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tbn3.google.com/images?q=tbn:io0LA5nnQVdYPM:http://www.deviantart.com/download/75004287/Dark_Blue_eyes_by_awakenbydreams_stoc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85960" y="1857240"/>
            <a:ext cx="557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635480" y="642960"/>
            <a:ext cx="601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los ojos verde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http://tbn1.google.com/images?q=tbn:aq59daj8VhPoNM:http://upload.wikimedia.org/wikipedia/commons/1/18/Blue-green_eye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4280" y="2286000"/>
            <a:ext cx="6818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424520" y="500040"/>
            <a:ext cx="68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los ojos marrone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6" descr="http://tbn0.google.com/images?q=tbn:UWIAxEo8nPuGYM:http://lightproofbox.com/wp-content/20050819_browneye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3080" y="1785960"/>
            <a:ext cx="51706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48:08Z</dcterms:created>
  <dc:creator>Mum</dc:creator>
  <dc:description/>
  <dc:language>en-US</dc:language>
  <cp:lastModifiedBy>Clare</cp:lastModifiedBy>
  <dcterms:modified xsi:type="dcterms:W3CDTF">2009-06-07T20:36:52Z</dcterms:modified>
  <cp:revision>18</cp:revision>
  <dc:subject/>
  <dc:title>¿Cómo es?</dc:title>
</cp:coreProperties>
</file>