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8EFD-9EEF-4CDC-82E9-BD04C2CFE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3754-55EE-403D-B757-395968B7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33B9-1C9E-4919-B4C6-A92A3C6B0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E8B8-4B29-4230-9F0F-34993B19D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DE66-BA25-4736-ABEB-EAF35F78D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D05E-4EB9-4585-B3EA-876129AB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1595-EE33-471B-B4EC-06F2BA93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4DD50-15F5-444C-AB1D-D9DC1250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1758E-8F13-45E0-A827-ADD7F256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A1A7D-32F7-4D4C-8FAA-CD901538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1660-EFA2-432A-AA80-C41703FB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61D7-4B00-43BC-A12B-AB8132B3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1C6B-CB3B-4A67-8FAB-45376B7D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31BF-1F41-442E-B5AF-5B85C48A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39CA-E264-4356-8E67-AD0374C4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A03F-709E-47F6-8935-BA47EB2A3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9612-E8E0-4101-9A25-5EA817339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F64A-316A-48D9-BDA5-3FF9849F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D726-D33A-4EAB-A2BF-54D1265D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A279-456D-48E7-A4AC-8C7B3548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5844-0A1E-437A-9B2C-5F038B6D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5EB2-0DA1-4A91-A030-47FA4EED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A984-C65E-4E55-99C3-7F50544F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2AD4-0FF3-438B-B7F6-6269E714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D863-FE7A-4EB6-A568-A9E79CAEEC4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D362-F135-47C2-833F-6E4EB249E70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86868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ahoma"/>
              </a:rPr>
              <a:t>contémos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15364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Tahoma"/>
              </a:rPr>
              <a:t>Los Números 1-20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62120" y="0"/>
            <a:ext cx="73911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3733920"/>
            <a:ext cx="7315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ahoma"/>
              </a:rPr>
              <a:t>nuev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Bar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4000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62120" y="0"/>
            <a:ext cx="73911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3733920"/>
            <a:ext cx="3962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ahoma"/>
              </a:rPr>
              <a:t>diez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Bar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62120" y="0"/>
            <a:ext cx="73911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3733920"/>
            <a:ext cx="5943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ahoma"/>
              </a:rPr>
              <a:t>onc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Bar dir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62120" y="0"/>
            <a:ext cx="73911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3733920"/>
            <a:ext cx="6705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ahoma"/>
              </a:rPr>
              <a:t>doc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Bar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62120" y="0"/>
            <a:ext cx="73911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3733920"/>
            <a:ext cx="5943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ahoma"/>
              </a:rPr>
              <a:t>trec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Bar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0"/>
            <a:ext cx="73911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76520" y="3733920"/>
            <a:ext cx="63244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ahoma"/>
              </a:rPr>
              <a:t>catorc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Bar dir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62120" y="0"/>
            <a:ext cx="73911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3733920"/>
            <a:ext cx="6248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ahoma"/>
              </a:rPr>
              <a:t>quinc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Bar dir="ver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62120" y="0"/>
            <a:ext cx="73911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733920"/>
            <a:ext cx="9144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ahoma"/>
              </a:rPr>
              <a:t>dieciséi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Bar dir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102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62120" y="0"/>
            <a:ext cx="73911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733920"/>
            <a:ext cx="91440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4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500" spc="-1" strike="noStrike">
                <a:solidFill>
                  <a:srgbClr val="000000"/>
                </a:solidFill>
                <a:latin typeface="Tahoma"/>
              </a:rPr>
              <a:t>diecisiete</a:t>
            </a:r>
            <a:endParaRPr b="0" lang="en-US" sz="1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Bar dir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62120" y="0"/>
            <a:ext cx="73911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-228600" y="3809880"/>
            <a:ext cx="93726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4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500" spc="-1" strike="noStrike">
                <a:solidFill>
                  <a:srgbClr val="000000"/>
                </a:solidFill>
                <a:latin typeface="Tahoma"/>
              </a:rPr>
              <a:t>dieciocho</a:t>
            </a:r>
            <a:endParaRPr b="0" lang="en-US" sz="1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Bar dir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762120" y="0"/>
            <a:ext cx="73911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3733920"/>
            <a:ext cx="3962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ahoma"/>
              </a:rPr>
              <a:t>un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Bar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62120" y="0"/>
            <a:ext cx="73911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7339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Tahoma"/>
              </a:rPr>
              <a:t>diecinueve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Bar dir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62120" y="0"/>
            <a:ext cx="73911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3733920"/>
            <a:ext cx="6553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ahoma"/>
              </a:rPr>
              <a:t>veint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Bar dir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62120" y="0"/>
            <a:ext cx="73911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733920"/>
            <a:ext cx="3962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ahoma"/>
              </a:rPr>
              <a:t>do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Ba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0"/>
            <a:ext cx="73911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90920" y="3733920"/>
            <a:ext cx="3962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ahoma"/>
              </a:rPr>
              <a:t>tre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Bar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2120" y="0"/>
            <a:ext cx="73911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3733920"/>
            <a:ext cx="6019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ahoma"/>
              </a:rPr>
              <a:t>cuatr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Bar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2120" y="0"/>
            <a:ext cx="73911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3733920"/>
            <a:ext cx="6324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ahoma"/>
              </a:rPr>
              <a:t>cinc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Bar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62120" y="0"/>
            <a:ext cx="73911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90920" y="3733920"/>
            <a:ext cx="3962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ahoma"/>
              </a:rPr>
              <a:t>sei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Bar dir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62120" y="0"/>
            <a:ext cx="73911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3733920"/>
            <a:ext cx="6095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ahoma"/>
              </a:rPr>
              <a:t>siet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Bar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62120" y="0"/>
            <a:ext cx="73911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3733920"/>
            <a:ext cx="5790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ahoma"/>
              </a:rPr>
              <a:t>och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Bar dir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5T12:45:55Z</dcterms:created>
  <dc:creator>Student</dc:creator>
  <dc:description/>
  <dc:language>en-US</dc:language>
  <cp:lastModifiedBy>CSeccombe</cp:lastModifiedBy>
  <dcterms:modified xsi:type="dcterms:W3CDTF">2005-04-05T12:23:10Z</dcterms:modified>
  <cp:revision>17</cp:revision>
  <dc:subject/>
  <dc:title>contémos</dc:title>
</cp:coreProperties>
</file>