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00E-4D37-45A8-81DD-46596A23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1AF-2CED-455D-B3EF-B30B9F06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633-CEED-4C07-8D86-F08B11D8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E6E-D1AE-4BCA-B720-091D837E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780D-39D8-4202-BDE5-90008154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4805-5B35-4E3B-A177-C358E5D7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695-C6EC-425C-8A47-5F4F3B96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EDA-AC37-4F34-B3A0-C0A879D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C011-8374-4E15-90D7-9F08076D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F17D-4A53-49DE-A791-A5E7E528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0B2F-FF6F-49BC-BBA3-85F3F107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3AB-A3BB-415E-B3EB-251A1DC1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1FC7-C396-4C6A-A391-86FAA918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AD6F-772A-4E0D-8B4D-2EF20411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085C-A672-468C-BEDE-AFD4F201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CF6C-A5E6-4F5C-B23E-AB81E4C3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7F24-5490-4764-B9A5-FF24EA30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196-F51D-4DD3-8FB2-4F0F7A3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E71-93AE-438E-91FE-560DB9F2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D6B-6D56-4670-9DD3-D1323B1A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9F4-4141-4DED-82EE-AFE40C26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F61-59B8-47DD-9494-EC5772FA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FFA-3DB9-40D9-B5E3-F0617734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FA7-AEC7-4683-8319-77D5EE34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B24-A5F1-4964-B937-E102D5BB01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5659-358A-4FF8-AE86-5F63A383EE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ahoma"/>
              </a:rPr>
              <a:t>contémo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ahoma"/>
              </a:rPr>
              <a:t>Los Números 1-20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733920"/>
            <a:ext cx="731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nuev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diez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733920"/>
            <a:ext cx="5943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on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70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do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733920"/>
            <a:ext cx="5943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tre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3733920"/>
            <a:ext cx="6324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cator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3733920"/>
            <a:ext cx="6248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quin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73392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dieciséi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0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73392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Tahoma"/>
              </a:rPr>
              <a:t>diecisiete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228600" y="3809880"/>
            <a:ext cx="93726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Tahoma"/>
              </a:rPr>
              <a:t>dieciocho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un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ahoma"/>
              </a:rPr>
              <a:t>diecinuev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3733920"/>
            <a:ext cx="655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veint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do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tre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733920"/>
            <a:ext cx="6019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cuatr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733920"/>
            <a:ext cx="632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cinc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sei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733920"/>
            <a:ext cx="6095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siet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733920"/>
            <a:ext cx="579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och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2:45:55Z</dcterms:created>
  <dc:creator>Student</dc:creator>
  <dc:description/>
  <dc:language>en-US</dc:language>
  <cp:lastModifiedBy>CSeccombe</cp:lastModifiedBy>
  <dcterms:modified xsi:type="dcterms:W3CDTF">2005-04-05T12:23:10Z</dcterms:modified>
  <cp:revision>17</cp:revision>
  <dc:subject/>
  <dc:title>contémos</dc:title>
</cp:coreProperties>
</file>