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D6D-A007-4A67-816D-54E8E4EF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A04-299D-4944-AD16-D1239EEF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391-C7DC-46CC-94C9-8AE86696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C6B-5AF7-452B-9E08-75C049C3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54D-61B1-47A3-8DA0-061EDEFD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57D-BF13-4BF3-8BA6-27A60E8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39A-5087-44A4-BA86-0F44B0EC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9E6-4AE2-449D-BCED-7ED89FD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244-7431-4012-B6CD-8BD32A33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66D-86E3-4B41-BDCD-87B90F1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874-52E0-45E3-81CB-F00D1F26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3A5-FF99-4A4C-85C1-9DEBB50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F527F-C466-4EF2-9585-6FBBDDB23CA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B8B6D-7E7B-45DC-9F60-78B784101D4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 rot="20163000">
            <a:off x="-248760" y="1606680"/>
            <a:ext cx="64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La Fami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the-simpsons-2.png"/>
          <p:cNvPicPr/>
          <p:nvPr/>
        </p:nvPicPr>
        <p:blipFill>
          <a:blip r:embed="rId1"/>
          <a:stretch/>
        </p:blipFill>
        <p:spPr>
          <a:xfrm>
            <a:off x="4602240" y="1663560"/>
            <a:ext cx="45417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8"/>
          <p:cNvSpPr/>
          <p:nvPr/>
        </p:nvSpPr>
        <p:spPr>
          <a:xfrm>
            <a:off x="388800" y="3097080"/>
            <a:ext cx="5118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el tí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Herb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602320" y="1995480"/>
            <a:ext cx="35416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329520" y="1814400"/>
            <a:ext cx="2995560" cy="361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1814400"/>
            <a:ext cx="3135240" cy="3225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2452680" y="1982880"/>
            <a:ext cx="456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los pad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259680" y="1446120"/>
            <a:ext cx="2698560" cy="35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191304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3416400" y="3971880"/>
            <a:ext cx="2843280" cy="2720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452680" y="1982880"/>
            <a:ext cx="456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los niñ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665760" y="1814400"/>
            <a:ext cx="2995920" cy="361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1814400"/>
            <a:ext cx="3135240" cy="32259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2317680" y="32446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Arial"/>
                <a:ea typeface="Arial"/>
              </a:rPr>
              <a:t>el mari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Homer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M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665760" y="1814400"/>
            <a:ext cx="2995920" cy="361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0" y="1814400"/>
            <a:ext cx="3135240" cy="3225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2317680" y="28274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Arial"/>
                <a:ea typeface="Arial"/>
              </a:rPr>
              <a:t>la muj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Marge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Ho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259680" y="1446120"/>
            <a:ext cx="2698560" cy="35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0" y="191304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528920" y="3174840"/>
            <a:ext cx="61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el herman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Bart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Li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 rot="19951200">
            <a:off x="5469120" y="4952880"/>
            <a:ext cx="2390760" cy="8251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800000"/>
                </a:solidFill>
                <a:latin typeface="Arial"/>
                <a:ea typeface="Arial"/>
              </a:rPr>
              <a:t>may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06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259680" y="1446120"/>
            <a:ext cx="2698560" cy="351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0" y="191304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1749600" y="3195720"/>
            <a:ext cx="57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la herma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Lisa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B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 rot="19951200">
            <a:off x="5089680" y="5032440"/>
            <a:ext cx="3116160" cy="8251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800000"/>
                </a:solidFill>
                <a:latin typeface="Arial"/>
                <a:ea typeface="Arial"/>
              </a:rPr>
              <a:t>pequeñ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327720" y="1814400"/>
            <a:ext cx="2470320" cy="31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0" y="191304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749600" y="3195720"/>
            <a:ext cx="57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la nie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Lisa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Abrah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259680" y="1446120"/>
            <a:ext cx="2698560" cy="3514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720800" y="3254400"/>
            <a:ext cx="570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ing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 B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208080" y="181440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5875200" y="1666800"/>
            <a:ext cx="3095640" cy="317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8920" y="2644920"/>
            <a:ext cx="2409840" cy="23079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720800" y="3254400"/>
            <a:ext cx="570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la sobr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Maggie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 Se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111640" y="1995480"/>
            <a:ext cx="4032360" cy="4862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46080" y="3097080"/>
            <a:ext cx="4560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el padr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Homer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259680" y="1254240"/>
            <a:ext cx="2698560" cy="351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655560" y="155088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1749600" y="3029040"/>
            <a:ext cx="570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  <a:ea typeface="Arial"/>
              </a:rPr>
              <a:t>dos herman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Bart tie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388800" y="4037040"/>
            <a:ext cx="1928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566040" y="1752480"/>
            <a:ext cx="1803240" cy="217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79600" y="1752480"/>
            <a:ext cx="1815840" cy="187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6566040" y="3929040"/>
            <a:ext cx="1592280" cy="207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264960" y="3929040"/>
            <a:ext cx="1913040" cy="1911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3560760" y="1082520"/>
            <a:ext cx="1398600" cy="133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6"/>
          <a:stretch/>
        </p:blipFill>
        <p:spPr>
          <a:xfrm>
            <a:off x="4259160" y="4086360"/>
            <a:ext cx="1738440" cy="2217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7"/>
          <a:stretch/>
        </p:blipFill>
        <p:spPr>
          <a:xfrm>
            <a:off x="2178000" y="2813040"/>
            <a:ext cx="217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378320" y="1639800"/>
            <a:ext cx="4765680" cy="3465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946080" y="3097080"/>
            <a:ext cx="4560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un hijo únic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Milhouse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378320" y="1639800"/>
            <a:ext cx="4765680" cy="3465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671400" y="3097080"/>
            <a:ext cx="512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no tiene hermano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Milhous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654120" y="1704960"/>
            <a:ext cx="3224160" cy="379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2811600" y="1704960"/>
            <a:ext cx="659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las herman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gemel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2540160" y="3753000"/>
            <a:ext cx="686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lo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gemel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3"/>
          <p:cNvSpPr/>
          <p:nvPr/>
        </p:nvSpPr>
        <p:spPr>
          <a:xfrm>
            <a:off x="298440" y="1901880"/>
            <a:ext cx="659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la herma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298440" y="3963960"/>
            <a:ext cx="686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el herman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 rot="21192600">
            <a:off x="5158800" y="1781280"/>
            <a:ext cx="195408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000" spc="-1" strike="noStrike">
                <a:solidFill>
                  <a:srgbClr val="800000"/>
                </a:solidFill>
                <a:latin typeface="Arial"/>
              </a:rPr>
              <a:t>ast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 rot="20631600">
            <a:off x="5396400" y="3714120"/>
            <a:ext cx="210816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000" spc="-1" strike="noStrike">
                <a:solidFill>
                  <a:srgbClr val="800000"/>
                </a:solidFill>
                <a:latin typeface="Arial"/>
              </a:rPr>
              <a:t>ast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490760" y="2600280"/>
            <a:ext cx="667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¡Ahora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te toca a ti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80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¿Tienes herman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52280" y="3344760"/>
            <a:ext cx="88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¿Cómo se llama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52280" y="18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"/>
                <a:ea typeface="Arial"/>
              </a:rPr>
              <a:t>Sí, tengo un…/una…/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"/>
                <a:ea typeface="Arial"/>
              </a:rPr>
              <a:t>No, soy hijo único/hija ú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4268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"/>
                <a:ea typeface="Arial"/>
              </a:rPr>
              <a:t>Mi …. se llam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"/>
                <a:ea typeface="Arial"/>
              </a:rPr>
              <a:t>Mis … se llam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338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¿Tienes herman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31720" y="1527120"/>
            <a:ext cx="430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í, teng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 hermano / dos herman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equeño / peque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ayor /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a hermana / dos herman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equeña /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ayor /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 herman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a hermana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834080" y="1492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No, soy un hij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No, soy una hija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rcRect l="0" t="17337" r="0" b="0"/>
          <a:stretch/>
        </p:blipFill>
        <p:spPr>
          <a:xfrm>
            <a:off x="949320" y="1204920"/>
            <a:ext cx="7597800" cy="5653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El Árbol Genealóg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446120"/>
            <a:ext cx="5257800" cy="5411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400640" y="2933640"/>
            <a:ext cx="4562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madr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4583160" y="1995480"/>
            <a:ext cx="41655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Marge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246240" y="595440"/>
            <a:ext cx="889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art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Hom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rge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Lisa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braham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Maggi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lma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Bar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sa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Ling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ng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Marg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mer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Marge y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Maggi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rge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Lisa y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Patty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art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Lisa,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Homer y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Abraham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a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Abraham,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Homer y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Mag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946080" y="2933640"/>
            <a:ext cx="4560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el hij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946080" y="1995480"/>
            <a:ext cx="41655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Bart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111640" y="1612800"/>
            <a:ext cx="402768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4400640" y="2933640"/>
            <a:ext cx="4562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hij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583160" y="1995480"/>
            <a:ext cx="41655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Lisa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584360"/>
            <a:ext cx="527364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4400640" y="2933640"/>
            <a:ext cx="4562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niñ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583160" y="1995480"/>
            <a:ext cx="41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Maggie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176040" y="2475000"/>
            <a:ext cx="4407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5081760" y="1446120"/>
            <a:ext cx="3716280" cy="4743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388800" y="3097080"/>
            <a:ext cx="5118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el abuel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Abe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-708120" y="1459080"/>
            <a:ext cx="5423040" cy="5398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460680" y="2933640"/>
            <a:ext cx="5502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abuel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583160" y="1995480"/>
            <a:ext cx="41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Mona 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4400640" y="2933640"/>
            <a:ext cx="4562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tí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583160" y="1995480"/>
            <a:ext cx="41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Selma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0" y="1778040"/>
            <a:ext cx="4954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9:08:23Z</dcterms:created>
  <dc:creator>Terri Dunne</dc:creator>
  <dc:description/>
  <dc:language>en-US</dc:language>
  <cp:lastModifiedBy>Clare</cp:lastModifiedBy>
  <dcterms:modified xsi:type="dcterms:W3CDTF">2012-05-04T11:03:42Z</dcterms:modified>
  <cp:revision>21</cp:revision>
  <dc:subject/>
  <dc:title>Slide 1</dc:title>
</cp:coreProperties>
</file>