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CCFC-B5DB-464D-8B18-E532095B0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8701-5E8A-46BC-9E15-EA9580AA7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4CA-4A49-4247-B7FE-B346CBC4A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E525-89DD-4740-8855-48E0593F1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3F90-C0FC-4C37-BF72-8D2045186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3C1-14D3-4FCC-906F-454DF042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1AF-2F9D-473F-887B-D0631E2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C2F08-4E08-4D73-968B-CC337C3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D24C-D64A-4781-969C-6C3784F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B3545-0EBF-4B2C-A76D-F4E8BE0B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CCCA9-877D-4C9C-98A3-E2C17C17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2F5D8-90C2-48EC-A92D-70F758FF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AD5AA-9B88-4BAD-900B-7F2E33F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23E5F-6E5F-4C6B-870B-F4706662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DD9AF-FD7A-4331-8776-53AC4A09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19971-2E66-41E1-BF16-53275366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878B9-38F0-4196-B7A9-69ECDC26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E4F-212E-406A-B10B-C3688CE1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1ACA3-1D56-469D-BAC2-66D243C6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CEFF2-E28B-4418-9FA7-AD375918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5174C-51C7-443A-8E1B-727FACA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FBF15-04A5-45EC-B16E-1CD6C14B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AAB3B-4C91-4FE1-AA2E-6E99032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DBDFD-6E19-463C-B9D7-53D21D16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F99C5-6D95-4880-9BE6-5330030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AD8C3-14B7-4EAB-BB66-52BA74F8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B4C85-10E9-4B75-9DA9-0F3F2D01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48D33-D044-4363-A3EE-E92BD97D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AE6-7201-4141-BA0E-4F3D6185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951CD-CE06-4F56-BBDE-74815A09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5367A-FC12-4373-8381-B1F84A6D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E40F-EE58-4002-87D3-E3A02B03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6C23-2B6D-4C9B-866A-6EA790C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EA6C7-38A1-461E-B92F-88627A61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40146-B5E1-4188-94B8-5707BE21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B9C82-F393-44F8-9BD5-9DBDE060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97A0E-8BD4-4DEC-B223-5B4CE993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15DD1-A938-4535-ACCE-4DF8AA4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06FBD-A404-4860-BF01-7C3C881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B60D-4AED-4B85-885D-EA20E919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46F22-1367-4AD8-89B9-A7310F1E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5015F-96F3-4FC7-9B7C-F6935582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7AFA-3388-421D-BFD6-D8AB1A73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C0BB-293C-4BEC-9C0F-E020DE5E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74B6-CB69-43CD-974F-1BE3D4E2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FACD-EC53-416F-8339-F10F129C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5751-3924-47AB-8F86-260EE181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8D83-FF2A-4768-9F07-02C6E1C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3754-7970-40A0-84D8-1043F7E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5D8-A3B8-4141-9087-8B7FF82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3A0-32FE-4EDD-9952-A6832E0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2083-AC00-4A8C-9EF9-FCFEC7E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4096-140D-4361-94B5-489897F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A443-9733-4A39-A2C0-9FD04B84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54A1-72DB-457C-9369-7419E8A9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5FF2-DAB7-41BB-8D9B-DC257CD1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5270-A1EE-4005-9905-04C66C8E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A1F5-AF8B-477B-9A7C-D1E98A35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469D-F1D1-4553-8CA3-58D91488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5082-FEA1-46F4-AE30-0EEC9BEA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448-EF91-4F49-8F3F-CC2D4E0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DE9F-991D-462B-AD9F-DA43582F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5B81-1C34-4310-9C6A-0C6123C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CCF9-6FFC-4867-A1E2-3C91773F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2299-4B51-428F-9C17-B5E4F11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6BF9-502D-4826-8C7C-95C02AB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E978-ACA8-41CA-A457-5B0AB3DB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E2B6-2170-4FDA-A3FC-268D933D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C96E-6D34-4FFD-92AB-DBBB1042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D4A5-A915-4329-91AD-C0DFEE9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0D21-0902-4343-8EF6-7E6CAF46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FDD-B13C-47E7-A83D-C85ABDA5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A8D2-B0B0-4938-A25A-01AC70C9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0D6D-8EC7-4C5E-B6D4-77B760C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1B08-2D81-4F44-A0B2-83256AE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ADA55-DCEC-4A34-A78D-4257007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40FB-0964-424A-A0E8-15D97D38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157F-502C-46A0-9FA4-94CB1E17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74B8-D90D-4404-AF8B-6D4EBBD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906FC-9BEB-4EEF-A90A-5D92C903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C7F7-2F1C-494F-94FE-B8240F28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FB5E-FF3C-4F0E-9683-65483A37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103-D5F7-40D3-B0A2-1414E569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57BA5-5F51-4FE1-9D50-FC0F8160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BBBF2-ACA5-4B9D-BBC2-69313656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C3C00-8013-4B71-AF8C-EAA62D8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EBF0D-97B3-4B54-A7D3-C240CA8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A04C-5DC0-4F4A-B92A-5B6947FD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D396-A664-492B-AFEB-FC24BE4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03C85-3571-4329-B95B-C416600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6D1FF-8845-42B1-BE42-60696E4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4A07-E1DA-4432-AD72-1412C34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6C0DB-2655-4366-AA53-CE44AEA2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A9B-1ABD-40A4-810B-CE7B540D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6496-9A12-4373-A012-A434E39D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803F-C984-4FAF-AEFC-80BD69F4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CE72-78EF-472F-A9E1-C62E8A4C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B5A7-F640-40A5-A52A-F72819A1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9D52-0B01-44A4-9DEA-82EE69D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511C-0C5D-4896-9EEF-31C00648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B981-1F32-46CA-8162-E505FFCF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7DC42-180C-4902-B48E-742CE9B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9CF6F-81CC-40EA-8FA0-F2FFE5F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B501-BE1B-4C18-8727-764368E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95F-E343-4EBE-8653-2F794B0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4022-346D-43EF-A345-F3B791CF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FED6-EA24-4C4E-BD5F-B830DFCB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3343-8002-4318-A18E-7975F01E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8E407-7515-4E3A-BCF4-55BBE0BB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1EBEA-C056-4A89-ACF6-947D39AB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3B14-3697-4C16-A55F-2CB21D7D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620B-3763-49FA-A833-377419D1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00F8-5A3F-451B-AA65-9E84F55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DD9BE-B921-4124-A418-D6E711D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CDA2A-5928-4CFE-A227-ED26B93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15E-2737-4869-8443-00D25A77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297C-028D-457B-A143-77F6CA8D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E946-A75C-4CF2-8703-4D6D697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154CD-C607-4BAE-B25E-B22E939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22AE-2431-4C79-A42E-3AE4EE04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2070F-0EE3-44EC-BB89-61891026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33F52-BECF-440D-9796-E8F49899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9047A-450C-484D-BB57-E23FFB9F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123BA-5199-479F-8025-CB62EE70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8C42-3FFB-4E49-8C5D-B641F066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07BDF-C1A6-4982-BA90-BFAABA3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042-349B-4A8F-A588-3281F2F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0D23A-A54B-458E-BC4E-3FC4054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27BFE-DA51-4ABA-AB93-2D47226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515E-240A-4889-8328-F63F889C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7426E-6B60-40E5-B133-90C4F12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B0E2-EE49-4E10-86FC-11122B4A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42770-B434-485B-B9E2-3182C819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AF451-0DAC-430A-9BB4-E82EB64A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E46EB-F82C-45EF-8CF6-A90DD73F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4786-DBD1-4864-B053-23CB7CFD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B96E2-E5BF-48B4-B449-06758DF8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7ED-9367-44DF-B43F-5E4BDF0E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C745-9C84-4ABB-8438-636436A7B8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D4E-E65A-4EFB-9C6A-6EAB79128F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858-B7A5-4FBF-BC8E-52061E2EAB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F3A-E2B4-4A44-A657-2662248F42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FCA-9AA0-469C-A914-D9DEC31DE1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D77-5B00-48E5-AA06-7AA325AD2F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D2EF-C670-4AC7-B38F-B09E38F3DB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87C-3B97-49F6-B191-FEB3475995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EA11-521B-4073-B327-3EF6FE7BDF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175F-789E-4DC5-A6C4-8F398E886F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09680" y="304920"/>
            <a:ext cx="835344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ork out the following clues to find the letters for              the mystery wor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s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lottery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3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preterite of the verb ‘se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6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videogame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6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whe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infinitive ‘to walk (a dog)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4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for ‘I wash’ (as in ‘the car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ok up this new word in the dictionary – what does it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73960" y="33336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24000" y="652464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LJackson 2013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09680" y="304920"/>
            <a:ext cx="835344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ork out the following clues to find the letters for              the mystery wor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preterite of the verb ‘se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docto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3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conditional of the verb ‘i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policema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ambitiou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5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conditional of the verb ‘se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ok up this new word in the dictionary – what does it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61360" y="333360"/>
            <a:ext cx="1268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409680" y="304920"/>
            <a:ext cx="835344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ork out the following clues to find the letters for              the mystery wor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8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film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s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econd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panish word for ‘soap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documentary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4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new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9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televisio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advert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mystery word an how does it relate to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73960" y="333360"/>
            <a:ext cx="1268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409680" y="304920"/>
            <a:ext cx="8353440" cy="59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rite each of the mystery word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   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l word: ________________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aning: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61360" y="33336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2"/>
          <p:cNvSpPr/>
          <p:nvPr/>
        </p:nvSpPr>
        <p:spPr>
          <a:xfrm>
            <a:off x="179280" y="6246720"/>
            <a:ext cx="8785440" cy="53496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 u="sng">
                <a:solidFill>
                  <a:srgbClr val="000000"/>
                </a:solidFill>
                <a:uFillTx/>
                <a:latin typeface="Calibri"/>
              </a:rPr>
              <a:t>Extension</a:t>
            </a:r>
            <a:r>
              <a:rPr b="0" lang="es-ES_tradnl" sz="2300" spc="-1" strike="noStrike">
                <a:solidFill>
                  <a:srgbClr val="000000"/>
                </a:solidFill>
                <a:latin typeface="Calibri"/>
              </a:rPr>
              <a:t>: Can you create your own ‘clues’ to create a mystery wor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43:33Z</dcterms:created>
  <dc:creator>Luke Jackson</dc:creator>
  <dc:description/>
  <dc:language>en-US</dc:language>
  <cp:lastModifiedBy>Clare</cp:lastModifiedBy>
  <cp:lastPrinted>2012-05-29T15:58:42Z</cp:lastPrinted>
  <dcterms:modified xsi:type="dcterms:W3CDTF">2013-05-14T09:11:35Z</dcterms:modified>
  <cp:revision>93</cp:revision>
  <dc:subject/>
  <dc:title>Slide 1</dc:title>
</cp:coreProperties>
</file>