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AE02-38A8-4331-8B04-321813084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547-D4F9-44A9-AB57-561FA0831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39F-4333-4732-A286-196792373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058-0AA2-4C8A-A74B-DA4AFAA21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8D1-4581-46CD-87B8-AECDFBD0C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DB8-518A-4E30-A2AB-E20A71E0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0B2-B8FF-4919-8A26-7E114DD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ABF35-FFFC-42D6-8BDC-201C0B35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1710C-2BC7-432D-99BF-3B65223F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3A81-AF59-4394-8DE0-B3DFBC6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F0C3B-C67C-4F26-BD24-71C3E51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7E57-748D-4E10-A4DB-1219AA29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91CB5-89B8-4E57-9CD9-12B2BD8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11C0-5156-452C-81CD-4EC20204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2E2EA-E0DA-4FCE-B250-15133AC7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979F3-EE2C-4080-B2E9-1C093E15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F2C75-82FA-4298-819C-A26C68C1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926-849E-4C81-B349-4508DBE7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1854-63D7-4C56-9744-EE8D7A0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4C517-A598-47C8-BAE1-C3E3A7D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FF196-1988-4CCE-A8E3-B1A2BA9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C350-AE05-425F-A584-1A53387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1152B-2E54-4989-A4BF-B6AAC0A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C61AA-740B-42FE-8CE9-757C7F7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8894-C76E-4BDD-9895-1D0BBBA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3B108-58F3-4AF1-8E41-E9651A8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D11B7-4BC1-4EF9-92EB-1F018B41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762C8-9D55-4E2E-B16F-EABDE7A6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79E-9E5C-4D06-B006-A517D6FA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87958-58D0-4421-A81B-A69106D5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A27C-FAD6-477F-9F8E-DF62A02C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1422-A36A-4078-98FD-864364C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A453-7340-4875-A14D-4480ED3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E5345-CF81-4ADB-BFAA-51F29B6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4862B-5D1E-4D8F-B2EB-978F2F5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4F22-AC9D-4DBF-90BF-A7D99380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EFEAA-AF45-49ED-A065-E5DF1A4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32C87-0BE5-4C68-B7F7-F0B3566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D41EF-D745-4892-97DC-2359AEBD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2C8A-05FF-4FD5-9D15-60E6BE23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5D328-FF7F-4EAB-AFBC-A1F8973C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D9063-C799-4982-B74A-83FF948A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7F8D-1472-4925-A6B3-1E8103C9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5627-E08D-4CB6-85DB-1F4848A4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23F-2FD3-4A75-B50B-6F2F3CE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8B78-C430-4A1E-971E-088A86E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FBCC-8F60-4F64-9B78-DA50C82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BC25-7F0F-4A05-AF0C-61CFFD3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D5B-C7EC-4DEE-AF1A-0CCDF93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BBB-2C40-4586-B381-C4E66A46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3A3-A99B-44BC-A3DE-D66F1931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2629-8B01-4A64-97A8-CB52951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18D-3CE5-475D-B9C7-79ADC129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827A-C0FB-452C-A2E4-C9F7C578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796-B761-41C4-AEE8-6206A630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496D-DEBC-492B-B996-110B4E14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3476-9C5C-41BF-B4E7-291545B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D672-ADEA-4B50-9E1F-894BEC38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629E-6B75-470E-87CD-281C0CD4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3D0B-E141-4568-ACDF-26E490AC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17E-2414-4E59-9D54-9EF71E3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26D2-346F-4384-83CB-35D7D5AE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678E-1467-46A5-9888-A826CEF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D5C6-6572-444E-B435-CA78B43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1848-DC40-42AC-8E2F-49CF705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EBBC-2526-4206-98FF-10C54E3D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F14E-10DA-49F0-8B31-A39EA470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833C-6F75-48E0-9B1D-F0515A0B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2032-A9C6-4FF2-BFAE-FA391682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21CC-B429-4414-BDDE-14146F5B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71F8-86AD-44B4-8470-A2F2A77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D65-C6FC-480A-A7C8-51C227C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8675-7384-4042-9565-D4C0D023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5E45-8351-486F-BC18-A2CACF2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2AE0-9000-46EA-953D-AF9D0F73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1D0E-69E1-4482-855C-5E4BFE1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5B86-86E3-4419-AD40-1423933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308C-27BF-4E58-93D8-6925BEB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7469-922F-486E-914A-1035C06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C3B6-9A3F-4352-B613-88CB3F8A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B2F64-BFC5-4255-909A-C496371B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0C21B-053F-4851-8DD5-84EB761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D4E-095C-48D1-B85A-597FABE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EB8C-D4D9-4EB4-8B86-1F7AFFC0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BEF2-46A4-4CD7-B3F6-2609AD5D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E453-97C3-41B8-83F8-FE349FA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A558-4B83-460C-AFBC-475E525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8802-982B-4ABA-906B-8BD90CA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4A30-4C43-4E68-B6F8-E9AB7EF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EE20-4FF4-4F70-A115-C86E211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9F46-8635-437B-B45E-A80A253B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EAFB-AC79-4965-BD77-6EEA2DC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E356-4EF4-4C50-9446-829FEC70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D37-8358-461A-907D-865EF4B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1CB3-DE9E-4E27-AA9F-BCE71423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780C-0D34-40BD-B400-59CB34D5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9036-590B-4E9E-B5B8-4DF27F47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999B-48B6-494B-BA77-0AB030F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7A1A-11B9-4F05-8D74-F212286C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B206-5A99-4EFD-B6A1-6AC8E42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E80F-F98B-4B90-B6D7-252EFD77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5C757-DB1B-4E85-AA4D-CBEFC723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CAA6-0CCB-43DA-AA85-0580AB2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667C-1E82-4614-AFA9-8202CC7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BD9-7772-42FE-AC33-2D39B88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90EDF-091F-4DD5-9A35-3F72579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F5B6-BE16-4A0F-A50A-BC4F16B6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C665-5AD6-4568-87BB-8CA7D384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47429-AA3C-4952-A281-DB91444F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A49D6-2C86-43ED-9F41-1F058FB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52F0F-2453-4CE2-A9FD-8D606452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EAAB-1BD9-42E9-A3D9-A1F7052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364C8-59D7-4FB5-897D-7197ECAE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BDEC-5D72-4056-AE13-221ECEE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6A0E-F4D4-4FFC-B281-B3407B7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82A-B444-4867-8461-D4BD1D91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C4B5F-0825-4078-9445-6F2EB8B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C053B-CD24-413B-894B-063A22D5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78D1-6245-401A-8E4D-413BF3EC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8297-3772-4D23-A5FD-F79018E6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E40E-BB5D-4625-80CB-4837463A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EFE8-8294-4E59-A0CC-B948ED30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4FB0A-B75E-4F26-AA2E-57B7A580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7938-4489-4407-B40B-EA9275F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1A9EF-9261-454B-A37E-EC00E81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78F4-015C-410E-B4EA-97F1E0C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99C-1A2A-4D9B-8A84-BF95742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C025-FF9D-4FA7-8A20-1BEBA76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6F1E-D2B6-4AD1-8084-9E21036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D963B-9229-4E24-AFA4-A5E1393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368F-085A-4440-86EA-42D08EE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FA769-1E5A-476F-9A52-371ECA0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759E-2703-42E0-8AD7-E1A29F7A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8BDC5-0824-490E-A66F-3605F3B7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D51CC-12CC-4F82-8E94-5066590D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A330D-285E-4C9C-A556-15A3B8E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0A748-78E8-4903-A0AA-EB1D2145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A686-1971-4AB8-A5A8-C8A24387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FD3-F5F9-4918-9266-D6A3512C0B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1C3-12C6-44BE-82A0-352E897C2B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4F07-6213-4A2E-9127-B54E7B19C3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656-04B8-4ED7-A237-228FF8CA20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E07-D4E6-4720-984F-A4427E1111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73B-2D28-47DF-895A-0C8307744A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3A6-9314-4D96-B63B-5F00A7991F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2526-1F4D-411B-B560-9CBCBF8FA0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248D-023F-4B9E-BCCD-FE41CCAC1C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911-08C6-4A2C-975B-0CE53D3765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s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lotter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3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preterite of the verb ‘se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6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videogame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6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whe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infinitive ‘to walk (a dog)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4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for ‘I wash’ (as in ‘the car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ok up this new word in the dictionary – what does it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73960" y="33336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24000" y="652464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LJackson 2013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preterite of the verb ‘se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docto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3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conditional of the verb ‘ir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policema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ambitiou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5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rson conditional of the verb ‘s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ok up this new word in the dictionary – what does it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61360" y="333360"/>
            <a:ext cx="1268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409680" y="304920"/>
            <a:ext cx="835344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ork out the following clues to find the letters for              the mystery wor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8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film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st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econ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panish word for ‘soap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r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documentary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4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new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9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th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televisi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</a:t>
            </a:r>
            <a:r>
              <a:rPr b="1" i="1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n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lette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e Spanish word for ‘adver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mystery word an how does it relate to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73960" y="333360"/>
            <a:ext cx="1268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4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409680" y="304920"/>
            <a:ext cx="8353440" cy="59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áctica (AT3) – Mystery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rite each of the mystery word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   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ter:  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l word: ________________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ning: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http://www.infendo.com/wp-content/uploads/2011/05/question-mark.jpg"/>
          <p:cNvPicPr/>
          <p:nvPr/>
        </p:nvPicPr>
        <p:blipFill>
          <a:blip r:embed="rId2"/>
          <a:stretch/>
        </p:blipFill>
        <p:spPr>
          <a:xfrm>
            <a:off x="7461360" y="33336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2"/>
          <p:cNvSpPr/>
          <p:nvPr/>
        </p:nvSpPr>
        <p:spPr>
          <a:xfrm>
            <a:off x="179280" y="6246720"/>
            <a:ext cx="8785440" cy="53496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 u="sng">
                <a:solidFill>
                  <a:srgbClr val="000000"/>
                </a:solidFill>
                <a:uFillTx/>
                <a:latin typeface="Calibri"/>
              </a:rPr>
              <a:t>Extension</a:t>
            </a:r>
            <a:r>
              <a:rPr b="0" lang="es-ES_tradnl" sz="2300" spc="-1" strike="noStrike">
                <a:solidFill>
                  <a:srgbClr val="000000"/>
                </a:solidFill>
                <a:latin typeface="Calibri"/>
              </a:rPr>
              <a:t>: Can you create your own ‘clues’ to create a mystery wor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43:33Z</dcterms:created>
  <dc:creator>Luke Jackson</dc:creator>
  <dc:description/>
  <dc:language>en-US</dc:language>
  <cp:lastModifiedBy>Clare</cp:lastModifiedBy>
  <cp:lastPrinted>2012-05-29T15:58:42Z</cp:lastPrinted>
  <dcterms:modified xsi:type="dcterms:W3CDTF">2013-05-14T09:11:35Z</dcterms:modified>
  <cp:revision>93</cp:revision>
  <dc:subject/>
  <dc:title>Slide 1</dc:title>
</cp:coreProperties>
</file>