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13.png" ContentType="image/png"/>
  <Override PartName="/ppt/media/image12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6.png" ContentType="image/png"/>
  <Override PartName="/ppt/media/chimes.wav" ContentType="audio/x-wav"/>
  <Override PartName="/ppt/media/image2.wmf" ContentType="image/x-wmf"/>
  <Override PartName="/ppt/media/image29.png" ContentType="image/png"/>
  <Override PartName="/ppt/media/image8.png" ContentType="image/png"/>
  <Override PartName="/ppt/media/TADA.WAV" ContentType="audio/x-wav"/>
  <Override PartName="/ppt/media/image41.wmf" ContentType="image/x-wmf"/>
  <Override PartName="/ppt/media/whoosh.wav" ContentType="audio/x-wav"/>
  <Override PartName="/ppt/media/image28.png" ContentType="image/png"/>
  <Override PartName="/ppt/media/image38.jpeg" ContentType="image/jpeg"/>
  <Override PartName="/ppt/media/image34.png" ContentType="image/png"/>
  <Override PartName="/ppt/media/image33.png" ContentType="image/png"/>
  <Override PartName="/ppt/media/image40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.wmf" ContentType="image/x-wmf"/>
  <Override PartName="/ppt/media/image32.png" ContentType="image/png"/>
  <Override PartName="/ppt/media/image44.png" ContentType="image/png"/>
  <Override PartName="/ppt/media/image4.wmf" ContentType="image/x-wmf"/>
  <Override PartName="/ppt/media/image45.wmf" ContentType="image/x-wmf"/>
  <Override PartName="/ppt/media/image35.png" ContentType="image/png"/>
  <Override PartName="/ppt/media/image46.wmf" ContentType="image/x-wmf"/>
  <Override PartName="/ppt/media/image27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7.png" ContentType="image/png"/>
  <Override PartName="/ppt/media/image37.png" ContentType="image/png"/>
  <Override PartName="/ppt/media/image47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1.png" ContentType="image/png"/>
  <Override PartName="/ppt/media/clap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  <p:custShowLst>
    <p:custShow name="Custom Show 1" id="0">
      <p:sldLst>
        <p:sld r:id="rId2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61D-1BE2-47BA-AA05-5EE7E41D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06B-E289-40F2-AA45-65D379E3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ACB-6C37-4C15-9031-4660DC30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4F8-55C6-4618-8FAE-788C6A66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3C62-9ADF-4553-88C3-7C3CCD3D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E30D-895E-4183-BA68-350E5675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1837-3D84-4A26-AA5E-BFE06A62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B7B0-C48F-487D-8C39-F87224ED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ACAA-8659-4783-8803-A664C9C0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802A-850D-4AF5-A781-D34D6D01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FEB3-D7EC-4469-A6FB-CF0BB5B6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E50-25AA-41DC-BE63-49B9C7D4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14DE-1B38-438A-A2D5-65CAFAB2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F6F5-6368-4B03-8BD0-905FB855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9D5E-F7EB-4A16-A91E-6220E5AF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F71B-88B3-447A-B3EC-D0541367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D48F-E4D6-43E5-BDF0-30483777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261D-5489-4ED5-91BD-54F4B2F2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F46-12B6-45A1-99CA-99CBDB45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45A-8254-40DA-845D-1A3335B4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7C2-149E-4EEF-BCDB-27161934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FD4-DC82-486C-BADB-3EA2424A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5AE4-FEC1-4C09-8A73-0C757327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F3A-3DBC-4C1F-9711-AD0587FE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a2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ca2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a2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8A4A-63E5-4855-BFA3-0A4C822A2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a2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ca2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a2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8DD2-AD03-497A-A287-1C9B4BC3E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himes.wav"/><Relationship Id="rId6" Type="http://schemas.openxmlformats.org/officeDocument/2006/relationships/audio" Target="../media/TADA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" Target=""/><Relationship Id="rId3" Type="http://schemas.openxmlformats.org/officeDocument/2006/relationships/image" Target="../media/image2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image" Target="../media/image6.wmf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himes.wav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320" y="0"/>
            <a:ext cx="8914320" cy="6856200"/>
            <a:chOff x="76320" y="0"/>
            <a:chExt cx="8914320" cy="6856200"/>
          </a:xfrm>
        </p:grpSpPr>
        <p:grpSp>
          <p:nvGrpSpPr>
            <p:cNvPr id="130" name=""/>
            <p:cNvGrpSpPr/>
            <p:nvPr/>
          </p:nvGrpSpPr>
          <p:grpSpPr>
            <a:xfrm>
              <a:off x="76320" y="0"/>
              <a:ext cx="4484520" cy="6856200"/>
              <a:chOff x="76320" y="0"/>
              <a:chExt cx="4484520" cy="6856200"/>
            </a:xfrm>
          </p:grpSpPr>
          <p:pic>
            <p:nvPicPr>
              <p:cNvPr id="1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320" y="0"/>
                <a:ext cx="4484520" cy="351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3340800"/>
                <a:ext cx="4484520" cy="351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3" name=""/>
            <p:cNvGrpSpPr/>
            <p:nvPr/>
          </p:nvGrpSpPr>
          <p:grpSpPr>
            <a:xfrm>
              <a:off x="4506120" y="0"/>
              <a:ext cx="4484520" cy="6856200"/>
              <a:chOff x="4506120" y="0"/>
              <a:chExt cx="4484520" cy="6856200"/>
            </a:xfrm>
          </p:grpSpPr>
          <p:pic>
            <p:nvPicPr>
              <p:cNvPr id="13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06120" y="0"/>
                <a:ext cx="4484520" cy="351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6120" y="3340800"/>
                <a:ext cx="4484520" cy="351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6" name=""/>
          <p:cNvSpPr/>
          <p:nvPr/>
        </p:nvSpPr>
        <p:spPr>
          <a:xfrm>
            <a:off x="1749960" y="1905120"/>
            <a:ext cx="5650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stellar"/>
              </a:rPr>
              <a:t>El  Mund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stellar"/>
              </a:rPr>
              <a:t>Hispan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4114800"/>
            <a:ext cx="4952880" cy="2502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477120" y="4724280"/>
            <a:ext cx="2438280" cy="16765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295280" y="2666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a Ciudad de Panam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219320" y="3049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Panamá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49" name=""/>
          <p:cNvSpPr/>
          <p:nvPr/>
        </p:nvSpPr>
        <p:spPr>
          <a:xfrm>
            <a:off x="5943600" y="2666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anam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4724280"/>
            <a:ext cx="2438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4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380200" y="1574640"/>
            <a:ext cx="2828880" cy="2725920"/>
          </a:xfrm>
          <a:custGeom>
            <a:avLst/>
            <a:gdLst/>
            <a:ahLst/>
            <a:rect l="l" t="t" r="r" b="b"/>
            <a:pathLst>
              <a:path w="1782" h="1717">
                <a:moveTo>
                  <a:pt x="169" y="258"/>
                </a:moveTo>
                <a:lnTo>
                  <a:pt x="163" y="387"/>
                </a:lnTo>
                <a:lnTo>
                  <a:pt x="159" y="401"/>
                </a:lnTo>
                <a:lnTo>
                  <a:pt x="152" y="412"/>
                </a:lnTo>
                <a:lnTo>
                  <a:pt x="88" y="432"/>
                </a:lnTo>
                <a:lnTo>
                  <a:pt x="44" y="454"/>
                </a:lnTo>
                <a:lnTo>
                  <a:pt x="21" y="499"/>
                </a:lnTo>
                <a:lnTo>
                  <a:pt x="24" y="525"/>
                </a:lnTo>
                <a:lnTo>
                  <a:pt x="0" y="554"/>
                </a:lnTo>
                <a:lnTo>
                  <a:pt x="0" y="588"/>
                </a:lnTo>
                <a:lnTo>
                  <a:pt x="21" y="606"/>
                </a:lnTo>
                <a:lnTo>
                  <a:pt x="31" y="634"/>
                </a:lnTo>
                <a:lnTo>
                  <a:pt x="31" y="660"/>
                </a:lnTo>
                <a:lnTo>
                  <a:pt x="63" y="648"/>
                </a:lnTo>
                <a:lnTo>
                  <a:pt x="81" y="671"/>
                </a:lnTo>
                <a:lnTo>
                  <a:pt x="112" y="671"/>
                </a:lnTo>
                <a:lnTo>
                  <a:pt x="140" y="649"/>
                </a:lnTo>
                <a:lnTo>
                  <a:pt x="162" y="728"/>
                </a:lnTo>
                <a:lnTo>
                  <a:pt x="197" y="735"/>
                </a:lnTo>
                <a:lnTo>
                  <a:pt x="265" y="716"/>
                </a:lnTo>
                <a:lnTo>
                  <a:pt x="322" y="687"/>
                </a:lnTo>
                <a:lnTo>
                  <a:pt x="367" y="649"/>
                </a:lnTo>
                <a:lnTo>
                  <a:pt x="403" y="691"/>
                </a:lnTo>
                <a:lnTo>
                  <a:pt x="410" y="728"/>
                </a:lnTo>
                <a:lnTo>
                  <a:pt x="410" y="756"/>
                </a:lnTo>
                <a:lnTo>
                  <a:pt x="463" y="783"/>
                </a:lnTo>
                <a:lnTo>
                  <a:pt x="501" y="781"/>
                </a:lnTo>
                <a:lnTo>
                  <a:pt x="549" y="813"/>
                </a:lnTo>
                <a:lnTo>
                  <a:pt x="604" y="831"/>
                </a:lnTo>
                <a:lnTo>
                  <a:pt x="637" y="866"/>
                </a:lnTo>
                <a:lnTo>
                  <a:pt x="632" y="951"/>
                </a:lnTo>
                <a:lnTo>
                  <a:pt x="719" y="951"/>
                </a:lnTo>
                <a:lnTo>
                  <a:pt x="726" y="997"/>
                </a:lnTo>
                <a:lnTo>
                  <a:pt x="742" y="1022"/>
                </a:lnTo>
                <a:lnTo>
                  <a:pt x="742" y="1071"/>
                </a:lnTo>
                <a:lnTo>
                  <a:pt x="724" y="1111"/>
                </a:lnTo>
                <a:lnTo>
                  <a:pt x="743" y="1150"/>
                </a:lnTo>
                <a:lnTo>
                  <a:pt x="743" y="1189"/>
                </a:lnTo>
                <a:lnTo>
                  <a:pt x="739" y="1232"/>
                </a:lnTo>
                <a:lnTo>
                  <a:pt x="774" y="1232"/>
                </a:lnTo>
                <a:lnTo>
                  <a:pt x="820" y="1234"/>
                </a:lnTo>
                <a:lnTo>
                  <a:pt x="834" y="1241"/>
                </a:lnTo>
                <a:lnTo>
                  <a:pt x="855" y="1259"/>
                </a:lnTo>
                <a:lnTo>
                  <a:pt x="867" y="1306"/>
                </a:lnTo>
                <a:lnTo>
                  <a:pt x="884" y="1299"/>
                </a:lnTo>
                <a:lnTo>
                  <a:pt x="896" y="1384"/>
                </a:lnTo>
                <a:lnTo>
                  <a:pt x="903" y="1394"/>
                </a:lnTo>
                <a:lnTo>
                  <a:pt x="907" y="1395"/>
                </a:lnTo>
                <a:lnTo>
                  <a:pt x="923" y="1426"/>
                </a:lnTo>
                <a:lnTo>
                  <a:pt x="910" y="1459"/>
                </a:lnTo>
                <a:lnTo>
                  <a:pt x="860" y="1484"/>
                </a:lnTo>
                <a:lnTo>
                  <a:pt x="809" y="1530"/>
                </a:lnTo>
                <a:lnTo>
                  <a:pt x="783" y="1553"/>
                </a:lnTo>
                <a:lnTo>
                  <a:pt x="783" y="1600"/>
                </a:lnTo>
                <a:lnTo>
                  <a:pt x="806" y="1617"/>
                </a:lnTo>
                <a:lnTo>
                  <a:pt x="810" y="1647"/>
                </a:lnTo>
                <a:lnTo>
                  <a:pt x="848" y="1643"/>
                </a:lnTo>
                <a:lnTo>
                  <a:pt x="896" y="1672"/>
                </a:lnTo>
                <a:lnTo>
                  <a:pt x="940" y="1717"/>
                </a:lnTo>
                <a:lnTo>
                  <a:pt x="965" y="1703"/>
                </a:lnTo>
                <a:lnTo>
                  <a:pt x="995" y="1675"/>
                </a:lnTo>
                <a:lnTo>
                  <a:pt x="1004" y="1631"/>
                </a:lnTo>
                <a:lnTo>
                  <a:pt x="1022" y="1615"/>
                </a:lnTo>
                <a:lnTo>
                  <a:pt x="1033" y="1610"/>
                </a:lnTo>
                <a:lnTo>
                  <a:pt x="1047" y="1589"/>
                </a:lnTo>
                <a:lnTo>
                  <a:pt x="1068" y="1572"/>
                </a:lnTo>
                <a:lnTo>
                  <a:pt x="1112" y="1519"/>
                </a:lnTo>
                <a:lnTo>
                  <a:pt x="1112" y="1429"/>
                </a:lnTo>
                <a:lnTo>
                  <a:pt x="1123" y="1406"/>
                </a:lnTo>
                <a:lnTo>
                  <a:pt x="1144" y="1385"/>
                </a:lnTo>
                <a:lnTo>
                  <a:pt x="1176" y="1385"/>
                </a:lnTo>
                <a:lnTo>
                  <a:pt x="1190" y="1365"/>
                </a:lnTo>
                <a:lnTo>
                  <a:pt x="1220" y="1365"/>
                </a:lnTo>
                <a:lnTo>
                  <a:pt x="1260" y="1338"/>
                </a:lnTo>
                <a:lnTo>
                  <a:pt x="1264" y="1333"/>
                </a:lnTo>
                <a:lnTo>
                  <a:pt x="1313" y="1317"/>
                </a:lnTo>
                <a:lnTo>
                  <a:pt x="1341" y="1310"/>
                </a:lnTo>
                <a:lnTo>
                  <a:pt x="1374" y="1333"/>
                </a:lnTo>
                <a:lnTo>
                  <a:pt x="1410" y="1306"/>
                </a:lnTo>
                <a:lnTo>
                  <a:pt x="1416" y="1285"/>
                </a:lnTo>
                <a:lnTo>
                  <a:pt x="1470" y="1234"/>
                </a:lnTo>
                <a:lnTo>
                  <a:pt x="1483" y="1207"/>
                </a:lnTo>
                <a:lnTo>
                  <a:pt x="1504" y="1191"/>
                </a:lnTo>
                <a:lnTo>
                  <a:pt x="1529" y="1177"/>
                </a:lnTo>
                <a:lnTo>
                  <a:pt x="1527" y="1147"/>
                </a:lnTo>
                <a:lnTo>
                  <a:pt x="1534" y="1103"/>
                </a:lnTo>
                <a:lnTo>
                  <a:pt x="1548" y="1092"/>
                </a:lnTo>
                <a:lnTo>
                  <a:pt x="1548" y="1068"/>
                </a:lnTo>
                <a:lnTo>
                  <a:pt x="1560" y="1033"/>
                </a:lnTo>
                <a:lnTo>
                  <a:pt x="1571" y="983"/>
                </a:lnTo>
                <a:lnTo>
                  <a:pt x="1573" y="950"/>
                </a:lnTo>
                <a:lnTo>
                  <a:pt x="1578" y="912"/>
                </a:lnTo>
                <a:lnTo>
                  <a:pt x="1582" y="880"/>
                </a:lnTo>
                <a:lnTo>
                  <a:pt x="1593" y="866"/>
                </a:lnTo>
                <a:lnTo>
                  <a:pt x="1603" y="866"/>
                </a:lnTo>
                <a:lnTo>
                  <a:pt x="1611" y="877"/>
                </a:lnTo>
                <a:lnTo>
                  <a:pt x="1645" y="813"/>
                </a:lnTo>
                <a:lnTo>
                  <a:pt x="1681" y="783"/>
                </a:lnTo>
                <a:lnTo>
                  <a:pt x="1714" y="755"/>
                </a:lnTo>
                <a:lnTo>
                  <a:pt x="1727" y="733"/>
                </a:lnTo>
                <a:lnTo>
                  <a:pt x="1749" y="706"/>
                </a:lnTo>
                <a:lnTo>
                  <a:pt x="1782" y="673"/>
                </a:lnTo>
                <a:lnTo>
                  <a:pt x="1782" y="602"/>
                </a:lnTo>
                <a:lnTo>
                  <a:pt x="1775" y="581"/>
                </a:lnTo>
                <a:lnTo>
                  <a:pt x="1773" y="552"/>
                </a:lnTo>
                <a:lnTo>
                  <a:pt x="1773" y="542"/>
                </a:lnTo>
                <a:lnTo>
                  <a:pt x="1752" y="525"/>
                </a:lnTo>
                <a:lnTo>
                  <a:pt x="1688" y="497"/>
                </a:lnTo>
                <a:lnTo>
                  <a:pt x="1665" y="487"/>
                </a:lnTo>
                <a:lnTo>
                  <a:pt x="1642" y="467"/>
                </a:lnTo>
                <a:lnTo>
                  <a:pt x="1585" y="389"/>
                </a:lnTo>
                <a:lnTo>
                  <a:pt x="1534" y="389"/>
                </a:lnTo>
                <a:lnTo>
                  <a:pt x="1398" y="348"/>
                </a:lnTo>
                <a:lnTo>
                  <a:pt x="1384" y="359"/>
                </a:lnTo>
                <a:lnTo>
                  <a:pt x="1362" y="369"/>
                </a:lnTo>
                <a:lnTo>
                  <a:pt x="1341" y="361"/>
                </a:lnTo>
                <a:lnTo>
                  <a:pt x="1342" y="332"/>
                </a:lnTo>
                <a:lnTo>
                  <a:pt x="1355" y="312"/>
                </a:lnTo>
                <a:lnTo>
                  <a:pt x="1328" y="311"/>
                </a:lnTo>
                <a:lnTo>
                  <a:pt x="1320" y="291"/>
                </a:lnTo>
                <a:lnTo>
                  <a:pt x="1284" y="277"/>
                </a:lnTo>
                <a:lnTo>
                  <a:pt x="1249" y="266"/>
                </a:lnTo>
                <a:lnTo>
                  <a:pt x="1221" y="261"/>
                </a:lnTo>
                <a:lnTo>
                  <a:pt x="1192" y="283"/>
                </a:lnTo>
                <a:lnTo>
                  <a:pt x="1178" y="272"/>
                </a:lnTo>
                <a:lnTo>
                  <a:pt x="1190" y="238"/>
                </a:lnTo>
                <a:lnTo>
                  <a:pt x="1104" y="227"/>
                </a:lnTo>
                <a:lnTo>
                  <a:pt x="1091" y="238"/>
                </a:lnTo>
                <a:lnTo>
                  <a:pt x="1069" y="229"/>
                </a:lnTo>
                <a:lnTo>
                  <a:pt x="1015" y="251"/>
                </a:lnTo>
                <a:lnTo>
                  <a:pt x="1114" y="155"/>
                </a:lnTo>
                <a:lnTo>
                  <a:pt x="1069" y="112"/>
                </a:lnTo>
                <a:lnTo>
                  <a:pt x="1069" y="105"/>
                </a:lnTo>
                <a:lnTo>
                  <a:pt x="1061" y="66"/>
                </a:lnTo>
                <a:lnTo>
                  <a:pt x="1029" y="41"/>
                </a:lnTo>
                <a:lnTo>
                  <a:pt x="995" y="66"/>
                </a:lnTo>
                <a:lnTo>
                  <a:pt x="952" y="130"/>
                </a:lnTo>
                <a:lnTo>
                  <a:pt x="923" y="138"/>
                </a:lnTo>
                <a:lnTo>
                  <a:pt x="892" y="121"/>
                </a:lnTo>
                <a:lnTo>
                  <a:pt x="852" y="121"/>
                </a:lnTo>
                <a:lnTo>
                  <a:pt x="828" y="142"/>
                </a:lnTo>
                <a:lnTo>
                  <a:pt x="790" y="142"/>
                </a:lnTo>
                <a:lnTo>
                  <a:pt x="774" y="153"/>
                </a:lnTo>
                <a:lnTo>
                  <a:pt x="729" y="155"/>
                </a:lnTo>
                <a:lnTo>
                  <a:pt x="685" y="162"/>
                </a:lnTo>
                <a:lnTo>
                  <a:pt x="671" y="178"/>
                </a:lnTo>
                <a:lnTo>
                  <a:pt x="653" y="142"/>
                </a:lnTo>
                <a:lnTo>
                  <a:pt x="653" y="52"/>
                </a:lnTo>
                <a:lnTo>
                  <a:pt x="639" y="39"/>
                </a:lnTo>
                <a:lnTo>
                  <a:pt x="618" y="18"/>
                </a:lnTo>
                <a:lnTo>
                  <a:pt x="595" y="0"/>
                </a:lnTo>
                <a:lnTo>
                  <a:pt x="580" y="21"/>
                </a:lnTo>
                <a:lnTo>
                  <a:pt x="554" y="21"/>
                </a:lnTo>
                <a:lnTo>
                  <a:pt x="520" y="34"/>
                </a:lnTo>
                <a:lnTo>
                  <a:pt x="438" y="32"/>
                </a:lnTo>
                <a:lnTo>
                  <a:pt x="420" y="27"/>
                </a:lnTo>
                <a:lnTo>
                  <a:pt x="388" y="13"/>
                </a:lnTo>
                <a:lnTo>
                  <a:pt x="395" y="35"/>
                </a:lnTo>
                <a:lnTo>
                  <a:pt x="405" y="60"/>
                </a:lnTo>
                <a:lnTo>
                  <a:pt x="425" y="95"/>
                </a:lnTo>
                <a:lnTo>
                  <a:pt x="444" y="119"/>
                </a:lnTo>
                <a:lnTo>
                  <a:pt x="417" y="144"/>
                </a:lnTo>
                <a:lnTo>
                  <a:pt x="398" y="156"/>
                </a:lnTo>
                <a:lnTo>
                  <a:pt x="393" y="169"/>
                </a:lnTo>
                <a:lnTo>
                  <a:pt x="378" y="181"/>
                </a:lnTo>
                <a:lnTo>
                  <a:pt x="361" y="183"/>
                </a:lnTo>
                <a:lnTo>
                  <a:pt x="308" y="166"/>
                </a:lnTo>
                <a:lnTo>
                  <a:pt x="268" y="135"/>
                </a:lnTo>
                <a:lnTo>
                  <a:pt x="258" y="117"/>
                </a:lnTo>
                <a:lnTo>
                  <a:pt x="246" y="134"/>
                </a:lnTo>
                <a:lnTo>
                  <a:pt x="236" y="121"/>
                </a:lnTo>
                <a:lnTo>
                  <a:pt x="166" y="156"/>
                </a:lnTo>
                <a:lnTo>
                  <a:pt x="172" y="173"/>
                </a:lnTo>
                <a:lnTo>
                  <a:pt x="212" y="198"/>
                </a:lnTo>
                <a:lnTo>
                  <a:pt x="158" y="199"/>
                </a:lnTo>
                <a:lnTo>
                  <a:pt x="147" y="247"/>
                </a:lnTo>
                <a:lnTo>
                  <a:pt x="169" y="258"/>
                </a:lnTo>
                <a:close/>
              </a:path>
            </a:pathLst>
          </a:custGeom>
          <a:solidFill>
            <a:srgbClr val="008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4951440" y="1079640"/>
            <a:ext cx="920880" cy="1152360"/>
          </a:xfrm>
          <a:custGeom>
            <a:avLst/>
            <a:gdLst/>
            <a:ahLst/>
            <a:rect l="l" t="t" r="r" b="b"/>
            <a:pathLst>
              <a:path w="580" h="726">
                <a:moveTo>
                  <a:pt x="351" y="14"/>
                </a:moveTo>
                <a:lnTo>
                  <a:pt x="314" y="50"/>
                </a:lnTo>
                <a:lnTo>
                  <a:pt x="297" y="74"/>
                </a:lnTo>
                <a:lnTo>
                  <a:pt x="282" y="120"/>
                </a:lnTo>
                <a:lnTo>
                  <a:pt x="291" y="156"/>
                </a:lnTo>
                <a:lnTo>
                  <a:pt x="329" y="215"/>
                </a:lnTo>
                <a:lnTo>
                  <a:pt x="436" y="237"/>
                </a:lnTo>
                <a:lnTo>
                  <a:pt x="474" y="261"/>
                </a:lnTo>
                <a:lnTo>
                  <a:pt x="503" y="252"/>
                </a:lnTo>
                <a:lnTo>
                  <a:pt x="527" y="262"/>
                </a:lnTo>
                <a:lnTo>
                  <a:pt x="525" y="287"/>
                </a:lnTo>
                <a:lnTo>
                  <a:pt x="507" y="298"/>
                </a:lnTo>
                <a:lnTo>
                  <a:pt x="506" y="323"/>
                </a:lnTo>
                <a:lnTo>
                  <a:pt x="528" y="364"/>
                </a:lnTo>
                <a:lnTo>
                  <a:pt x="570" y="411"/>
                </a:lnTo>
                <a:lnTo>
                  <a:pt x="580" y="479"/>
                </a:lnTo>
                <a:lnTo>
                  <a:pt x="539" y="447"/>
                </a:lnTo>
                <a:lnTo>
                  <a:pt x="528" y="428"/>
                </a:lnTo>
                <a:lnTo>
                  <a:pt x="516" y="443"/>
                </a:lnTo>
                <a:lnTo>
                  <a:pt x="507" y="433"/>
                </a:lnTo>
                <a:lnTo>
                  <a:pt x="436" y="468"/>
                </a:lnTo>
                <a:lnTo>
                  <a:pt x="442" y="486"/>
                </a:lnTo>
                <a:lnTo>
                  <a:pt x="461" y="497"/>
                </a:lnTo>
                <a:lnTo>
                  <a:pt x="484" y="510"/>
                </a:lnTo>
                <a:lnTo>
                  <a:pt x="429" y="511"/>
                </a:lnTo>
                <a:lnTo>
                  <a:pt x="420" y="559"/>
                </a:lnTo>
                <a:lnTo>
                  <a:pt x="440" y="570"/>
                </a:lnTo>
                <a:lnTo>
                  <a:pt x="432" y="715"/>
                </a:lnTo>
                <a:lnTo>
                  <a:pt x="424" y="726"/>
                </a:lnTo>
                <a:lnTo>
                  <a:pt x="397" y="713"/>
                </a:lnTo>
                <a:lnTo>
                  <a:pt x="394" y="648"/>
                </a:lnTo>
                <a:lnTo>
                  <a:pt x="404" y="639"/>
                </a:lnTo>
                <a:lnTo>
                  <a:pt x="397" y="624"/>
                </a:lnTo>
                <a:lnTo>
                  <a:pt x="383" y="617"/>
                </a:lnTo>
                <a:lnTo>
                  <a:pt x="332" y="617"/>
                </a:lnTo>
                <a:lnTo>
                  <a:pt x="309" y="628"/>
                </a:lnTo>
                <a:lnTo>
                  <a:pt x="286" y="610"/>
                </a:lnTo>
                <a:lnTo>
                  <a:pt x="254" y="598"/>
                </a:lnTo>
                <a:lnTo>
                  <a:pt x="219" y="584"/>
                </a:lnTo>
                <a:lnTo>
                  <a:pt x="219" y="550"/>
                </a:lnTo>
                <a:lnTo>
                  <a:pt x="184" y="550"/>
                </a:lnTo>
                <a:lnTo>
                  <a:pt x="81" y="506"/>
                </a:lnTo>
                <a:lnTo>
                  <a:pt x="0" y="511"/>
                </a:lnTo>
                <a:lnTo>
                  <a:pt x="74" y="389"/>
                </a:lnTo>
                <a:lnTo>
                  <a:pt x="74" y="248"/>
                </a:lnTo>
                <a:lnTo>
                  <a:pt x="113" y="181"/>
                </a:lnTo>
                <a:lnTo>
                  <a:pt x="138" y="140"/>
                </a:lnTo>
                <a:lnTo>
                  <a:pt x="163" y="130"/>
                </a:lnTo>
                <a:lnTo>
                  <a:pt x="195" y="56"/>
                </a:lnTo>
                <a:lnTo>
                  <a:pt x="216" y="66"/>
                </a:lnTo>
                <a:lnTo>
                  <a:pt x="233" y="39"/>
                </a:lnTo>
                <a:lnTo>
                  <a:pt x="333" y="0"/>
                </a:lnTo>
                <a:lnTo>
                  <a:pt x="351" y="14"/>
                </a:lnTo>
                <a:close/>
              </a:path>
            </a:pathLst>
          </a:custGeom>
          <a:solidFill>
            <a:srgbClr val="7f5f3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2" action="ppaction://hlinksldjump"/>
          </p:cNvPr>
          <p:cNvSpPr/>
          <p:nvPr/>
        </p:nvSpPr>
        <p:spPr>
          <a:xfrm>
            <a:off x="5398920" y="1128600"/>
            <a:ext cx="1014480" cy="736560"/>
          </a:xfrm>
          <a:custGeom>
            <a:avLst/>
            <a:gdLst/>
            <a:ahLst/>
            <a:rect l="l" t="t" r="r" b="b"/>
            <a:pathLst>
              <a:path w="639" h="464">
                <a:moveTo>
                  <a:pt x="32" y="19"/>
                </a:moveTo>
                <a:lnTo>
                  <a:pt x="51" y="47"/>
                </a:lnTo>
                <a:lnTo>
                  <a:pt x="51" y="88"/>
                </a:lnTo>
                <a:lnTo>
                  <a:pt x="68" y="102"/>
                </a:lnTo>
                <a:lnTo>
                  <a:pt x="99" y="99"/>
                </a:lnTo>
                <a:lnTo>
                  <a:pt x="99" y="24"/>
                </a:lnTo>
                <a:lnTo>
                  <a:pt x="153" y="0"/>
                </a:lnTo>
                <a:lnTo>
                  <a:pt x="214" y="3"/>
                </a:lnTo>
                <a:lnTo>
                  <a:pt x="245" y="22"/>
                </a:lnTo>
                <a:lnTo>
                  <a:pt x="308" y="24"/>
                </a:lnTo>
                <a:lnTo>
                  <a:pt x="344" y="32"/>
                </a:lnTo>
                <a:lnTo>
                  <a:pt x="521" y="13"/>
                </a:lnTo>
                <a:lnTo>
                  <a:pt x="496" y="36"/>
                </a:lnTo>
                <a:lnTo>
                  <a:pt x="521" y="47"/>
                </a:lnTo>
                <a:lnTo>
                  <a:pt x="544" y="67"/>
                </a:lnTo>
                <a:lnTo>
                  <a:pt x="574" y="75"/>
                </a:lnTo>
                <a:lnTo>
                  <a:pt x="574" y="109"/>
                </a:lnTo>
                <a:lnTo>
                  <a:pt x="639" y="122"/>
                </a:lnTo>
                <a:lnTo>
                  <a:pt x="593" y="155"/>
                </a:lnTo>
                <a:lnTo>
                  <a:pt x="593" y="160"/>
                </a:lnTo>
                <a:lnTo>
                  <a:pt x="607" y="180"/>
                </a:lnTo>
                <a:lnTo>
                  <a:pt x="595" y="189"/>
                </a:lnTo>
                <a:lnTo>
                  <a:pt x="574" y="187"/>
                </a:lnTo>
                <a:lnTo>
                  <a:pt x="561" y="210"/>
                </a:lnTo>
                <a:lnTo>
                  <a:pt x="562" y="234"/>
                </a:lnTo>
                <a:lnTo>
                  <a:pt x="581" y="262"/>
                </a:lnTo>
                <a:lnTo>
                  <a:pt x="596" y="262"/>
                </a:lnTo>
                <a:lnTo>
                  <a:pt x="588" y="281"/>
                </a:lnTo>
                <a:lnTo>
                  <a:pt x="581" y="285"/>
                </a:lnTo>
                <a:lnTo>
                  <a:pt x="568" y="302"/>
                </a:lnTo>
                <a:lnTo>
                  <a:pt x="537" y="302"/>
                </a:lnTo>
                <a:lnTo>
                  <a:pt x="505" y="315"/>
                </a:lnTo>
                <a:lnTo>
                  <a:pt x="427" y="313"/>
                </a:lnTo>
                <a:lnTo>
                  <a:pt x="408" y="308"/>
                </a:lnTo>
                <a:lnTo>
                  <a:pt x="379" y="294"/>
                </a:lnTo>
                <a:lnTo>
                  <a:pt x="379" y="305"/>
                </a:lnTo>
                <a:lnTo>
                  <a:pt x="395" y="344"/>
                </a:lnTo>
                <a:lnTo>
                  <a:pt x="418" y="379"/>
                </a:lnTo>
                <a:lnTo>
                  <a:pt x="432" y="400"/>
                </a:lnTo>
                <a:lnTo>
                  <a:pt x="402" y="427"/>
                </a:lnTo>
                <a:lnTo>
                  <a:pt x="386" y="437"/>
                </a:lnTo>
                <a:lnTo>
                  <a:pt x="383" y="447"/>
                </a:lnTo>
                <a:lnTo>
                  <a:pt x="367" y="462"/>
                </a:lnTo>
                <a:lnTo>
                  <a:pt x="349" y="464"/>
                </a:lnTo>
                <a:lnTo>
                  <a:pt x="298" y="447"/>
                </a:lnTo>
                <a:lnTo>
                  <a:pt x="288" y="383"/>
                </a:lnTo>
                <a:lnTo>
                  <a:pt x="246" y="333"/>
                </a:lnTo>
                <a:lnTo>
                  <a:pt x="221" y="288"/>
                </a:lnTo>
                <a:lnTo>
                  <a:pt x="225" y="269"/>
                </a:lnTo>
                <a:lnTo>
                  <a:pt x="242" y="256"/>
                </a:lnTo>
                <a:lnTo>
                  <a:pt x="243" y="231"/>
                </a:lnTo>
                <a:lnTo>
                  <a:pt x="221" y="221"/>
                </a:lnTo>
                <a:lnTo>
                  <a:pt x="192" y="230"/>
                </a:lnTo>
                <a:lnTo>
                  <a:pt x="154" y="206"/>
                </a:lnTo>
                <a:lnTo>
                  <a:pt x="47" y="184"/>
                </a:lnTo>
                <a:lnTo>
                  <a:pt x="8" y="121"/>
                </a:lnTo>
                <a:lnTo>
                  <a:pt x="0" y="89"/>
                </a:lnTo>
                <a:lnTo>
                  <a:pt x="16" y="42"/>
                </a:lnTo>
                <a:lnTo>
                  <a:pt x="32" y="19"/>
                </a:lnTo>
                <a:close/>
              </a:path>
            </a:pathLst>
          </a:custGeom>
          <a:solidFill>
            <a:srgbClr val="bfb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89560" y="1327320"/>
            <a:ext cx="382680" cy="529920"/>
          </a:xfrm>
          <a:custGeom>
            <a:avLst/>
            <a:gdLst/>
            <a:ahLst/>
            <a:rect l="l" t="t" r="r" b="b"/>
            <a:pathLst>
              <a:path w="241" h="334">
                <a:moveTo>
                  <a:pt x="77" y="0"/>
                </a:moveTo>
                <a:lnTo>
                  <a:pt x="31" y="30"/>
                </a:lnTo>
                <a:lnTo>
                  <a:pt x="32" y="35"/>
                </a:lnTo>
                <a:lnTo>
                  <a:pt x="46" y="53"/>
                </a:lnTo>
                <a:lnTo>
                  <a:pt x="32" y="64"/>
                </a:lnTo>
                <a:lnTo>
                  <a:pt x="13" y="62"/>
                </a:lnTo>
                <a:lnTo>
                  <a:pt x="0" y="85"/>
                </a:lnTo>
                <a:lnTo>
                  <a:pt x="1" y="109"/>
                </a:lnTo>
                <a:lnTo>
                  <a:pt x="20" y="137"/>
                </a:lnTo>
                <a:lnTo>
                  <a:pt x="35" y="137"/>
                </a:lnTo>
                <a:lnTo>
                  <a:pt x="25" y="158"/>
                </a:lnTo>
                <a:lnTo>
                  <a:pt x="63" y="191"/>
                </a:lnTo>
                <a:lnTo>
                  <a:pt x="80" y="208"/>
                </a:lnTo>
                <a:lnTo>
                  <a:pt x="78" y="298"/>
                </a:lnTo>
                <a:lnTo>
                  <a:pt x="98" y="334"/>
                </a:lnTo>
                <a:lnTo>
                  <a:pt x="110" y="318"/>
                </a:lnTo>
                <a:lnTo>
                  <a:pt x="158" y="311"/>
                </a:lnTo>
                <a:lnTo>
                  <a:pt x="197" y="311"/>
                </a:lnTo>
                <a:lnTo>
                  <a:pt x="217" y="298"/>
                </a:lnTo>
                <a:lnTo>
                  <a:pt x="241" y="298"/>
                </a:lnTo>
                <a:lnTo>
                  <a:pt x="220" y="215"/>
                </a:lnTo>
                <a:lnTo>
                  <a:pt x="176" y="181"/>
                </a:lnTo>
                <a:lnTo>
                  <a:pt x="165" y="158"/>
                </a:lnTo>
                <a:lnTo>
                  <a:pt x="208" y="105"/>
                </a:lnTo>
                <a:lnTo>
                  <a:pt x="138" y="64"/>
                </a:lnTo>
                <a:lnTo>
                  <a:pt x="131" y="73"/>
                </a:lnTo>
                <a:lnTo>
                  <a:pt x="116" y="38"/>
                </a:lnTo>
                <a:lnTo>
                  <a:pt x="77" y="0"/>
                </a:lnTo>
                <a:close/>
              </a:path>
            </a:pathLst>
          </a:custGeom>
          <a:solidFill>
            <a:srgbClr val="dfffb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3" action="ppaction://hlinksldjump"/>
          </p:cNvPr>
          <p:cNvSpPr/>
          <p:nvPr/>
        </p:nvSpPr>
        <p:spPr>
          <a:xfrm>
            <a:off x="4832280" y="1882800"/>
            <a:ext cx="411120" cy="450720"/>
          </a:xfrm>
          <a:custGeom>
            <a:avLst/>
            <a:gdLst/>
            <a:ahLst/>
            <a:rect l="l" t="t" r="r" b="b"/>
            <a:pathLst>
              <a:path w="259" h="284">
                <a:moveTo>
                  <a:pt x="77" y="4"/>
                </a:moveTo>
                <a:lnTo>
                  <a:pt x="32" y="11"/>
                </a:lnTo>
                <a:lnTo>
                  <a:pt x="35" y="57"/>
                </a:lnTo>
                <a:lnTo>
                  <a:pt x="0" y="122"/>
                </a:lnTo>
                <a:lnTo>
                  <a:pt x="12" y="174"/>
                </a:lnTo>
                <a:lnTo>
                  <a:pt x="45" y="174"/>
                </a:lnTo>
                <a:lnTo>
                  <a:pt x="50" y="227"/>
                </a:lnTo>
                <a:lnTo>
                  <a:pt x="51" y="243"/>
                </a:lnTo>
                <a:lnTo>
                  <a:pt x="71" y="284"/>
                </a:lnTo>
                <a:lnTo>
                  <a:pt x="97" y="271"/>
                </a:lnTo>
                <a:lnTo>
                  <a:pt x="134" y="236"/>
                </a:lnTo>
                <a:lnTo>
                  <a:pt x="153" y="179"/>
                </a:lnTo>
                <a:lnTo>
                  <a:pt x="201" y="165"/>
                </a:lnTo>
                <a:lnTo>
                  <a:pt x="213" y="118"/>
                </a:lnTo>
                <a:lnTo>
                  <a:pt x="259" y="75"/>
                </a:lnTo>
                <a:lnTo>
                  <a:pt x="258" y="44"/>
                </a:lnTo>
                <a:lnTo>
                  <a:pt x="159" y="0"/>
                </a:lnTo>
                <a:lnTo>
                  <a:pt x="77" y="4"/>
                </a:lnTo>
                <a:close/>
              </a:path>
            </a:pathLst>
          </a:custGeom>
          <a:solidFill>
            <a:srgbClr val="7ff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4" action="ppaction://hlinksldjump"/>
          </p:cNvPr>
          <p:cNvSpPr/>
          <p:nvPr/>
        </p:nvSpPr>
        <p:spPr>
          <a:xfrm>
            <a:off x="4851360" y="1952640"/>
            <a:ext cx="938160" cy="1301760"/>
          </a:xfrm>
          <a:custGeom>
            <a:avLst/>
            <a:gdLst/>
            <a:ahLst/>
            <a:rect l="l" t="t" r="r" b="b"/>
            <a:pathLst>
              <a:path w="591" h="820">
                <a:moveTo>
                  <a:pt x="191" y="121"/>
                </a:moveTo>
                <a:lnTo>
                  <a:pt x="141" y="137"/>
                </a:lnTo>
                <a:lnTo>
                  <a:pt x="122" y="192"/>
                </a:lnTo>
                <a:lnTo>
                  <a:pt x="84" y="230"/>
                </a:lnTo>
                <a:lnTo>
                  <a:pt x="59" y="237"/>
                </a:lnTo>
                <a:lnTo>
                  <a:pt x="42" y="201"/>
                </a:lnTo>
                <a:lnTo>
                  <a:pt x="38" y="183"/>
                </a:lnTo>
                <a:lnTo>
                  <a:pt x="20" y="176"/>
                </a:lnTo>
                <a:lnTo>
                  <a:pt x="0" y="208"/>
                </a:lnTo>
                <a:lnTo>
                  <a:pt x="0" y="284"/>
                </a:lnTo>
                <a:lnTo>
                  <a:pt x="12" y="305"/>
                </a:lnTo>
                <a:lnTo>
                  <a:pt x="34" y="319"/>
                </a:lnTo>
                <a:lnTo>
                  <a:pt x="111" y="410"/>
                </a:lnTo>
                <a:lnTo>
                  <a:pt x="120" y="424"/>
                </a:lnTo>
                <a:lnTo>
                  <a:pt x="150" y="490"/>
                </a:lnTo>
                <a:lnTo>
                  <a:pt x="186" y="524"/>
                </a:lnTo>
                <a:lnTo>
                  <a:pt x="208" y="556"/>
                </a:lnTo>
                <a:lnTo>
                  <a:pt x="215" y="564"/>
                </a:lnTo>
                <a:lnTo>
                  <a:pt x="228" y="610"/>
                </a:lnTo>
                <a:lnTo>
                  <a:pt x="258" y="659"/>
                </a:lnTo>
                <a:lnTo>
                  <a:pt x="303" y="687"/>
                </a:lnTo>
                <a:lnTo>
                  <a:pt x="374" y="735"/>
                </a:lnTo>
                <a:lnTo>
                  <a:pt x="463" y="777"/>
                </a:lnTo>
                <a:lnTo>
                  <a:pt x="516" y="820"/>
                </a:lnTo>
                <a:lnTo>
                  <a:pt x="555" y="769"/>
                </a:lnTo>
                <a:lnTo>
                  <a:pt x="563" y="784"/>
                </a:lnTo>
                <a:lnTo>
                  <a:pt x="572" y="781"/>
                </a:lnTo>
                <a:lnTo>
                  <a:pt x="591" y="737"/>
                </a:lnTo>
                <a:lnTo>
                  <a:pt x="587" y="716"/>
                </a:lnTo>
                <a:lnTo>
                  <a:pt x="576" y="705"/>
                </a:lnTo>
                <a:lnTo>
                  <a:pt x="576" y="680"/>
                </a:lnTo>
                <a:lnTo>
                  <a:pt x="584" y="646"/>
                </a:lnTo>
                <a:lnTo>
                  <a:pt x="584" y="588"/>
                </a:lnTo>
                <a:lnTo>
                  <a:pt x="576" y="556"/>
                </a:lnTo>
                <a:lnTo>
                  <a:pt x="572" y="527"/>
                </a:lnTo>
                <a:lnTo>
                  <a:pt x="530" y="497"/>
                </a:lnTo>
                <a:lnTo>
                  <a:pt x="492" y="490"/>
                </a:lnTo>
                <a:lnTo>
                  <a:pt x="473" y="411"/>
                </a:lnTo>
                <a:lnTo>
                  <a:pt x="444" y="433"/>
                </a:lnTo>
                <a:lnTo>
                  <a:pt x="416" y="433"/>
                </a:lnTo>
                <a:lnTo>
                  <a:pt x="396" y="411"/>
                </a:lnTo>
                <a:lnTo>
                  <a:pt x="364" y="422"/>
                </a:lnTo>
                <a:lnTo>
                  <a:pt x="364" y="396"/>
                </a:lnTo>
                <a:lnTo>
                  <a:pt x="356" y="371"/>
                </a:lnTo>
                <a:lnTo>
                  <a:pt x="333" y="350"/>
                </a:lnTo>
                <a:lnTo>
                  <a:pt x="333" y="316"/>
                </a:lnTo>
                <a:lnTo>
                  <a:pt x="357" y="286"/>
                </a:lnTo>
                <a:lnTo>
                  <a:pt x="353" y="261"/>
                </a:lnTo>
                <a:lnTo>
                  <a:pt x="368" y="234"/>
                </a:lnTo>
                <a:lnTo>
                  <a:pt x="377" y="219"/>
                </a:lnTo>
                <a:lnTo>
                  <a:pt x="416" y="195"/>
                </a:lnTo>
                <a:lnTo>
                  <a:pt x="484" y="174"/>
                </a:lnTo>
                <a:lnTo>
                  <a:pt x="460" y="163"/>
                </a:lnTo>
                <a:lnTo>
                  <a:pt x="459" y="96"/>
                </a:lnTo>
                <a:lnTo>
                  <a:pt x="466" y="91"/>
                </a:lnTo>
                <a:lnTo>
                  <a:pt x="464" y="74"/>
                </a:lnTo>
                <a:lnTo>
                  <a:pt x="448" y="67"/>
                </a:lnTo>
                <a:lnTo>
                  <a:pt x="393" y="67"/>
                </a:lnTo>
                <a:lnTo>
                  <a:pt x="372" y="78"/>
                </a:lnTo>
                <a:lnTo>
                  <a:pt x="350" y="60"/>
                </a:lnTo>
                <a:lnTo>
                  <a:pt x="315" y="48"/>
                </a:lnTo>
                <a:lnTo>
                  <a:pt x="279" y="32"/>
                </a:lnTo>
                <a:lnTo>
                  <a:pt x="279" y="0"/>
                </a:lnTo>
                <a:lnTo>
                  <a:pt x="246" y="0"/>
                </a:lnTo>
                <a:lnTo>
                  <a:pt x="250" y="31"/>
                </a:lnTo>
                <a:lnTo>
                  <a:pt x="200" y="78"/>
                </a:lnTo>
                <a:lnTo>
                  <a:pt x="191" y="121"/>
                </a:lnTo>
                <a:close/>
              </a:path>
            </a:pathLst>
          </a:custGeom>
          <a:solidFill>
            <a:srgbClr val="00bf9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5" action="ppaction://hlinksldjump"/>
          </p:cNvPr>
          <p:cNvSpPr/>
          <p:nvPr/>
        </p:nvSpPr>
        <p:spPr>
          <a:xfrm>
            <a:off x="5683320" y="2604960"/>
            <a:ext cx="876240" cy="957240"/>
          </a:xfrm>
          <a:custGeom>
            <a:avLst/>
            <a:gdLst/>
            <a:ahLst/>
            <a:rect l="l" t="t" r="r" b="b"/>
            <a:pathLst>
              <a:path w="552" h="603">
                <a:moveTo>
                  <a:pt x="0" y="84"/>
                </a:moveTo>
                <a:lnTo>
                  <a:pt x="83" y="57"/>
                </a:lnTo>
                <a:lnTo>
                  <a:pt x="129" y="35"/>
                </a:lnTo>
                <a:lnTo>
                  <a:pt x="177" y="0"/>
                </a:lnTo>
                <a:lnTo>
                  <a:pt x="212" y="42"/>
                </a:lnTo>
                <a:lnTo>
                  <a:pt x="219" y="82"/>
                </a:lnTo>
                <a:lnTo>
                  <a:pt x="219" y="107"/>
                </a:lnTo>
                <a:lnTo>
                  <a:pt x="273" y="134"/>
                </a:lnTo>
                <a:lnTo>
                  <a:pt x="310" y="132"/>
                </a:lnTo>
                <a:lnTo>
                  <a:pt x="361" y="166"/>
                </a:lnTo>
                <a:lnTo>
                  <a:pt x="396" y="177"/>
                </a:lnTo>
                <a:lnTo>
                  <a:pt x="416" y="177"/>
                </a:lnTo>
                <a:lnTo>
                  <a:pt x="446" y="217"/>
                </a:lnTo>
                <a:lnTo>
                  <a:pt x="439" y="302"/>
                </a:lnTo>
                <a:lnTo>
                  <a:pt x="524" y="302"/>
                </a:lnTo>
                <a:lnTo>
                  <a:pt x="535" y="333"/>
                </a:lnTo>
                <a:lnTo>
                  <a:pt x="545" y="347"/>
                </a:lnTo>
                <a:lnTo>
                  <a:pt x="552" y="372"/>
                </a:lnTo>
                <a:lnTo>
                  <a:pt x="552" y="422"/>
                </a:lnTo>
                <a:lnTo>
                  <a:pt x="531" y="464"/>
                </a:lnTo>
                <a:lnTo>
                  <a:pt x="506" y="457"/>
                </a:lnTo>
                <a:lnTo>
                  <a:pt x="473" y="444"/>
                </a:lnTo>
                <a:lnTo>
                  <a:pt x="417" y="447"/>
                </a:lnTo>
                <a:lnTo>
                  <a:pt x="374" y="489"/>
                </a:lnTo>
                <a:lnTo>
                  <a:pt x="370" y="512"/>
                </a:lnTo>
                <a:lnTo>
                  <a:pt x="356" y="532"/>
                </a:lnTo>
                <a:lnTo>
                  <a:pt x="350" y="574"/>
                </a:lnTo>
                <a:lnTo>
                  <a:pt x="322" y="574"/>
                </a:lnTo>
                <a:lnTo>
                  <a:pt x="294" y="560"/>
                </a:lnTo>
                <a:lnTo>
                  <a:pt x="285" y="603"/>
                </a:lnTo>
                <a:lnTo>
                  <a:pt x="232" y="572"/>
                </a:lnTo>
                <a:lnTo>
                  <a:pt x="215" y="572"/>
                </a:lnTo>
                <a:lnTo>
                  <a:pt x="190" y="561"/>
                </a:lnTo>
                <a:lnTo>
                  <a:pt x="156" y="579"/>
                </a:lnTo>
                <a:lnTo>
                  <a:pt x="63" y="526"/>
                </a:lnTo>
                <a:lnTo>
                  <a:pt x="85" y="464"/>
                </a:lnTo>
                <a:lnTo>
                  <a:pt x="59" y="398"/>
                </a:lnTo>
                <a:lnTo>
                  <a:pt x="45" y="379"/>
                </a:lnTo>
                <a:lnTo>
                  <a:pt x="39" y="373"/>
                </a:lnTo>
                <a:lnTo>
                  <a:pt x="48" y="368"/>
                </a:lnTo>
                <a:lnTo>
                  <a:pt x="67" y="324"/>
                </a:lnTo>
                <a:lnTo>
                  <a:pt x="63" y="306"/>
                </a:lnTo>
                <a:lnTo>
                  <a:pt x="52" y="295"/>
                </a:lnTo>
                <a:lnTo>
                  <a:pt x="52" y="267"/>
                </a:lnTo>
                <a:lnTo>
                  <a:pt x="60" y="237"/>
                </a:lnTo>
                <a:lnTo>
                  <a:pt x="60" y="171"/>
                </a:lnTo>
                <a:lnTo>
                  <a:pt x="52" y="146"/>
                </a:lnTo>
                <a:lnTo>
                  <a:pt x="48" y="116"/>
                </a:lnTo>
                <a:lnTo>
                  <a:pt x="32" y="103"/>
                </a:lnTo>
                <a:lnTo>
                  <a:pt x="0" y="84"/>
                </a:lnTo>
                <a:close/>
              </a:path>
            </a:pathLst>
          </a:custGeom>
          <a:solidFill>
            <a:srgbClr val="5fd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6" action="ppaction://hlinksldjump"/>
          </p:cNvPr>
          <p:cNvSpPr/>
          <p:nvPr/>
        </p:nvSpPr>
        <p:spPr>
          <a:xfrm>
            <a:off x="6232680" y="3309840"/>
            <a:ext cx="585720" cy="603360"/>
          </a:xfrm>
          <a:custGeom>
            <a:avLst/>
            <a:gdLst/>
            <a:ahLst/>
            <a:rect l="l" t="t" r="r" b="b"/>
            <a:pathLst>
              <a:path w="369" h="380">
                <a:moveTo>
                  <a:pt x="74" y="0"/>
                </a:moveTo>
                <a:lnTo>
                  <a:pt x="28" y="45"/>
                </a:lnTo>
                <a:lnTo>
                  <a:pt x="24" y="68"/>
                </a:lnTo>
                <a:lnTo>
                  <a:pt x="10" y="88"/>
                </a:lnTo>
                <a:lnTo>
                  <a:pt x="0" y="128"/>
                </a:lnTo>
                <a:lnTo>
                  <a:pt x="8" y="153"/>
                </a:lnTo>
                <a:lnTo>
                  <a:pt x="50" y="178"/>
                </a:lnTo>
                <a:lnTo>
                  <a:pt x="81" y="185"/>
                </a:lnTo>
                <a:lnTo>
                  <a:pt x="138" y="219"/>
                </a:lnTo>
                <a:lnTo>
                  <a:pt x="164" y="224"/>
                </a:lnTo>
                <a:lnTo>
                  <a:pt x="189" y="240"/>
                </a:lnTo>
                <a:lnTo>
                  <a:pt x="207" y="272"/>
                </a:lnTo>
                <a:lnTo>
                  <a:pt x="210" y="318"/>
                </a:lnTo>
                <a:lnTo>
                  <a:pt x="198" y="334"/>
                </a:lnTo>
                <a:lnTo>
                  <a:pt x="201" y="355"/>
                </a:lnTo>
                <a:lnTo>
                  <a:pt x="233" y="379"/>
                </a:lnTo>
                <a:lnTo>
                  <a:pt x="277" y="380"/>
                </a:lnTo>
                <a:lnTo>
                  <a:pt x="318" y="322"/>
                </a:lnTo>
                <a:lnTo>
                  <a:pt x="344" y="302"/>
                </a:lnTo>
                <a:lnTo>
                  <a:pt x="369" y="304"/>
                </a:lnTo>
                <a:lnTo>
                  <a:pt x="359" y="290"/>
                </a:lnTo>
                <a:lnTo>
                  <a:pt x="350" y="201"/>
                </a:lnTo>
                <a:lnTo>
                  <a:pt x="329" y="210"/>
                </a:lnTo>
                <a:lnTo>
                  <a:pt x="322" y="166"/>
                </a:lnTo>
                <a:lnTo>
                  <a:pt x="297" y="148"/>
                </a:lnTo>
                <a:lnTo>
                  <a:pt x="276" y="139"/>
                </a:lnTo>
                <a:lnTo>
                  <a:pt x="205" y="138"/>
                </a:lnTo>
                <a:lnTo>
                  <a:pt x="207" y="113"/>
                </a:lnTo>
                <a:lnTo>
                  <a:pt x="206" y="59"/>
                </a:lnTo>
                <a:lnTo>
                  <a:pt x="188" y="22"/>
                </a:lnTo>
                <a:lnTo>
                  <a:pt x="153" y="11"/>
                </a:lnTo>
                <a:lnTo>
                  <a:pt x="125" y="0"/>
                </a:lnTo>
                <a:lnTo>
                  <a:pt x="74" y="0"/>
                </a:lnTo>
                <a:close/>
              </a:path>
            </a:pathLst>
          </a:custGeom>
          <a:solidFill>
            <a:srgbClr val="007f9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7" action="ppaction://hlinksldjump"/>
          </p:cNvPr>
          <p:cNvSpPr/>
          <p:nvPr/>
        </p:nvSpPr>
        <p:spPr>
          <a:xfrm>
            <a:off x="5759280" y="3494160"/>
            <a:ext cx="1086120" cy="2403360"/>
          </a:xfrm>
          <a:custGeom>
            <a:avLst/>
            <a:gdLst/>
            <a:ahLst/>
            <a:rect l="l" t="t" r="r" b="b"/>
            <a:pathLst>
              <a:path w="684" h="1514">
                <a:moveTo>
                  <a:pt x="235" y="37"/>
                </a:moveTo>
                <a:lnTo>
                  <a:pt x="184" y="12"/>
                </a:lnTo>
                <a:lnTo>
                  <a:pt x="171" y="12"/>
                </a:lnTo>
                <a:lnTo>
                  <a:pt x="139" y="1"/>
                </a:lnTo>
                <a:lnTo>
                  <a:pt x="107" y="18"/>
                </a:lnTo>
                <a:lnTo>
                  <a:pt x="121" y="67"/>
                </a:lnTo>
                <a:lnTo>
                  <a:pt x="108" y="99"/>
                </a:lnTo>
                <a:lnTo>
                  <a:pt x="71" y="118"/>
                </a:lnTo>
                <a:lnTo>
                  <a:pt x="51" y="170"/>
                </a:lnTo>
                <a:lnTo>
                  <a:pt x="64" y="185"/>
                </a:lnTo>
                <a:lnTo>
                  <a:pt x="57" y="234"/>
                </a:lnTo>
                <a:lnTo>
                  <a:pt x="51" y="256"/>
                </a:lnTo>
                <a:lnTo>
                  <a:pt x="36" y="295"/>
                </a:lnTo>
                <a:lnTo>
                  <a:pt x="0" y="348"/>
                </a:lnTo>
                <a:lnTo>
                  <a:pt x="16" y="422"/>
                </a:lnTo>
                <a:lnTo>
                  <a:pt x="26" y="608"/>
                </a:lnTo>
                <a:lnTo>
                  <a:pt x="37" y="657"/>
                </a:lnTo>
                <a:lnTo>
                  <a:pt x="22" y="694"/>
                </a:lnTo>
                <a:lnTo>
                  <a:pt x="22" y="999"/>
                </a:lnTo>
                <a:lnTo>
                  <a:pt x="57" y="1044"/>
                </a:lnTo>
                <a:lnTo>
                  <a:pt x="50" y="1070"/>
                </a:lnTo>
                <a:lnTo>
                  <a:pt x="65" y="1083"/>
                </a:lnTo>
                <a:lnTo>
                  <a:pt x="54" y="1116"/>
                </a:lnTo>
                <a:lnTo>
                  <a:pt x="76" y="1137"/>
                </a:lnTo>
                <a:lnTo>
                  <a:pt x="78" y="1186"/>
                </a:lnTo>
                <a:lnTo>
                  <a:pt x="65" y="1171"/>
                </a:lnTo>
                <a:lnTo>
                  <a:pt x="65" y="1187"/>
                </a:lnTo>
                <a:lnTo>
                  <a:pt x="75" y="1222"/>
                </a:lnTo>
                <a:lnTo>
                  <a:pt x="75" y="1272"/>
                </a:lnTo>
                <a:lnTo>
                  <a:pt x="64" y="1303"/>
                </a:lnTo>
                <a:lnTo>
                  <a:pt x="62" y="1336"/>
                </a:lnTo>
                <a:lnTo>
                  <a:pt x="55" y="1353"/>
                </a:lnTo>
                <a:lnTo>
                  <a:pt x="55" y="1399"/>
                </a:lnTo>
                <a:lnTo>
                  <a:pt x="75" y="1418"/>
                </a:lnTo>
                <a:lnTo>
                  <a:pt x="85" y="1416"/>
                </a:lnTo>
                <a:lnTo>
                  <a:pt x="90" y="1453"/>
                </a:lnTo>
                <a:lnTo>
                  <a:pt x="96" y="1484"/>
                </a:lnTo>
                <a:lnTo>
                  <a:pt x="128" y="1502"/>
                </a:lnTo>
                <a:lnTo>
                  <a:pt x="154" y="1505"/>
                </a:lnTo>
                <a:lnTo>
                  <a:pt x="171" y="1514"/>
                </a:lnTo>
                <a:lnTo>
                  <a:pt x="193" y="1509"/>
                </a:lnTo>
                <a:lnTo>
                  <a:pt x="230" y="1503"/>
                </a:lnTo>
                <a:lnTo>
                  <a:pt x="203" y="1460"/>
                </a:lnTo>
                <a:lnTo>
                  <a:pt x="193" y="1443"/>
                </a:lnTo>
                <a:lnTo>
                  <a:pt x="206" y="1395"/>
                </a:lnTo>
                <a:lnTo>
                  <a:pt x="227" y="1386"/>
                </a:lnTo>
                <a:lnTo>
                  <a:pt x="238" y="1364"/>
                </a:lnTo>
                <a:lnTo>
                  <a:pt x="232" y="1354"/>
                </a:lnTo>
                <a:lnTo>
                  <a:pt x="227" y="1345"/>
                </a:lnTo>
                <a:lnTo>
                  <a:pt x="237" y="1321"/>
                </a:lnTo>
                <a:lnTo>
                  <a:pt x="270" y="1297"/>
                </a:lnTo>
                <a:lnTo>
                  <a:pt x="301" y="1269"/>
                </a:lnTo>
                <a:lnTo>
                  <a:pt x="301" y="1222"/>
                </a:lnTo>
                <a:lnTo>
                  <a:pt x="281" y="1212"/>
                </a:lnTo>
                <a:lnTo>
                  <a:pt x="239" y="1183"/>
                </a:lnTo>
                <a:lnTo>
                  <a:pt x="227" y="1157"/>
                </a:lnTo>
                <a:lnTo>
                  <a:pt x="239" y="1136"/>
                </a:lnTo>
                <a:lnTo>
                  <a:pt x="278" y="1095"/>
                </a:lnTo>
                <a:lnTo>
                  <a:pt x="301" y="1073"/>
                </a:lnTo>
                <a:lnTo>
                  <a:pt x="301" y="1020"/>
                </a:lnTo>
                <a:lnTo>
                  <a:pt x="315" y="964"/>
                </a:lnTo>
                <a:lnTo>
                  <a:pt x="356" y="988"/>
                </a:lnTo>
                <a:lnTo>
                  <a:pt x="376" y="976"/>
                </a:lnTo>
                <a:lnTo>
                  <a:pt x="362" y="953"/>
                </a:lnTo>
                <a:lnTo>
                  <a:pt x="313" y="953"/>
                </a:lnTo>
                <a:lnTo>
                  <a:pt x="303" y="910"/>
                </a:lnTo>
                <a:lnTo>
                  <a:pt x="291" y="878"/>
                </a:lnTo>
                <a:lnTo>
                  <a:pt x="317" y="880"/>
                </a:lnTo>
                <a:lnTo>
                  <a:pt x="348" y="885"/>
                </a:lnTo>
                <a:lnTo>
                  <a:pt x="384" y="889"/>
                </a:lnTo>
                <a:lnTo>
                  <a:pt x="398" y="882"/>
                </a:lnTo>
                <a:lnTo>
                  <a:pt x="412" y="838"/>
                </a:lnTo>
                <a:lnTo>
                  <a:pt x="412" y="814"/>
                </a:lnTo>
                <a:lnTo>
                  <a:pt x="419" y="789"/>
                </a:lnTo>
                <a:lnTo>
                  <a:pt x="432" y="767"/>
                </a:lnTo>
                <a:lnTo>
                  <a:pt x="505" y="767"/>
                </a:lnTo>
                <a:lnTo>
                  <a:pt x="505" y="747"/>
                </a:lnTo>
                <a:lnTo>
                  <a:pt x="531" y="726"/>
                </a:lnTo>
                <a:lnTo>
                  <a:pt x="542" y="696"/>
                </a:lnTo>
                <a:lnTo>
                  <a:pt x="519" y="664"/>
                </a:lnTo>
                <a:lnTo>
                  <a:pt x="519" y="643"/>
                </a:lnTo>
                <a:lnTo>
                  <a:pt x="508" y="594"/>
                </a:lnTo>
                <a:lnTo>
                  <a:pt x="490" y="584"/>
                </a:lnTo>
                <a:lnTo>
                  <a:pt x="471" y="582"/>
                </a:lnTo>
                <a:lnTo>
                  <a:pt x="471" y="555"/>
                </a:lnTo>
                <a:lnTo>
                  <a:pt x="499" y="529"/>
                </a:lnTo>
                <a:lnTo>
                  <a:pt x="500" y="502"/>
                </a:lnTo>
                <a:lnTo>
                  <a:pt x="508" y="469"/>
                </a:lnTo>
                <a:lnTo>
                  <a:pt x="508" y="422"/>
                </a:lnTo>
                <a:lnTo>
                  <a:pt x="544" y="391"/>
                </a:lnTo>
                <a:lnTo>
                  <a:pt x="544" y="346"/>
                </a:lnTo>
                <a:lnTo>
                  <a:pt x="570" y="321"/>
                </a:lnTo>
                <a:lnTo>
                  <a:pt x="625" y="275"/>
                </a:lnTo>
                <a:lnTo>
                  <a:pt x="673" y="250"/>
                </a:lnTo>
                <a:lnTo>
                  <a:pt x="684" y="220"/>
                </a:lnTo>
                <a:lnTo>
                  <a:pt x="671" y="186"/>
                </a:lnTo>
                <a:lnTo>
                  <a:pt x="638" y="186"/>
                </a:lnTo>
                <a:lnTo>
                  <a:pt x="609" y="214"/>
                </a:lnTo>
                <a:lnTo>
                  <a:pt x="577" y="263"/>
                </a:lnTo>
                <a:lnTo>
                  <a:pt x="536" y="260"/>
                </a:lnTo>
                <a:lnTo>
                  <a:pt x="499" y="239"/>
                </a:lnTo>
                <a:lnTo>
                  <a:pt x="497" y="218"/>
                </a:lnTo>
                <a:lnTo>
                  <a:pt x="508" y="199"/>
                </a:lnTo>
                <a:lnTo>
                  <a:pt x="505" y="156"/>
                </a:lnTo>
                <a:lnTo>
                  <a:pt x="487" y="124"/>
                </a:lnTo>
                <a:lnTo>
                  <a:pt x="459" y="108"/>
                </a:lnTo>
                <a:lnTo>
                  <a:pt x="433" y="103"/>
                </a:lnTo>
                <a:lnTo>
                  <a:pt x="379" y="69"/>
                </a:lnTo>
                <a:lnTo>
                  <a:pt x="345" y="60"/>
                </a:lnTo>
                <a:lnTo>
                  <a:pt x="308" y="32"/>
                </a:lnTo>
                <a:lnTo>
                  <a:pt x="303" y="11"/>
                </a:lnTo>
                <a:lnTo>
                  <a:pt x="271" y="14"/>
                </a:lnTo>
                <a:lnTo>
                  <a:pt x="246" y="0"/>
                </a:lnTo>
                <a:lnTo>
                  <a:pt x="235" y="37"/>
                </a:lnTo>
                <a:close/>
              </a:path>
            </a:pathLst>
          </a:custGeom>
          <a:solidFill>
            <a:srgbClr val="9f3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8" action="ppaction://hlinksldjump"/>
          </p:cNvPr>
          <p:cNvSpPr/>
          <p:nvPr/>
        </p:nvSpPr>
        <p:spPr>
          <a:xfrm>
            <a:off x="6507000" y="4110120"/>
            <a:ext cx="365400" cy="365040"/>
          </a:xfrm>
          <a:custGeom>
            <a:avLst/>
            <a:gdLst/>
            <a:ahLst/>
            <a:rect l="l" t="t" r="r" b="b"/>
            <a:pathLst>
              <a:path w="230" h="230">
                <a:moveTo>
                  <a:pt x="73" y="0"/>
                </a:moveTo>
                <a:lnTo>
                  <a:pt x="37" y="34"/>
                </a:lnTo>
                <a:lnTo>
                  <a:pt x="37" y="77"/>
                </a:lnTo>
                <a:lnTo>
                  <a:pt x="29" y="109"/>
                </a:lnTo>
                <a:lnTo>
                  <a:pt x="28" y="139"/>
                </a:lnTo>
                <a:lnTo>
                  <a:pt x="0" y="167"/>
                </a:lnTo>
                <a:lnTo>
                  <a:pt x="0" y="194"/>
                </a:lnTo>
                <a:lnTo>
                  <a:pt x="19" y="196"/>
                </a:lnTo>
                <a:lnTo>
                  <a:pt x="34" y="206"/>
                </a:lnTo>
                <a:lnTo>
                  <a:pt x="37" y="210"/>
                </a:lnTo>
                <a:lnTo>
                  <a:pt x="80" y="230"/>
                </a:lnTo>
                <a:lnTo>
                  <a:pt x="99" y="219"/>
                </a:lnTo>
                <a:lnTo>
                  <a:pt x="158" y="219"/>
                </a:lnTo>
                <a:lnTo>
                  <a:pt x="175" y="198"/>
                </a:lnTo>
                <a:lnTo>
                  <a:pt x="197" y="178"/>
                </a:lnTo>
                <a:lnTo>
                  <a:pt x="210" y="135"/>
                </a:lnTo>
                <a:lnTo>
                  <a:pt x="230" y="120"/>
                </a:lnTo>
                <a:lnTo>
                  <a:pt x="186" y="74"/>
                </a:lnTo>
                <a:lnTo>
                  <a:pt x="135" y="45"/>
                </a:lnTo>
                <a:lnTo>
                  <a:pt x="100" y="49"/>
                </a:lnTo>
                <a:lnTo>
                  <a:pt x="96" y="20"/>
                </a:lnTo>
                <a:lnTo>
                  <a:pt x="73" y="0"/>
                </a:lnTo>
                <a:close/>
              </a:path>
            </a:pathLst>
          </a:custGeom>
          <a:solidFill>
            <a:srgbClr val="9f7f5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9" action="ppaction://hlinksldjump"/>
          </p:cNvPr>
          <p:cNvSpPr/>
          <p:nvPr/>
        </p:nvSpPr>
        <p:spPr>
          <a:xfrm>
            <a:off x="5613480" y="3170160"/>
            <a:ext cx="511200" cy="2827440"/>
          </a:xfrm>
          <a:custGeom>
            <a:avLst/>
            <a:gdLst/>
            <a:ahLst/>
            <a:rect l="l" t="t" r="r" b="b"/>
            <a:pathLst>
              <a:path w="322" h="1781">
                <a:moveTo>
                  <a:pt x="36" y="53"/>
                </a:moveTo>
                <a:lnTo>
                  <a:pt x="72" y="0"/>
                </a:lnTo>
                <a:lnTo>
                  <a:pt x="103" y="42"/>
                </a:lnTo>
                <a:lnTo>
                  <a:pt x="129" y="106"/>
                </a:lnTo>
                <a:lnTo>
                  <a:pt x="108" y="170"/>
                </a:lnTo>
                <a:lnTo>
                  <a:pt x="202" y="223"/>
                </a:lnTo>
                <a:lnTo>
                  <a:pt x="214" y="273"/>
                </a:lnTo>
                <a:lnTo>
                  <a:pt x="202" y="303"/>
                </a:lnTo>
                <a:lnTo>
                  <a:pt x="167" y="325"/>
                </a:lnTo>
                <a:lnTo>
                  <a:pt x="146" y="372"/>
                </a:lnTo>
                <a:lnTo>
                  <a:pt x="156" y="390"/>
                </a:lnTo>
                <a:lnTo>
                  <a:pt x="146" y="461"/>
                </a:lnTo>
                <a:lnTo>
                  <a:pt x="135" y="496"/>
                </a:lnTo>
                <a:lnTo>
                  <a:pt x="92" y="550"/>
                </a:lnTo>
                <a:lnTo>
                  <a:pt x="107" y="612"/>
                </a:lnTo>
                <a:lnTo>
                  <a:pt x="111" y="685"/>
                </a:lnTo>
                <a:lnTo>
                  <a:pt x="121" y="823"/>
                </a:lnTo>
                <a:lnTo>
                  <a:pt x="129" y="859"/>
                </a:lnTo>
                <a:lnTo>
                  <a:pt x="114" y="898"/>
                </a:lnTo>
                <a:lnTo>
                  <a:pt x="114" y="1116"/>
                </a:lnTo>
                <a:lnTo>
                  <a:pt x="114" y="1203"/>
                </a:lnTo>
                <a:lnTo>
                  <a:pt x="149" y="1248"/>
                </a:lnTo>
                <a:lnTo>
                  <a:pt x="146" y="1274"/>
                </a:lnTo>
                <a:lnTo>
                  <a:pt x="157" y="1287"/>
                </a:lnTo>
                <a:lnTo>
                  <a:pt x="146" y="1322"/>
                </a:lnTo>
                <a:lnTo>
                  <a:pt x="168" y="1340"/>
                </a:lnTo>
                <a:lnTo>
                  <a:pt x="168" y="1387"/>
                </a:lnTo>
                <a:lnTo>
                  <a:pt x="157" y="1377"/>
                </a:lnTo>
                <a:lnTo>
                  <a:pt x="157" y="1391"/>
                </a:lnTo>
                <a:lnTo>
                  <a:pt x="167" y="1429"/>
                </a:lnTo>
                <a:lnTo>
                  <a:pt x="167" y="1476"/>
                </a:lnTo>
                <a:lnTo>
                  <a:pt x="156" y="1510"/>
                </a:lnTo>
                <a:lnTo>
                  <a:pt x="156" y="1539"/>
                </a:lnTo>
                <a:lnTo>
                  <a:pt x="147" y="1557"/>
                </a:lnTo>
                <a:lnTo>
                  <a:pt x="147" y="1603"/>
                </a:lnTo>
                <a:lnTo>
                  <a:pt x="167" y="1622"/>
                </a:lnTo>
                <a:lnTo>
                  <a:pt x="177" y="1622"/>
                </a:lnTo>
                <a:lnTo>
                  <a:pt x="188" y="1688"/>
                </a:lnTo>
                <a:lnTo>
                  <a:pt x="220" y="1706"/>
                </a:lnTo>
                <a:lnTo>
                  <a:pt x="244" y="1709"/>
                </a:lnTo>
                <a:lnTo>
                  <a:pt x="264" y="1718"/>
                </a:lnTo>
                <a:lnTo>
                  <a:pt x="290" y="1710"/>
                </a:lnTo>
                <a:lnTo>
                  <a:pt x="322" y="1707"/>
                </a:lnTo>
                <a:lnTo>
                  <a:pt x="278" y="1735"/>
                </a:lnTo>
                <a:lnTo>
                  <a:pt x="258" y="1738"/>
                </a:lnTo>
                <a:lnTo>
                  <a:pt x="244" y="1757"/>
                </a:lnTo>
                <a:lnTo>
                  <a:pt x="241" y="1781"/>
                </a:lnTo>
                <a:lnTo>
                  <a:pt x="192" y="1739"/>
                </a:lnTo>
                <a:lnTo>
                  <a:pt x="205" y="1728"/>
                </a:lnTo>
                <a:lnTo>
                  <a:pt x="199" y="1716"/>
                </a:lnTo>
                <a:lnTo>
                  <a:pt x="188" y="1718"/>
                </a:lnTo>
                <a:lnTo>
                  <a:pt x="179" y="1695"/>
                </a:lnTo>
                <a:lnTo>
                  <a:pt x="149" y="1695"/>
                </a:lnTo>
                <a:lnTo>
                  <a:pt x="131" y="1686"/>
                </a:lnTo>
                <a:lnTo>
                  <a:pt x="131" y="1663"/>
                </a:lnTo>
                <a:lnTo>
                  <a:pt x="108" y="1628"/>
                </a:lnTo>
                <a:lnTo>
                  <a:pt x="95" y="1561"/>
                </a:lnTo>
                <a:lnTo>
                  <a:pt x="92" y="1532"/>
                </a:lnTo>
                <a:lnTo>
                  <a:pt x="71" y="1490"/>
                </a:lnTo>
                <a:lnTo>
                  <a:pt x="83" y="1482"/>
                </a:lnTo>
                <a:lnTo>
                  <a:pt x="101" y="1476"/>
                </a:lnTo>
                <a:lnTo>
                  <a:pt x="65" y="1441"/>
                </a:lnTo>
                <a:lnTo>
                  <a:pt x="62" y="1425"/>
                </a:lnTo>
                <a:lnTo>
                  <a:pt x="50" y="1430"/>
                </a:lnTo>
                <a:lnTo>
                  <a:pt x="29" y="1418"/>
                </a:lnTo>
                <a:lnTo>
                  <a:pt x="0" y="1397"/>
                </a:lnTo>
                <a:lnTo>
                  <a:pt x="19" y="1379"/>
                </a:lnTo>
                <a:lnTo>
                  <a:pt x="39" y="1355"/>
                </a:lnTo>
                <a:lnTo>
                  <a:pt x="44" y="1370"/>
                </a:lnTo>
                <a:lnTo>
                  <a:pt x="72" y="1397"/>
                </a:lnTo>
                <a:lnTo>
                  <a:pt x="96" y="1391"/>
                </a:lnTo>
                <a:lnTo>
                  <a:pt x="82" y="1373"/>
                </a:lnTo>
                <a:lnTo>
                  <a:pt x="92" y="1348"/>
                </a:lnTo>
                <a:lnTo>
                  <a:pt x="96" y="1319"/>
                </a:lnTo>
                <a:lnTo>
                  <a:pt x="83" y="1309"/>
                </a:lnTo>
                <a:lnTo>
                  <a:pt x="104" y="1299"/>
                </a:lnTo>
                <a:lnTo>
                  <a:pt x="69" y="1252"/>
                </a:lnTo>
                <a:lnTo>
                  <a:pt x="71" y="1121"/>
                </a:lnTo>
                <a:lnTo>
                  <a:pt x="40" y="1123"/>
                </a:lnTo>
                <a:lnTo>
                  <a:pt x="15" y="1097"/>
                </a:lnTo>
                <a:lnTo>
                  <a:pt x="12" y="1043"/>
                </a:lnTo>
                <a:lnTo>
                  <a:pt x="26" y="1018"/>
                </a:lnTo>
                <a:lnTo>
                  <a:pt x="26" y="982"/>
                </a:lnTo>
                <a:lnTo>
                  <a:pt x="16" y="972"/>
                </a:lnTo>
                <a:lnTo>
                  <a:pt x="25" y="922"/>
                </a:lnTo>
                <a:lnTo>
                  <a:pt x="40" y="868"/>
                </a:lnTo>
                <a:lnTo>
                  <a:pt x="39" y="822"/>
                </a:lnTo>
                <a:lnTo>
                  <a:pt x="60" y="800"/>
                </a:lnTo>
                <a:lnTo>
                  <a:pt x="60" y="741"/>
                </a:lnTo>
                <a:lnTo>
                  <a:pt x="60" y="626"/>
                </a:lnTo>
                <a:lnTo>
                  <a:pt x="82" y="596"/>
                </a:lnTo>
                <a:lnTo>
                  <a:pt x="78" y="582"/>
                </a:lnTo>
                <a:lnTo>
                  <a:pt x="62" y="559"/>
                </a:lnTo>
                <a:lnTo>
                  <a:pt x="60" y="502"/>
                </a:lnTo>
                <a:lnTo>
                  <a:pt x="67" y="489"/>
                </a:lnTo>
                <a:lnTo>
                  <a:pt x="72" y="451"/>
                </a:lnTo>
                <a:lnTo>
                  <a:pt x="75" y="314"/>
                </a:lnTo>
                <a:lnTo>
                  <a:pt x="51" y="300"/>
                </a:lnTo>
                <a:lnTo>
                  <a:pt x="71" y="271"/>
                </a:lnTo>
                <a:lnTo>
                  <a:pt x="71" y="230"/>
                </a:lnTo>
                <a:lnTo>
                  <a:pt x="71" y="172"/>
                </a:lnTo>
                <a:lnTo>
                  <a:pt x="71" y="117"/>
                </a:lnTo>
                <a:lnTo>
                  <a:pt x="58" y="71"/>
                </a:lnTo>
                <a:lnTo>
                  <a:pt x="36" y="53"/>
                </a:lnTo>
                <a:close/>
              </a:path>
            </a:pathLst>
          </a:custGeom>
          <a:solidFill>
            <a:srgbClr val="00f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1640" y="1494000"/>
            <a:ext cx="295200" cy="309240"/>
          </a:xfrm>
          <a:custGeom>
            <a:avLst/>
            <a:gdLst/>
            <a:ahLst/>
            <a:rect l="l" t="t" r="r" b="b"/>
            <a:pathLst>
              <a:path w="186" h="195">
                <a:moveTo>
                  <a:pt x="43" y="0"/>
                </a:moveTo>
                <a:lnTo>
                  <a:pt x="71" y="11"/>
                </a:lnTo>
                <a:lnTo>
                  <a:pt x="174" y="11"/>
                </a:lnTo>
                <a:lnTo>
                  <a:pt x="181" y="40"/>
                </a:lnTo>
                <a:lnTo>
                  <a:pt x="160" y="75"/>
                </a:lnTo>
                <a:lnTo>
                  <a:pt x="169" y="86"/>
                </a:lnTo>
                <a:lnTo>
                  <a:pt x="169" y="111"/>
                </a:lnTo>
                <a:lnTo>
                  <a:pt x="186" y="133"/>
                </a:lnTo>
                <a:lnTo>
                  <a:pt x="186" y="161"/>
                </a:lnTo>
                <a:lnTo>
                  <a:pt x="153" y="172"/>
                </a:lnTo>
                <a:lnTo>
                  <a:pt x="114" y="170"/>
                </a:lnTo>
                <a:lnTo>
                  <a:pt x="90" y="195"/>
                </a:lnTo>
                <a:lnTo>
                  <a:pt x="76" y="192"/>
                </a:lnTo>
                <a:lnTo>
                  <a:pt x="55" y="110"/>
                </a:lnTo>
                <a:lnTo>
                  <a:pt x="12" y="79"/>
                </a:lnTo>
                <a:lnTo>
                  <a:pt x="0" y="53"/>
                </a:lnTo>
                <a:lnTo>
                  <a:pt x="43" y="0"/>
                </a:lnTo>
                <a:close/>
              </a:path>
            </a:pathLst>
          </a:custGeom>
          <a:solidFill>
            <a:srgbClr val="3f1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96080" y="1495440"/>
            <a:ext cx="217440" cy="298440"/>
          </a:xfrm>
          <a:custGeom>
            <a:avLst/>
            <a:gdLst/>
            <a:ahLst/>
            <a:rect l="l" t="t" r="r" b="b"/>
            <a:pathLst>
              <a:path w="137" h="188">
                <a:moveTo>
                  <a:pt x="20" y="11"/>
                </a:moveTo>
                <a:lnTo>
                  <a:pt x="36" y="0"/>
                </a:lnTo>
                <a:lnTo>
                  <a:pt x="71" y="45"/>
                </a:lnTo>
                <a:lnTo>
                  <a:pt x="116" y="66"/>
                </a:lnTo>
                <a:lnTo>
                  <a:pt x="137" y="89"/>
                </a:lnTo>
                <a:lnTo>
                  <a:pt x="117" y="106"/>
                </a:lnTo>
                <a:lnTo>
                  <a:pt x="103" y="116"/>
                </a:lnTo>
                <a:lnTo>
                  <a:pt x="60" y="180"/>
                </a:lnTo>
                <a:lnTo>
                  <a:pt x="31" y="188"/>
                </a:lnTo>
                <a:lnTo>
                  <a:pt x="13" y="178"/>
                </a:lnTo>
                <a:lnTo>
                  <a:pt x="0" y="169"/>
                </a:lnTo>
                <a:lnTo>
                  <a:pt x="32" y="160"/>
                </a:lnTo>
                <a:lnTo>
                  <a:pt x="32" y="132"/>
                </a:lnTo>
                <a:lnTo>
                  <a:pt x="15" y="110"/>
                </a:lnTo>
                <a:lnTo>
                  <a:pt x="15" y="88"/>
                </a:lnTo>
                <a:lnTo>
                  <a:pt x="6" y="74"/>
                </a:lnTo>
                <a:lnTo>
                  <a:pt x="27" y="39"/>
                </a:lnTo>
                <a:lnTo>
                  <a:pt x="20" y="11"/>
                </a:lnTo>
                <a:close/>
              </a:path>
            </a:pathLst>
          </a:custGeom>
          <a:solidFill>
            <a:srgbClr val="ffbf7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21120" y="228600"/>
            <a:ext cx="30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La América del S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019560" y="498600"/>
            <a:ext cx="2062440" cy="796680"/>
            <a:chOff x="6019560" y="498600"/>
            <a:chExt cx="2062440" cy="796680"/>
          </a:xfrm>
        </p:grpSpPr>
        <p:sp>
          <p:nvSpPr>
            <p:cNvPr id="266" name=""/>
            <p:cNvSpPr/>
            <p:nvPr/>
          </p:nvSpPr>
          <p:spPr>
            <a:xfrm>
              <a:off x="6613560" y="498600"/>
              <a:ext cx="14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nezue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019560" y="838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336840" y="1031760"/>
            <a:ext cx="1997280" cy="568440"/>
            <a:chOff x="3336840" y="1031760"/>
            <a:chExt cx="1997280" cy="568440"/>
          </a:xfrm>
        </p:grpSpPr>
        <p:sp>
          <p:nvSpPr>
            <p:cNvPr id="269" name=""/>
            <p:cNvSpPr/>
            <p:nvPr/>
          </p:nvSpPr>
          <p:spPr>
            <a:xfrm>
              <a:off x="3336840" y="1031760"/>
              <a:ext cx="13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omb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24280" y="129528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667600" y="1828800"/>
            <a:ext cx="2361600" cy="459720"/>
            <a:chOff x="2667600" y="1828800"/>
            <a:chExt cx="2361600" cy="459720"/>
          </a:xfrm>
        </p:grpSpPr>
        <p:sp>
          <p:nvSpPr>
            <p:cNvPr id="272" name=""/>
            <p:cNvSpPr/>
            <p:nvPr/>
          </p:nvSpPr>
          <p:spPr>
            <a:xfrm>
              <a:off x="2667600" y="18288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cu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86200" y="2057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659040" y="2590920"/>
            <a:ext cx="1598760" cy="535680"/>
            <a:chOff x="3659040" y="2590920"/>
            <a:chExt cx="1598760" cy="535680"/>
          </a:xfrm>
        </p:grpSpPr>
        <p:sp>
          <p:nvSpPr>
            <p:cNvPr id="275" name=""/>
            <p:cNvSpPr/>
            <p:nvPr/>
          </p:nvSpPr>
          <p:spPr>
            <a:xfrm>
              <a:off x="3659040" y="266688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419720" y="2590920"/>
              <a:ext cx="8380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641760" y="3124080"/>
            <a:ext cx="2454120" cy="806040"/>
            <a:chOff x="3641760" y="3124080"/>
            <a:chExt cx="2454120" cy="806040"/>
          </a:xfrm>
        </p:grpSpPr>
        <p:sp>
          <p:nvSpPr>
            <p:cNvPr id="278" name=""/>
            <p:cNvSpPr/>
            <p:nvPr/>
          </p:nvSpPr>
          <p:spPr>
            <a:xfrm>
              <a:off x="3641760" y="347040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liv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724280" y="3124080"/>
              <a:ext cx="13716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476760" y="3580920"/>
            <a:ext cx="2444400" cy="577800"/>
            <a:chOff x="6476760" y="3580920"/>
            <a:chExt cx="2444400" cy="577800"/>
          </a:xfrm>
        </p:grpSpPr>
        <p:sp>
          <p:nvSpPr>
            <p:cNvPr id="281" name=""/>
            <p:cNvSpPr/>
            <p:nvPr/>
          </p:nvSpPr>
          <p:spPr>
            <a:xfrm>
              <a:off x="7605000" y="36990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agu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6476760" y="358092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794400" y="4460760"/>
            <a:ext cx="1920600" cy="459720"/>
            <a:chOff x="3794400" y="4460760"/>
            <a:chExt cx="1920600" cy="459720"/>
          </a:xfrm>
        </p:grpSpPr>
        <p:sp>
          <p:nvSpPr>
            <p:cNvPr id="284" name=""/>
            <p:cNvSpPr/>
            <p:nvPr/>
          </p:nvSpPr>
          <p:spPr>
            <a:xfrm>
              <a:off x="3794400" y="446076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8320" y="47242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705720" y="4343040"/>
            <a:ext cx="1995120" cy="577440"/>
            <a:chOff x="6705720" y="4343040"/>
            <a:chExt cx="1995120" cy="577440"/>
          </a:xfrm>
        </p:grpSpPr>
        <p:sp>
          <p:nvSpPr>
            <p:cNvPr id="287" name=""/>
            <p:cNvSpPr/>
            <p:nvPr/>
          </p:nvSpPr>
          <p:spPr>
            <a:xfrm>
              <a:off x="7453440" y="446076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rugu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6705720" y="4343040"/>
              <a:ext cx="761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171840" y="4419360"/>
            <a:ext cx="2469240" cy="1415520"/>
            <a:chOff x="6171840" y="4419360"/>
            <a:chExt cx="2469240" cy="1415520"/>
          </a:xfrm>
        </p:grpSpPr>
        <p:sp>
          <p:nvSpPr>
            <p:cNvPr id="290" name=""/>
            <p:cNvSpPr/>
            <p:nvPr/>
          </p:nvSpPr>
          <p:spPr>
            <a:xfrm>
              <a:off x="6841800" y="5375160"/>
              <a:ext cx="179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 Argent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6171840" y="4419360"/>
              <a:ext cx="685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8000">
    <p:pull dir="ru"/>
    <p:sndAc>
      <p:stSnd>
        <p:snd r:embed="rId10" name="chimes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029200" y="3809880"/>
            <a:ext cx="3657600" cy="22482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216080" y="3429000"/>
            <a:ext cx="2898720" cy="3114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828800" y="2438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ara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Venezuel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98" name=""/>
          <p:cNvSpPr/>
          <p:nvPr/>
        </p:nvSpPr>
        <p:spPr>
          <a:xfrm>
            <a:off x="5562720" y="2438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enezol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3809880"/>
            <a:ext cx="36576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4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52360" y="3048120"/>
            <a:ext cx="3343320" cy="3590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5410080" y="3886200"/>
            <a:ext cx="3124440" cy="20667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5791320" y="2057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ogot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Colomb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06" name=""/>
          <p:cNvSpPr/>
          <p:nvPr/>
        </p:nvSpPr>
        <p:spPr>
          <a:xfrm>
            <a:off x="5791320" y="2925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lombi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3886200"/>
            <a:ext cx="312444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4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3048120"/>
            <a:ext cx="3343320" cy="3590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5257800" y="4419720"/>
            <a:ext cx="3533760" cy="19810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715000" y="2286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u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Ecuad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14" name=""/>
          <p:cNvSpPr/>
          <p:nvPr/>
        </p:nvSpPr>
        <p:spPr>
          <a:xfrm>
            <a:off x="5715000" y="3200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ecuatori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57800" y="4419720"/>
            <a:ext cx="350532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4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3181320" cy="34387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3124080" cy="20574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958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(El) Per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22" name=""/>
          <p:cNvSpPr/>
          <p:nvPr/>
        </p:nvSpPr>
        <p:spPr>
          <a:xfrm>
            <a:off x="6095880" y="31543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eru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4343400"/>
            <a:ext cx="3124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3263760" cy="35053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3124080" cy="20574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5791320" y="1905120"/>
            <a:ext cx="251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a Paz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(Suc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Boliv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30" name=""/>
          <p:cNvSpPr/>
          <p:nvPr/>
        </p:nvSpPr>
        <p:spPr>
          <a:xfrm>
            <a:off x="5791320" y="3124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olivi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62720" y="4114800"/>
            <a:ext cx="3124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3247920" cy="34862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666960" cy="20667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5638680" y="2057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su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Paragua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38" name=""/>
          <p:cNvSpPr/>
          <p:nvPr/>
        </p:nvSpPr>
        <p:spPr>
          <a:xfrm>
            <a:off x="5638680" y="2925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araguay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05520" y="3962520"/>
            <a:ext cx="36576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3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3343320" cy="3591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504960" cy="23619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486400" y="2133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ontevi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Urugua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46" name=""/>
          <p:cNvSpPr/>
          <p:nvPr/>
        </p:nvSpPr>
        <p:spPr>
          <a:xfrm>
            <a:off x="5486400" y="3002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ruguay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962520"/>
            <a:ext cx="350496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3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2632320" cy="56390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105520" y="4267080"/>
            <a:ext cx="3124080" cy="20574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5410080" y="23623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ti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0" y="38088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Ch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54" name=""/>
          <p:cNvSpPr/>
          <p:nvPr/>
        </p:nvSpPr>
        <p:spPr>
          <a:xfrm>
            <a:off x="5410080" y="31543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hil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267080"/>
            <a:ext cx="3124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667160" y="2514600"/>
            <a:ext cx="2953800" cy="2059560"/>
            <a:chOff x="1667160" y="2514600"/>
            <a:chExt cx="2953800" cy="2059560"/>
          </a:xfrm>
        </p:grpSpPr>
        <p:grpSp>
          <p:nvGrpSpPr>
            <p:cNvPr id="138" name=""/>
            <p:cNvGrpSpPr/>
            <p:nvPr/>
          </p:nvGrpSpPr>
          <p:grpSpPr>
            <a:xfrm>
              <a:off x="1876320" y="2514600"/>
              <a:ext cx="2744640" cy="1752480"/>
              <a:chOff x="1876320" y="2514600"/>
              <a:chExt cx="2744640" cy="1752480"/>
            </a:xfrm>
          </p:grpSpPr>
          <p:pic>
            <p:nvPicPr>
              <p:cNvPr id="1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00200" y="3535200"/>
                <a:ext cx="1220760" cy="73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6320" y="2514600"/>
                <a:ext cx="1904760" cy="1353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1" name=""/>
            <p:cNvSpPr/>
            <p:nvPr/>
          </p:nvSpPr>
          <p:spPr>
            <a:xfrm>
              <a:off x="1667160" y="3809880"/>
              <a:ext cx="218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México y l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América Centr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90920" y="4038480"/>
            <a:ext cx="2769120" cy="2590920"/>
            <a:chOff x="4390920" y="4038480"/>
            <a:chExt cx="2769120" cy="2590920"/>
          </a:xfrm>
        </p:grpSpPr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4390920" y="4038480"/>
              <a:ext cx="178884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491800" y="5638680"/>
              <a:ext cx="1668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La Améric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del Su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086600" y="457200"/>
            <a:ext cx="1902240" cy="1526400"/>
            <a:chOff x="7086600" y="457200"/>
            <a:chExt cx="1902240" cy="1526400"/>
          </a:xfrm>
        </p:grpSpPr>
        <p:grpSp>
          <p:nvGrpSpPr>
            <p:cNvPr id="146" name=""/>
            <p:cNvGrpSpPr/>
            <p:nvPr/>
          </p:nvGrpSpPr>
          <p:grpSpPr>
            <a:xfrm>
              <a:off x="7086600" y="457200"/>
              <a:ext cx="1593000" cy="1211040"/>
              <a:chOff x="7086600" y="457200"/>
              <a:chExt cx="1593000" cy="1211040"/>
            </a:xfrm>
          </p:grpSpPr>
          <p:sp>
            <p:nvSpPr>
              <p:cNvPr id="147" name=""/>
              <p:cNvSpPr/>
              <p:nvPr/>
            </p:nvSpPr>
            <p:spPr>
              <a:xfrm>
                <a:off x="7086600" y="457200"/>
                <a:ext cx="1443960" cy="1211040"/>
              </a:xfrm>
              <a:custGeom>
                <a:avLst/>
                <a:gdLst/>
                <a:ahLst/>
                <a:rect l="l" t="t" r="r" b="b"/>
                <a:pathLst>
                  <a:path w="2428" h="2036">
                    <a:moveTo>
                      <a:pt x="1216" y="96"/>
                    </a:moveTo>
                    <a:lnTo>
                      <a:pt x="1184" y="138"/>
                    </a:lnTo>
                    <a:lnTo>
                      <a:pt x="1127" y="128"/>
                    </a:lnTo>
                    <a:lnTo>
                      <a:pt x="1091" y="123"/>
                    </a:lnTo>
                    <a:lnTo>
                      <a:pt x="1078" y="100"/>
                    </a:lnTo>
                    <a:lnTo>
                      <a:pt x="1048" y="102"/>
                    </a:lnTo>
                    <a:lnTo>
                      <a:pt x="1040" y="84"/>
                    </a:lnTo>
                    <a:lnTo>
                      <a:pt x="1002" y="104"/>
                    </a:lnTo>
                    <a:lnTo>
                      <a:pt x="953" y="114"/>
                    </a:lnTo>
                    <a:lnTo>
                      <a:pt x="931" y="114"/>
                    </a:lnTo>
                    <a:lnTo>
                      <a:pt x="871" y="87"/>
                    </a:lnTo>
                    <a:lnTo>
                      <a:pt x="801" y="82"/>
                    </a:lnTo>
                    <a:lnTo>
                      <a:pt x="768" y="69"/>
                    </a:lnTo>
                    <a:lnTo>
                      <a:pt x="736" y="77"/>
                    </a:lnTo>
                    <a:lnTo>
                      <a:pt x="705" y="60"/>
                    </a:lnTo>
                    <a:lnTo>
                      <a:pt x="671" y="46"/>
                    </a:lnTo>
                    <a:lnTo>
                      <a:pt x="620" y="49"/>
                    </a:lnTo>
                    <a:lnTo>
                      <a:pt x="547" y="50"/>
                    </a:lnTo>
                    <a:lnTo>
                      <a:pt x="498" y="44"/>
                    </a:lnTo>
                    <a:lnTo>
                      <a:pt x="468" y="50"/>
                    </a:lnTo>
                    <a:lnTo>
                      <a:pt x="438" y="30"/>
                    </a:lnTo>
                    <a:lnTo>
                      <a:pt x="415" y="44"/>
                    </a:lnTo>
                    <a:lnTo>
                      <a:pt x="306" y="7"/>
                    </a:lnTo>
                    <a:lnTo>
                      <a:pt x="283" y="18"/>
                    </a:lnTo>
                    <a:lnTo>
                      <a:pt x="270" y="0"/>
                    </a:lnTo>
                    <a:lnTo>
                      <a:pt x="224" y="33"/>
                    </a:lnTo>
                    <a:lnTo>
                      <a:pt x="189" y="38"/>
                    </a:lnTo>
                    <a:lnTo>
                      <a:pt x="187" y="66"/>
                    </a:lnTo>
                    <a:lnTo>
                      <a:pt x="225" y="70"/>
                    </a:lnTo>
                    <a:lnTo>
                      <a:pt x="215" y="91"/>
                    </a:lnTo>
                    <a:lnTo>
                      <a:pt x="199" y="96"/>
                    </a:lnTo>
                    <a:lnTo>
                      <a:pt x="155" y="99"/>
                    </a:lnTo>
                    <a:lnTo>
                      <a:pt x="111" y="104"/>
                    </a:lnTo>
                    <a:lnTo>
                      <a:pt x="85" y="101"/>
                    </a:lnTo>
                    <a:lnTo>
                      <a:pt x="58" y="132"/>
                    </a:lnTo>
                    <a:lnTo>
                      <a:pt x="34" y="127"/>
                    </a:lnTo>
                    <a:lnTo>
                      <a:pt x="27" y="145"/>
                    </a:lnTo>
                    <a:lnTo>
                      <a:pt x="12" y="141"/>
                    </a:lnTo>
                    <a:lnTo>
                      <a:pt x="0" y="193"/>
                    </a:lnTo>
                    <a:lnTo>
                      <a:pt x="27" y="197"/>
                    </a:lnTo>
                    <a:lnTo>
                      <a:pt x="29" y="229"/>
                    </a:lnTo>
                    <a:lnTo>
                      <a:pt x="60" y="222"/>
                    </a:lnTo>
                    <a:lnTo>
                      <a:pt x="85" y="215"/>
                    </a:lnTo>
                    <a:lnTo>
                      <a:pt x="73" y="236"/>
                    </a:lnTo>
                    <a:lnTo>
                      <a:pt x="70" y="247"/>
                    </a:lnTo>
                    <a:lnTo>
                      <a:pt x="49" y="245"/>
                    </a:lnTo>
                    <a:lnTo>
                      <a:pt x="37" y="278"/>
                    </a:lnTo>
                    <a:lnTo>
                      <a:pt x="45" y="301"/>
                    </a:lnTo>
                    <a:lnTo>
                      <a:pt x="65" y="280"/>
                    </a:lnTo>
                    <a:lnTo>
                      <a:pt x="60" y="265"/>
                    </a:lnTo>
                    <a:lnTo>
                      <a:pt x="83" y="258"/>
                    </a:lnTo>
                    <a:lnTo>
                      <a:pt x="106" y="260"/>
                    </a:lnTo>
                    <a:lnTo>
                      <a:pt x="111" y="276"/>
                    </a:lnTo>
                    <a:lnTo>
                      <a:pt x="93" y="280"/>
                    </a:lnTo>
                    <a:lnTo>
                      <a:pt x="78" y="317"/>
                    </a:lnTo>
                    <a:lnTo>
                      <a:pt x="85" y="365"/>
                    </a:lnTo>
                    <a:lnTo>
                      <a:pt x="98" y="354"/>
                    </a:lnTo>
                    <a:lnTo>
                      <a:pt x="115" y="351"/>
                    </a:lnTo>
                    <a:lnTo>
                      <a:pt x="115" y="370"/>
                    </a:lnTo>
                    <a:lnTo>
                      <a:pt x="100" y="392"/>
                    </a:lnTo>
                    <a:lnTo>
                      <a:pt x="78" y="416"/>
                    </a:lnTo>
                    <a:lnTo>
                      <a:pt x="79" y="437"/>
                    </a:lnTo>
                    <a:lnTo>
                      <a:pt x="131" y="408"/>
                    </a:lnTo>
                    <a:lnTo>
                      <a:pt x="168" y="418"/>
                    </a:lnTo>
                    <a:lnTo>
                      <a:pt x="192" y="413"/>
                    </a:lnTo>
                    <a:lnTo>
                      <a:pt x="203" y="446"/>
                    </a:lnTo>
                    <a:lnTo>
                      <a:pt x="182" y="453"/>
                    </a:lnTo>
                    <a:lnTo>
                      <a:pt x="184" y="480"/>
                    </a:lnTo>
                    <a:lnTo>
                      <a:pt x="218" y="463"/>
                    </a:lnTo>
                    <a:lnTo>
                      <a:pt x="223" y="481"/>
                    </a:lnTo>
                    <a:lnTo>
                      <a:pt x="255" y="480"/>
                    </a:lnTo>
                    <a:lnTo>
                      <a:pt x="257" y="466"/>
                    </a:lnTo>
                    <a:lnTo>
                      <a:pt x="272" y="473"/>
                    </a:lnTo>
                    <a:lnTo>
                      <a:pt x="286" y="500"/>
                    </a:lnTo>
                    <a:lnTo>
                      <a:pt x="306" y="483"/>
                    </a:lnTo>
                    <a:lnTo>
                      <a:pt x="331" y="494"/>
                    </a:lnTo>
                    <a:lnTo>
                      <a:pt x="349" y="489"/>
                    </a:lnTo>
                    <a:lnTo>
                      <a:pt x="369" y="486"/>
                    </a:lnTo>
                    <a:lnTo>
                      <a:pt x="387" y="459"/>
                    </a:lnTo>
                    <a:lnTo>
                      <a:pt x="418" y="460"/>
                    </a:lnTo>
                    <a:lnTo>
                      <a:pt x="440" y="456"/>
                    </a:lnTo>
                    <a:lnTo>
                      <a:pt x="465" y="466"/>
                    </a:lnTo>
                    <a:lnTo>
                      <a:pt x="493" y="486"/>
                    </a:lnTo>
                    <a:lnTo>
                      <a:pt x="492" y="513"/>
                    </a:lnTo>
                    <a:lnTo>
                      <a:pt x="503" y="546"/>
                    </a:lnTo>
                    <a:lnTo>
                      <a:pt x="521" y="550"/>
                    </a:lnTo>
                    <a:lnTo>
                      <a:pt x="532" y="548"/>
                    </a:lnTo>
                    <a:lnTo>
                      <a:pt x="547" y="561"/>
                    </a:lnTo>
                    <a:lnTo>
                      <a:pt x="547" y="594"/>
                    </a:lnTo>
                    <a:lnTo>
                      <a:pt x="528" y="661"/>
                    </a:lnTo>
                    <a:lnTo>
                      <a:pt x="494" y="672"/>
                    </a:lnTo>
                    <a:lnTo>
                      <a:pt x="477" y="654"/>
                    </a:lnTo>
                    <a:lnTo>
                      <a:pt x="453" y="668"/>
                    </a:lnTo>
                    <a:lnTo>
                      <a:pt x="451" y="690"/>
                    </a:lnTo>
                    <a:lnTo>
                      <a:pt x="431" y="740"/>
                    </a:lnTo>
                    <a:lnTo>
                      <a:pt x="445" y="798"/>
                    </a:lnTo>
                    <a:lnTo>
                      <a:pt x="438" y="839"/>
                    </a:lnTo>
                    <a:lnTo>
                      <a:pt x="428" y="900"/>
                    </a:lnTo>
                    <a:lnTo>
                      <a:pt x="405" y="905"/>
                    </a:lnTo>
                    <a:lnTo>
                      <a:pt x="392" y="919"/>
                    </a:lnTo>
                    <a:lnTo>
                      <a:pt x="387" y="933"/>
                    </a:lnTo>
                    <a:lnTo>
                      <a:pt x="405" y="951"/>
                    </a:lnTo>
                    <a:lnTo>
                      <a:pt x="413" y="980"/>
                    </a:lnTo>
                    <a:lnTo>
                      <a:pt x="407" y="1004"/>
                    </a:lnTo>
                    <a:lnTo>
                      <a:pt x="385" y="1039"/>
                    </a:lnTo>
                    <a:lnTo>
                      <a:pt x="381" y="1073"/>
                    </a:lnTo>
                    <a:lnTo>
                      <a:pt x="352" y="1093"/>
                    </a:lnTo>
                    <a:lnTo>
                      <a:pt x="316" y="1097"/>
                    </a:lnTo>
                    <a:lnTo>
                      <a:pt x="311" y="1079"/>
                    </a:lnTo>
                    <a:lnTo>
                      <a:pt x="292" y="1071"/>
                    </a:lnTo>
                    <a:lnTo>
                      <a:pt x="286" y="1099"/>
                    </a:lnTo>
                    <a:lnTo>
                      <a:pt x="315" y="1169"/>
                    </a:lnTo>
                    <a:lnTo>
                      <a:pt x="350" y="1191"/>
                    </a:lnTo>
                    <a:lnTo>
                      <a:pt x="390" y="1221"/>
                    </a:lnTo>
                    <a:lnTo>
                      <a:pt x="385" y="1254"/>
                    </a:lnTo>
                    <a:lnTo>
                      <a:pt x="350" y="1268"/>
                    </a:lnTo>
                    <a:lnTo>
                      <a:pt x="344" y="1305"/>
                    </a:lnTo>
                    <a:lnTo>
                      <a:pt x="311" y="1310"/>
                    </a:lnTo>
                    <a:lnTo>
                      <a:pt x="311" y="1356"/>
                    </a:lnTo>
                    <a:lnTo>
                      <a:pt x="300" y="1379"/>
                    </a:lnTo>
                    <a:lnTo>
                      <a:pt x="355" y="1453"/>
                    </a:lnTo>
                    <a:lnTo>
                      <a:pt x="381" y="1478"/>
                    </a:lnTo>
                    <a:lnTo>
                      <a:pt x="370" y="1502"/>
                    </a:lnTo>
                    <a:lnTo>
                      <a:pt x="339" y="1508"/>
                    </a:lnTo>
                    <a:lnTo>
                      <a:pt x="309" y="1506"/>
                    </a:lnTo>
                    <a:lnTo>
                      <a:pt x="299" y="1535"/>
                    </a:lnTo>
                    <a:lnTo>
                      <a:pt x="270" y="1595"/>
                    </a:lnTo>
                    <a:lnTo>
                      <a:pt x="247" y="1642"/>
                    </a:lnTo>
                    <a:lnTo>
                      <a:pt x="269" y="1671"/>
                    </a:lnTo>
                    <a:lnTo>
                      <a:pt x="269" y="1710"/>
                    </a:lnTo>
                    <a:lnTo>
                      <a:pt x="311" y="1708"/>
                    </a:lnTo>
                    <a:lnTo>
                      <a:pt x="316" y="1716"/>
                    </a:lnTo>
                    <a:lnTo>
                      <a:pt x="355" y="1727"/>
                    </a:lnTo>
                    <a:lnTo>
                      <a:pt x="372" y="1716"/>
                    </a:lnTo>
                    <a:lnTo>
                      <a:pt x="396" y="1716"/>
                    </a:lnTo>
                    <a:lnTo>
                      <a:pt x="392" y="1753"/>
                    </a:lnTo>
                    <a:lnTo>
                      <a:pt x="428" y="1769"/>
                    </a:lnTo>
                    <a:lnTo>
                      <a:pt x="448" y="1785"/>
                    </a:lnTo>
                    <a:lnTo>
                      <a:pt x="477" y="1801"/>
                    </a:lnTo>
                    <a:lnTo>
                      <a:pt x="484" y="1814"/>
                    </a:lnTo>
                    <a:lnTo>
                      <a:pt x="464" y="1852"/>
                    </a:lnTo>
                    <a:lnTo>
                      <a:pt x="473" y="1866"/>
                    </a:lnTo>
                    <a:lnTo>
                      <a:pt x="510" y="1895"/>
                    </a:lnTo>
                    <a:lnTo>
                      <a:pt x="515" y="1921"/>
                    </a:lnTo>
                    <a:lnTo>
                      <a:pt x="528" y="1947"/>
                    </a:lnTo>
                    <a:lnTo>
                      <a:pt x="548" y="1982"/>
                    </a:lnTo>
                    <a:lnTo>
                      <a:pt x="582" y="2011"/>
                    </a:lnTo>
                    <a:lnTo>
                      <a:pt x="612" y="2034"/>
                    </a:lnTo>
                    <a:lnTo>
                      <a:pt x="641" y="2036"/>
                    </a:lnTo>
                    <a:lnTo>
                      <a:pt x="677" y="2033"/>
                    </a:lnTo>
                    <a:lnTo>
                      <a:pt x="693" y="2009"/>
                    </a:lnTo>
                    <a:lnTo>
                      <a:pt x="729" y="1943"/>
                    </a:lnTo>
                    <a:lnTo>
                      <a:pt x="790" y="1923"/>
                    </a:lnTo>
                    <a:lnTo>
                      <a:pt x="858" y="1918"/>
                    </a:lnTo>
                    <a:lnTo>
                      <a:pt x="906" y="1887"/>
                    </a:lnTo>
                    <a:lnTo>
                      <a:pt x="939" y="1885"/>
                    </a:lnTo>
                    <a:lnTo>
                      <a:pt x="960" y="1866"/>
                    </a:lnTo>
                    <a:lnTo>
                      <a:pt x="985" y="1866"/>
                    </a:lnTo>
                    <a:lnTo>
                      <a:pt x="1034" y="1877"/>
                    </a:lnTo>
                    <a:lnTo>
                      <a:pt x="1072" y="1870"/>
                    </a:lnTo>
                    <a:lnTo>
                      <a:pt x="1099" y="1885"/>
                    </a:lnTo>
                    <a:lnTo>
                      <a:pt x="1132" y="1875"/>
                    </a:lnTo>
                    <a:lnTo>
                      <a:pt x="1219" y="1875"/>
                    </a:lnTo>
                    <a:lnTo>
                      <a:pt x="1249" y="1885"/>
                    </a:lnTo>
                    <a:lnTo>
                      <a:pt x="1307" y="1844"/>
                    </a:lnTo>
                    <a:lnTo>
                      <a:pt x="1333" y="1826"/>
                    </a:lnTo>
                    <a:lnTo>
                      <a:pt x="1345" y="1846"/>
                    </a:lnTo>
                    <a:lnTo>
                      <a:pt x="1385" y="1857"/>
                    </a:lnTo>
                    <a:lnTo>
                      <a:pt x="1405" y="1848"/>
                    </a:lnTo>
                    <a:lnTo>
                      <a:pt x="1416" y="1814"/>
                    </a:lnTo>
                    <a:lnTo>
                      <a:pt x="1434" y="1801"/>
                    </a:lnTo>
                    <a:lnTo>
                      <a:pt x="1449" y="1769"/>
                    </a:lnTo>
                    <a:lnTo>
                      <a:pt x="1470" y="1706"/>
                    </a:lnTo>
                    <a:lnTo>
                      <a:pt x="1494" y="1709"/>
                    </a:lnTo>
                    <a:lnTo>
                      <a:pt x="1559" y="1665"/>
                    </a:lnTo>
                    <a:lnTo>
                      <a:pt x="1613" y="1639"/>
                    </a:lnTo>
                    <a:lnTo>
                      <a:pt x="1639" y="1649"/>
                    </a:lnTo>
                    <a:lnTo>
                      <a:pt x="1670" y="1655"/>
                    </a:lnTo>
                    <a:lnTo>
                      <a:pt x="1698" y="1621"/>
                    </a:lnTo>
                    <a:lnTo>
                      <a:pt x="1685" y="1610"/>
                    </a:lnTo>
                    <a:lnTo>
                      <a:pt x="1691" y="1552"/>
                    </a:lnTo>
                    <a:lnTo>
                      <a:pt x="1706" y="1521"/>
                    </a:lnTo>
                    <a:lnTo>
                      <a:pt x="1715" y="1483"/>
                    </a:lnTo>
                    <a:lnTo>
                      <a:pt x="1737" y="1457"/>
                    </a:lnTo>
                    <a:lnTo>
                      <a:pt x="1737" y="1435"/>
                    </a:lnTo>
                    <a:lnTo>
                      <a:pt x="1765" y="1437"/>
                    </a:lnTo>
                    <a:lnTo>
                      <a:pt x="1767" y="1399"/>
                    </a:lnTo>
                    <a:lnTo>
                      <a:pt x="1827" y="1377"/>
                    </a:lnTo>
                    <a:lnTo>
                      <a:pt x="1845" y="1349"/>
                    </a:lnTo>
                    <a:lnTo>
                      <a:pt x="1865" y="1353"/>
                    </a:lnTo>
                    <a:lnTo>
                      <a:pt x="1885" y="1325"/>
                    </a:lnTo>
                    <a:lnTo>
                      <a:pt x="1854" y="1289"/>
                    </a:lnTo>
                    <a:lnTo>
                      <a:pt x="1829" y="1283"/>
                    </a:lnTo>
                    <a:lnTo>
                      <a:pt x="1809" y="1273"/>
                    </a:lnTo>
                    <a:lnTo>
                      <a:pt x="1777" y="1230"/>
                    </a:lnTo>
                    <a:lnTo>
                      <a:pt x="1759" y="1171"/>
                    </a:lnTo>
                    <a:lnTo>
                      <a:pt x="1750" y="1131"/>
                    </a:lnTo>
                    <a:lnTo>
                      <a:pt x="1775" y="1080"/>
                    </a:lnTo>
                    <a:lnTo>
                      <a:pt x="1823" y="989"/>
                    </a:lnTo>
                    <a:lnTo>
                      <a:pt x="1868" y="908"/>
                    </a:lnTo>
                    <a:lnTo>
                      <a:pt x="1883" y="901"/>
                    </a:lnTo>
                    <a:lnTo>
                      <a:pt x="1903" y="866"/>
                    </a:lnTo>
                    <a:lnTo>
                      <a:pt x="1917" y="827"/>
                    </a:lnTo>
                    <a:lnTo>
                      <a:pt x="1934" y="830"/>
                    </a:lnTo>
                    <a:lnTo>
                      <a:pt x="1972" y="807"/>
                    </a:lnTo>
                    <a:lnTo>
                      <a:pt x="1972" y="789"/>
                    </a:lnTo>
                    <a:lnTo>
                      <a:pt x="1944" y="787"/>
                    </a:lnTo>
                    <a:lnTo>
                      <a:pt x="1946" y="769"/>
                    </a:lnTo>
                    <a:lnTo>
                      <a:pt x="1968" y="751"/>
                    </a:lnTo>
                    <a:lnTo>
                      <a:pt x="1977" y="715"/>
                    </a:lnTo>
                    <a:lnTo>
                      <a:pt x="2018" y="700"/>
                    </a:lnTo>
                    <a:lnTo>
                      <a:pt x="2072" y="684"/>
                    </a:lnTo>
                    <a:lnTo>
                      <a:pt x="2115" y="677"/>
                    </a:lnTo>
                    <a:lnTo>
                      <a:pt x="2134" y="650"/>
                    </a:lnTo>
                    <a:lnTo>
                      <a:pt x="2171" y="627"/>
                    </a:lnTo>
                    <a:lnTo>
                      <a:pt x="2222" y="633"/>
                    </a:lnTo>
                    <a:lnTo>
                      <a:pt x="2222" y="612"/>
                    </a:lnTo>
                    <a:lnTo>
                      <a:pt x="2263" y="569"/>
                    </a:lnTo>
                    <a:lnTo>
                      <a:pt x="2288" y="549"/>
                    </a:lnTo>
                    <a:lnTo>
                      <a:pt x="2336" y="518"/>
                    </a:lnTo>
                    <a:lnTo>
                      <a:pt x="2364" y="521"/>
                    </a:lnTo>
                    <a:lnTo>
                      <a:pt x="2393" y="482"/>
                    </a:lnTo>
                    <a:lnTo>
                      <a:pt x="2397" y="443"/>
                    </a:lnTo>
                    <a:lnTo>
                      <a:pt x="2428" y="423"/>
                    </a:lnTo>
                    <a:lnTo>
                      <a:pt x="2415" y="393"/>
                    </a:lnTo>
                    <a:lnTo>
                      <a:pt x="2390" y="381"/>
                    </a:lnTo>
                    <a:lnTo>
                      <a:pt x="2397" y="355"/>
                    </a:lnTo>
                    <a:lnTo>
                      <a:pt x="2417" y="345"/>
                    </a:lnTo>
                    <a:lnTo>
                      <a:pt x="2399" y="328"/>
                    </a:lnTo>
                    <a:lnTo>
                      <a:pt x="2377" y="320"/>
                    </a:lnTo>
                    <a:lnTo>
                      <a:pt x="2327" y="314"/>
                    </a:lnTo>
                    <a:lnTo>
                      <a:pt x="2312" y="327"/>
                    </a:lnTo>
                    <a:lnTo>
                      <a:pt x="2296" y="352"/>
                    </a:lnTo>
                    <a:lnTo>
                      <a:pt x="2268" y="355"/>
                    </a:lnTo>
                    <a:lnTo>
                      <a:pt x="2240" y="347"/>
                    </a:lnTo>
                    <a:lnTo>
                      <a:pt x="2154" y="347"/>
                    </a:lnTo>
                    <a:lnTo>
                      <a:pt x="2138" y="325"/>
                    </a:lnTo>
                    <a:lnTo>
                      <a:pt x="2090" y="352"/>
                    </a:lnTo>
                    <a:lnTo>
                      <a:pt x="2048" y="357"/>
                    </a:lnTo>
                    <a:lnTo>
                      <a:pt x="2048" y="347"/>
                    </a:lnTo>
                    <a:lnTo>
                      <a:pt x="2070" y="297"/>
                    </a:lnTo>
                    <a:lnTo>
                      <a:pt x="2009" y="269"/>
                    </a:lnTo>
                    <a:lnTo>
                      <a:pt x="1959" y="263"/>
                    </a:lnTo>
                    <a:lnTo>
                      <a:pt x="1946" y="245"/>
                    </a:lnTo>
                    <a:lnTo>
                      <a:pt x="1900" y="248"/>
                    </a:lnTo>
                    <a:lnTo>
                      <a:pt x="1895" y="286"/>
                    </a:lnTo>
                    <a:lnTo>
                      <a:pt x="1860" y="286"/>
                    </a:lnTo>
                    <a:lnTo>
                      <a:pt x="1741" y="284"/>
                    </a:lnTo>
                    <a:lnTo>
                      <a:pt x="1755" y="262"/>
                    </a:lnTo>
                    <a:lnTo>
                      <a:pt x="1732" y="248"/>
                    </a:lnTo>
                    <a:lnTo>
                      <a:pt x="1706" y="259"/>
                    </a:lnTo>
                    <a:lnTo>
                      <a:pt x="1657" y="260"/>
                    </a:lnTo>
                    <a:lnTo>
                      <a:pt x="1647" y="228"/>
                    </a:lnTo>
                    <a:lnTo>
                      <a:pt x="1637" y="198"/>
                    </a:lnTo>
                    <a:lnTo>
                      <a:pt x="1604" y="213"/>
                    </a:lnTo>
                    <a:lnTo>
                      <a:pt x="1572" y="213"/>
                    </a:lnTo>
                    <a:lnTo>
                      <a:pt x="1576" y="192"/>
                    </a:lnTo>
                    <a:lnTo>
                      <a:pt x="1542" y="185"/>
                    </a:lnTo>
                    <a:lnTo>
                      <a:pt x="1518" y="192"/>
                    </a:lnTo>
                    <a:lnTo>
                      <a:pt x="1496" y="189"/>
                    </a:lnTo>
                    <a:lnTo>
                      <a:pt x="1496" y="141"/>
                    </a:lnTo>
                    <a:lnTo>
                      <a:pt x="1463" y="153"/>
                    </a:lnTo>
                    <a:lnTo>
                      <a:pt x="1461" y="132"/>
                    </a:lnTo>
                    <a:lnTo>
                      <a:pt x="1435" y="120"/>
                    </a:lnTo>
                    <a:lnTo>
                      <a:pt x="1422" y="131"/>
                    </a:lnTo>
                    <a:lnTo>
                      <a:pt x="1387" y="132"/>
                    </a:lnTo>
                    <a:lnTo>
                      <a:pt x="1369" y="138"/>
                    </a:lnTo>
                    <a:lnTo>
                      <a:pt x="1323" y="138"/>
                    </a:lnTo>
                    <a:lnTo>
                      <a:pt x="1277" y="120"/>
                    </a:lnTo>
                    <a:lnTo>
                      <a:pt x="1270" y="108"/>
                    </a:lnTo>
                    <a:lnTo>
                      <a:pt x="1237" y="114"/>
                    </a:lnTo>
                    <a:lnTo>
                      <a:pt x="1216" y="96"/>
                    </a:lnTo>
                    <a:close/>
                  </a:path>
                </a:pathLst>
              </a:custGeom>
              <a:solidFill>
                <a:srgbClr val="008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8313840" y="1021320"/>
                <a:ext cx="365760" cy="233640"/>
                <a:chOff x="8313840" y="1021320"/>
                <a:chExt cx="365760" cy="233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8313840" y="1184040"/>
                  <a:ext cx="48600" cy="42480"/>
                </a:xfrm>
                <a:custGeom>
                  <a:avLst/>
                  <a:gdLst/>
                  <a:ahLst/>
                  <a:rect l="l" t="t" r="r" b="b"/>
                  <a:pathLst>
                    <a:path w="83" h="72">
                      <a:moveTo>
                        <a:pt x="71" y="0"/>
                      </a:moveTo>
                      <a:lnTo>
                        <a:pt x="47" y="0"/>
                      </a:lnTo>
                      <a:lnTo>
                        <a:pt x="19" y="16"/>
                      </a:lnTo>
                      <a:lnTo>
                        <a:pt x="19" y="32"/>
                      </a:lnTo>
                      <a:lnTo>
                        <a:pt x="11" y="34"/>
                      </a:lnTo>
                      <a:lnTo>
                        <a:pt x="3" y="44"/>
                      </a:lnTo>
                      <a:lnTo>
                        <a:pt x="0" y="55"/>
                      </a:lnTo>
                      <a:lnTo>
                        <a:pt x="9" y="57"/>
                      </a:lnTo>
                      <a:lnTo>
                        <a:pt x="24" y="72"/>
                      </a:lnTo>
                      <a:lnTo>
                        <a:pt x="34" y="72"/>
                      </a:lnTo>
                      <a:lnTo>
                        <a:pt x="34" y="65"/>
                      </a:lnTo>
                      <a:lnTo>
                        <a:pt x="43" y="49"/>
                      </a:lnTo>
                      <a:lnTo>
                        <a:pt x="52" y="52"/>
                      </a:lnTo>
                      <a:lnTo>
                        <a:pt x="60" y="41"/>
                      </a:lnTo>
                      <a:lnTo>
                        <a:pt x="81" y="21"/>
                      </a:lnTo>
                      <a:lnTo>
                        <a:pt x="83" y="16"/>
                      </a:lnTo>
                      <a:lnTo>
                        <a:pt x="81" y="13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336160" y="123264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43" h="38">
                      <a:moveTo>
                        <a:pt x="7" y="0"/>
                      </a:moveTo>
                      <a:lnTo>
                        <a:pt x="7" y="8"/>
                      </a:lnTo>
                      <a:lnTo>
                        <a:pt x="0" y="16"/>
                      </a:lnTo>
                      <a:lnTo>
                        <a:pt x="0" y="28"/>
                      </a:lnTo>
                      <a:lnTo>
                        <a:pt x="7" y="38"/>
                      </a:lnTo>
                      <a:lnTo>
                        <a:pt x="15" y="31"/>
                      </a:lnTo>
                      <a:lnTo>
                        <a:pt x="20" y="34"/>
                      </a:lnTo>
                      <a:lnTo>
                        <a:pt x="33" y="38"/>
                      </a:lnTo>
                      <a:lnTo>
                        <a:pt x="43" y="34"/>
                      </a:lnTo>
                      <a:lnTo>
                        <a:pt x="41" y="25"/>
                      </a:lnTo>
                      <a:lnTo>
                        <a:pt x="31" y="16"/>
                      </a:lnTo>
                      <a:lnTo>
                        <a:pt x="22" y="12"/>
                      </a:lnTo>
                      <a:lnTo>
                        <a:pt x="15" y="1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8439840" y="1036440"/>
                  <a:ext cx="135360" cy="110520"/>
                </a:xfrm>
                <a:custGeom>
                  <a:avLst/>
                  <a:gdLst/>
                  <a:ahLst/>
                  <a:rect l="l" t="t" r="r" b="b"/>
                  <a:pathLst>
                    <a:path w="229" h="186">
                      <a:moveTo>
                        <a:pt x="181" y="0"/>
                      </a:moveTo>
                      <a:lnTo>
                        <a:pt x="160" y="13"/>
                      </a:lnTo>
                      <a:lnTo>
                        <a:pt x="165" y="18"/>
                      </a:lnTo>
                      <a:lnTo>
                        <a:pt x="175" y="18"/>
                      </a:lnTo>
                      <a:lnTo>
                        <a:pt x="170" y="28"/>
                      </a:lnTo>
                      <a:lnTo>
                        <a:pt x="157" y="40"/>
                      </a:lnTo>
                      <a:lnTo>
                        <a:pt x="170" y="38"/>
                      </a:lnTo>
                      <a:lnTo>
                        <a:pt x="179" y="45"/>
                      </a:lnTo>
                      <a:lnTo>
                        <a:pt x="179" y="48"/>
                      </a:lnTo>
                      <a:lnTo>
                        <a:pt x="187" y="58"/>
                      </a:lnTo>
                      <a:lnTo>
                        <a:pt x="198" y="52"/>
                      </a:lnTo>
                      <a:lnTo>
                        <a:pt x="203" y="38"/>
                      </a:lnTo>
                      <a:lnTo>
                        <a:pt x="216" y="40"/>
                      </a:lnTo>
                      <a:lnTo>
                        <a:pt x="223" y="48"/>
                      </a:lnTo>
                      <a:lnTo>
                        <a:pt x="229" y="58"/>
                      </a:lnTo>
                      <a:lnTo>
                        <a:pt x="220" y="68"/>
                      </a:lnTo>
                      <a:lnTo>
                        <a:pt x="211" y="74"/>
                      </a:lnTo>
                      <a:lnTo>
                        <a:pt x="218" y="87"/>
                      </a:lnTo>
                      <a:lnTo>
                        <a:pt x="216" y="98"/>
                      </a:lnTo>
                      <a:lnTo>
                        <a:pt x="213" y="114"/>
                      </a:lnTo>
                      <a:lnTo>
                        <a:pt x="207" y="130"/>
                      </a:lnTo>
                      <a:lnTo>
                        <a:pt x="190" y="132"/>
                      </a:lnTo>
                      <a:lnTo>
                        <a:pt x="195" y="143"/>
                      </a:lnTo>
                      <a:lnTo>
                        <a:pt x="203" y="156"/>
                      </a:lnTo>
                      <a:lnTo>
                        <a:pt x="192" y="163"/>
                      </a:lnTo>
                      <a:lnTo>
                        <a:pt x="187" y="178"/>
                      </a:lnTo>
                      <a:lnTo>
                        <a:pt x="181" y="181"/>
                      </a:lnTo>
                      <a:lnTo>
                        <a:pt x="173" y="176"/>
                      </a:lnTo>
                      <a:lnTo>
                        <a:pt x="165" y="176"/>
                      </a:lnTo>
                      <a:lnTo>
                        <a:pt x="150" y="186"/>
                      </a:lnTo>
                      <a:lnTo>
                        <a:pt x="130" y="160"/>
                      </a:lnTo>
                      <a:lnTo>
                        <a:pt x="111" y="165"/>
                      </a:lnTo>
                      <a:lnTo>
                        <a:pt x="99" y="154"/>
                      </a:lnTo>
                      <a:lnTo>
                        <a:pt x="93" y="138"/>
                      </a:lnTo>
                      <a:lnTo>
                        <a:pt x="93" y="122"/>
                      </a:lnTo>
                      <a:lnTo>
                        <a:pt x="77" y="118"/>
                      </a:lnTo>
                      <a:lnTo>
                        <a:pt x="70" y="118"/>
                      </a:lnTo>
                      <a:lnTo>
                        <a:pt x="64" y="109"/>
                      </a:lnTo>
                      <a:lnTo>
                        <a:pt x="57" y="118"/>
                      </a:lnTo>
                      <a:lnTo>
                        <a:pt x="52" y="130"/>
                      </a:lnTo>
                      <a:lnTo>
                        <a:pt x="39" y="141"/>
                      </a:lnTo>
                      <a:lnTo>
                        <a:pt x="24" y="122"/>
                      </a:lnTo>
                      <a:lnTo>
                        <a:pt x="0" y="120"/>
                      </a:lnTo>
                      <a:lnTo>
                        <a:pt x="6" y="109"/>
                      </a:lnTo>
                      <a:lnTo>
                        <a:pt x="22" y="98"/>
                      </a:lnTo>
                      <a:lnTo>
                        <a:pt x="24" y="87"/>
                      </a:lnTo>
                      <a:lnTo>
                        <a:pt x="41" y="63"/>
                      </a:lnTo>
                      <a:lnTo>
                        <a:pt x="62" y="61"/>
                      </a:lnTo>
                      <a:lnTo>
                        <a:pt x="80" y="43"/>
                      </a:lnTo>
                      <a:lnTo>
                        <a:pt x="86" y="33"/>
                      </a:lnTo>
                      <a:lnTo>
                        <a:pt x="99" y="22"/>
                      </a:lnTo>
                      <a:lnTo>
                        <a:pt x="106" y="26"/>
                      </a:lnTo>
                      <a:lnTo>
                        <a:pt x="124" y="18"/>
                      </a:lnTo>
                      <a:lnTo>
                        <a:pt x="130" y="5"/>
                      </a:lnTo>
                      <a:lnTo>
                        <a:pt x="155" y="2"/>
                      </a:lnTo>
                      <a:lnTo>
                        <a:pt x="18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615520" y="1021320"/>
                  <a:ext cx="64080" cy="45000"/>
                </a:xfrm>
                <a:custGeom>
                  <a:avLst/>
                  <a:gdLst/>
                  <a:ahLst/>
                  <a:rect l="l" t="t" r="r" b="b"/>
                  <a:pathLst>
                    <a:path w="108" h="75">
                      <a:moveTo>
                        <a:pt x="0" y="4"/>
                      </a:moveTo>
                      <a:lnTo>
                        <a:pt x="10" y="0"/>
                      </a:lnTo>
                      <a:lnTo>
                        <a:pt x="33" y="4"/>
                      </a:lnTo>
                      <a:lnTo>
                        <a:pt x="41" y="6"/>
                      </a:lnTo>
                      <a:lnTo>
                        <a:pt x="50" y="4"/>
                      </a:lnTo>
                      <a:lnTo>
                        <a:pt x="63" y="0"/>
                      </a:lnTo>
                      <a:lnTo>
                        <a:pt x="78" y="2"/>
                      </a:lnTo>
                      <a:lnTo>
                        <a:pt x="92" y="8"/>
                      </a:lnTo>
                      <a:lnTo>
                        <a:pt x="99" y="27"/>
                      </a:lnTo>
                      <a:lnTo>
                        <a:pt x="95" y="38"/>
                      </a:lnTo>
                      <a:lnTo>
                        <a:pt x="101" y="51"/>
                      </a:lnTo>
                      <a:lnTo>
                        <a:pt x="108" y="63"/>
                      </a:lnTo>
                      <a:lnTo>
                        <a:pt x="105" y="75"/>
                      </a:lnTo>
                      <a:lnTo>
                        <a:pt x="99" y="65"/>
                      </a:lnTo>
                      <a:lnTo>
                        <a:pt x="82" y="49"/>
                      </a:lnTo>
                      <a:lnTo>
                        <a:pt x="54" y="38"/>
                      </a:lnTo>
                      <a:lnTo>
                        <a:pt x="33" y="36"/>
                      </a:lnTo>
                      <a:lnTo>
                        <a:pt x="17" y="40"/>
                      </a:lnTo>
                      <a:lnTo>
                        <a:pt x="11" y="34"/>
                      </a:lnTo>
                      <a:lnTo>
                        <a:pt x="10" y="21"/>
                      </a:lnTo>
                      <a:lnTo>
                        <a:pt x="0" y="17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12560" y="1157760"/>
                  <a:ext cx="21240" cy="16200"/>
                </a:xfrm>
                <a:custGeom>
                  <a:avLst/>
                  <a:gdLst/>
                  <a:ahLst/>
                  <a:rect l="l" t="t" r="r" b="b"/>
                  <a:pathLst>
                    <a:path w="35" h="28">
                      <a:moveTo>
                        <a:pt x="11" y="0"/>
                      </a:moveTo>
                      <a:lnTo>
                        <a:pt x="0" y="13"/>
                      </a:lnTo>
                      <a:lnTo>
                        <a:pt x="4" y="23"/>
                      </a:lnTo>
                      <a:lnTo>
                        <a:pt x="13" y="28"/>
                      </a:lnTo>
                      <a:lnTo>
                        <a:pt x="25" y="23"/>
                      </a:lnTo>
                      <a:lnTo>
                        <a:pt x="35" y="17"/>
                      </a:lnTo>
                      <a:lnTo>
                        <a:pt x="30" y="1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7843320" y="152388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Españ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593440" y="12193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9040" y="1873080"/>
            <a:ext cx="14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 Re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minic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60040" y="152388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erto 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352680" y="990720"/>
            <a:ext cx="2304000" cy="920520"/>
            <a:chOff x="3352680" y="990720"/>
            <a:chExt cx="2304000" cy="920520"/>
          </a:xfrm>
        </p:grpSpPr>
        <p:grpSp>
          <p:nvGrpSpPr>
            <p:cNvPr id="159" name=""/>
            <p:cNvGrpSpPr/>
            <p:nvPr/>
          </p:nvGrpSpPr>
          <p:grpSpPr>
            <a:xfrm>
              <a:off x="3352680" y="990720"/>
              <a:ext cx="2304000" cy="838080"/>
              <a:chOff x="3352680" y="990720"/>
              <a:chExt cx="2304000" cy="83808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3352680" y="1395360"/>
                <a:ext cx="2000160" cy="433440"/>
                <a:chOff x="3352680" y="1395360"/>
                <a:chExt cx="2000160" cy="433440"/>
              </a:xfrm>
            </p:grpSpPr>
            <p:pic>
              <p:nvPicPr>
                <p:cNvPr id="16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029200" y="1699920"/>
                  <a:ext cx="323640" cy="128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352680" y="1395360"/>
                  <a:ext cx="743040" cy="264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3" name=""/>
              <p:cNvSpPr/>
              <p:nvPr/>
            </p:nvSpPr>
            <p:spPr>
              <a:xfrm>
                <a:off x="3907800" y="990720"/>
                <a:ext cx="174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Times New Roman"/>
                  </a:rPr>
                  <a:t>Las Antill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4" name="" descr=""/>
            <p:cNvPicPr/>
            <p:nvPr/>
          </p:nvPicPr>
          <p:blipFill>
            <a:blip r:embed="rId6"/>
            <a:stretch/>
          </p:blipFill>
          <p:spPr>
            <a:xfrm>
              <a:off x="4191120" y="1600200"/>
              <a:ext cx="68580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8000">
    <p:pull dir="ru"/>
    <p:sndAc>
      <p:stSnd>
        <p:snd r:embed="rId7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2620800" cy="56386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4952880" y="4267080"/>
            <a:ext cx="35816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257800" y="2362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uenos A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038480" y="380880"/>
            <a:ext cx="4800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La Argenti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62" name=""/>
          <p:cNvSpPr/>
          <p:nvPr/>
        </p:nvSpPr>
        <p:spPr>
          <a:xfrm>
            <a:off x="5257800" y="3230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rgen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4267080"/>
            <a:ext cx="358164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7960" y="1644480"/>
            <a:ext cx="777960" cy="3081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05320" y="914400"/>
            <a:ext cx="1782720" cy="6350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325880" y="609480"/>
            <a:ext cx="19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Las Anti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58160" y="405288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Españ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rId5" action="ppaction://hlinksldjump"/>
          </p:cNvPr>
          <p:cNvSpPr/>
          <p:nvPr/>
        </p:nvSpPr>
        <p:spPr>
          <a:xfrm>
            <a:off x="4343400" y="4062240"/>
            <a:ext cx="2968560" cy="2490840"/>
          </a:xfrm>
          <a:custGeom>
            <a:avLst/>
            <a:gdLst/>
            <a:ahLst/>
            <a:rect l="l" t="t" r="r" b="b"/>
            <a:pathLst>
              <a:path w="2428" h="2036">
                <a:moveTo>
                  <a:pt x="1216" y="96"/>
                </a:moveTo>
                <a:lnTo>
                  <a:pt x="1184" y="138"/>
                </a:lnTo>
                <a:lnTo>
                  <a:pt x="1127" y="128"/>
                </a:lnTo>
                <a:lnTo>
                  <a:pt x="1091" y="123"/>
                </a:lnTo>
                <a:lnTo>
                  <a:pt x="1078" y="100"/>
                </a:lnTo>
                <a:lnTo>
                  <a:pt x="1048" y="102"/>
                </a:lnTo>
                <a:lnTo>
                  <a:pt x="1040" y="84"/>
                </a:lnTo>
                <a:lnTo>
                  <a:pt x="1002" y="104"/>
                </a:lnTo>
                <a:lnTo>
                  <a:pt x="953" y="114"/>
                </a:lnTo>
                <a:lnTo>
                  <a:pt x="931" y="114"/>
                </a:lnTo>
                <a:lnTo>
                  <a:pt x="871" y="87"/>
                </a:lnTo>
                <a:lnTo>
                  <a:pt x="801" y="82"/>
                </a:lnTo>
                <a:lnTo>
                  <a:pt x="768" y="69"/>
                </a:lnTo>
                <a:lnTo>
                  <a:pt x="736" y="77"/>
                </a:lnTo>
                <a:lnTo>
                  <a:pt x="705" y="60"/>
                </a:lnTo>
                <a:lnTo>
                  <a:pt x="671" y="46"/>
                </a:lnTo>
                <a:lnTo>
                  <a:pt x="620" y="49"/>
                </a:lnTo>
                <a:lnTo>
                  <a:pt x="547" y="50"/>
                </a:lnTo>
                <a:lnTo>
                  <a:pt x="498" y="44"/>
                </a:lnTo>
                <a:lnTo>
                  <a:pt x="468" y="50"/>
                </a:lnTo>
                <a:lnTo>
                  <a:pt x="438" y="30"/>
                </a:lnTo>
                <a:lnTo>
                  <a:pt x="415" y="44"/>
                </a:lnTo>
                <a:lnTo>
                  <a:pt x="306" y="7"/>
                </a:lnTo>
                <a:lnTo>
                  <a:pt x="283" y="18"/>
                </a:lnTo>
                <a:lnTo>
                  <a:pt x="270" y="0"/>
                </a:lnTo>
                <a:lnTo>
                  <a:pt x="224" y="33"/>
                </a:lnTo>
                <a:lnTo>
                  <a:pt x="189" y="38"/>
                </a:lnTo>
                <a:lnTo>
                  <a:pt x="187" y="66"/>
                </a:lnTo>
                <a:lnTo>
                  <a:pt x="225" y="70"/>
                </a:lnTo>
                <a:lnTo>
                  <a:pt x="215" y="91"/>
                </a:lnTo>
                <a:lnTo>
                  <a:pt x="199" y="96"/>
                </a:lnTo>
                <a:lnTo>
                  <a:pt x="155" y="99"/>
                </a:lnTo>
                <a:lnTo>
                  <a:pt x="111" y="104"/>
                </a:lnTo>
                <a:lnTo>
                  <a:pt x="85" y="101"/>
                </a:lnTo>
                <a:lnTo>
                  <a:pt x="58" y="132"/>
                </a:lnTo>
                <a:lnTo>
                  <a:pt x="34" y="127"/>
                </a:lnTo>
                <a:lnTo>
                  <a:pt x="27" y="145"/>
                </a:lnTo>
                <a:lnTo>
                  <a:pt x="12" y="141"/>
                </a:lnTo>
                <a:lnTo>
                  <a:pt x="0" y="193"/>
                </a:lnTo>
                <a:lnTo>
                  <a:pt x="27" y="197"/>
                </a:lnTo>
                <a:lnTo>
                  <a:pt x="29" y="229"/>
                </a:lnTo>
                <a:lnTo>
                  <a:pt x="60" y="222"/>
                </a:lnTo>
                <a:lnTo>
                  <a:pt x="85" y="215"/>
                </a:lnTo>
                <a:lnTo>
                  <a:pt x="73" y="236"/>
                </a:lnTo>
                <a:lnTo>
                  <a:pt x="70" y="247"/>
                </a:lnTo>
                <a:lnTo>
                  <a:pt x="49" y="245"/>
                </a:lnTo>
                <a:lnTo>
                  <a:pt x="37" y="278"/>
                </a:lnTo>
                <a:lnTo>
                  <a:pt x="45" y="301"/>
                </a:lnTo>
                <a:lnTo>
                  <a:pt x="65" y="280"/>
                </a:lnTo>
                <a:lnTo>
                  <a:pt x="60" y="265"/>
                </a:lnTo>
                <a:lnTo>
                  <a:pt x="83" y="258"/>
                </a:lnTo>
                <a:lnTo>
                  <a:pt x="106" y="260"/>
                </a:lnTo>
                <a:lnTo>
                  <a:pt x="111" y="276"/>
                </a:lnTo>
                <a:lnTo>
                  <a:pt x="93" y="280"/>
                </a:lnTo>
                <a:lnTo>
                  <a:pt x="78" y="317"/>
                </a:lnTo>
                <a:lnTo>
                  <a:pt x="85" y="365"/>
                </a:lnTo>
                <a:lnTo>
                  <a:pt x="98" y="354"/>
                </a:lnTo>
                <a:lnTo>
                  <a:pt x="115" y="351"/>
                </a:lnTo>
                <a:lnTo>
                  <a:pt x="115" y="370"/>
                </a:lnTo>
                <a:lnTo>
                  <a:pt x="100" y="392"/>
                </a:lnTo>
                <a:lnTo>
                  <a:pt x="78" y="416"/>
                </a:lnTo>
                <a:lnTo>
                  <a:pt x="79" y="437"/>
                </a:lnTo>
                <a:lnTo>
                  <a:pt x="131" y="408"/>
                </a:lnTo>
                <a:lnTo>
                  <a:pt x="168" y="418"/>
                </a:lnTo>
                <a:lnTo>
                  <a:pt x="192" y="413"/>
                </a:lnTo>
                <a:lnTo>
                  <a:pt x="203" y="446"/>
                </a:lnTo>
                <a:lnTo>
                  <a:pt x="182" y="453"/>
                </a:lnTo>
                <a:lnTo>
                  <a:pt x="184" y="480"/>
                </a:lnTo>
                <a:lnTo>
                  <a:pt x="218" y="463"/>
                </a:lnTo>
                <a:lnTo>
                  <a:pt x="223" y="481"/>
                </a:lnTo>
                <a:lnTo>
                  <a:pt x="255" y="480"/>
                </a:lnTo>
                <a:lnTo>
                  <a:pt x="257" y="466"/>
                </a:lnTo>
                <a:lnTo>
                  <a:pt x="272" y="473"/>
                </a:lnTo>
                <a:lnTo>
                  <a:pt x="286" y="500"/>
                </a:lnTo>
                <a:lnTo>
                  <a:pt x="306" y="483"/>
                </a:lnTo>
                <a:lnTo>
                  <a:pt x="331" y="494"/>
                </a:lnTo>
                <a:lnTo>
                  <a:pt x="349" y="489"/>
                </a:lnTo>
                <a:lnTo>
                  <a:pt x="369" y="486"/>
                </a:lnTo>
                <a:lnTo>
                  <a:pt x="387" y="459"/>
                </a:lnTo>
                <a:lnTo>
                  <a:pt x="418" y="460"/>
                </a:lnTo>
                <a:lnTo>
                  <a:pt x="440" y="456"/>
                </a:lnTo>
                <a:lnTo>
                  <a:pt x="465" y="466"/>
                </a:lnTo>
                <a:lnTo>
                  <a:pt x="493" y="486"/>
                </a:lnTo>
                <a:lnTo>
                  <a:pt x="492" y="513"/>
                </a:lnTo>
                <a:lnTo>
                  <a:pt x="503" y="546"/>
                </a:lnTo>
                <a:lnTo>
                  <a:pt x="521" y="550"/>
                </a:lnTo>
                <a:lnTo>
                  <a:pt x="532" y="548"/>
                </a:lnTo>
                <a:lnTo>
                  <a:pt x="547" y="561"/>
                </a:lnTo>
                <a:lnTo>
                  <a:pt x="547" y="594"/>
                </a:lnTo>
                <a:lnTo>
                  <a:pt x="528" y="661"/>
                </a:lnTo>
                <a:lnTo>
                  <a:pt x="494" y="672"/>
                </a:lnTo>
                <a:lnTo>
                  <a:pt x="477" y="654"/>
                </a:lnTo>
                <a:lnTo>
                  <a:pt x="453" y="668"/>
                </a:lnTo>
                <a:lnTo>
                  <a:pt x="451" y="690"/>
                </a:lnTo>
                <a:lnTo>
                  <a:pt x="431" y="740"/>
                </a:lnTo>
                <a:lnTo>
                  <a:pt x="445" y="798"/>
                </a:lnTo>
                <a:lnTo>
                  <a:pt x="438" y="839"/>
                </a:lnTo>
                <a:lnTo>
                  <a:pt x="428" y="900"/>
                </a:lnTo>
                <a:lnTo>
                  <a:pt x="405" y="905"/>
                </a:lnTo>
                <a:lnTo>
                  <a:pt x="392" y="919"/>
                </a:lnTo>
                <a:lnTo>
                  <a:pt x="387" y="933"/>
                </a:lnTo>
                <a:lnTo>
                  <a:pt x="405" y="951"/>
                </a:lnTo>
                <a:lnTo>
                  <a:pt x="413" y="980"/>
                </a:lnTo>
                <a:lnTo>
                  <a:pt x="407" y="1004"/>
                </a:lnTo>
                <a:lnTo>
                  <a:pt x="385" y="1039"/>
                </a:lnTo>
                <a:lnTo>
                  <a:pt x="381" y="1073"/>
                </a:lnTo>
                <a:lnTo>
                  <a:pt x="352" y="1093"/>
                </a:lnTo>
                <a:lnTo>
                  <a:pt x="316" y="1097"/>
                </a:lnTo>
                <a:lnTo>
                  <a:pt x="311" y="1079"/>
                </a:lnTo>
                <a:lnTo>
                  <a:pt x="292" y="1071"/>
                </a:lnTo>
                <a:lnTo>
                  <a:pt x="286" y="1099"/>
                </a:lnTo>
                <a:lnTo>
                  <a:pt x="315" y="1169"/>
                </a:lnTo>
                <a:lnTo>
                  <a:pt x="350" y="1191"/>
                </a:lnTo>
                <a:lnTo>
                  <a:pt x="390" y="1221"/>
                </a:lnTo>
                <a:lnTo>
                  <a:pt x="385" y="1254"/>
                </a:lnTo>
                <a:lnTo>
                  <a:pt x="350" y="1268"/>
                </a:lnTo>
                <a:lnTo>
                  <a:pt x="344" y="1305"/>
                </a:lnTo>
                <a:lnTo>
                  <a:pt x="311" y="1310"/>
                </a:lnTo>
                <a:lnTo>
                  <a:pt x="311" y="1356"/>
                </a:lnTo>
                <a:lnTo>
                  <a:pt x="300" y="1379"/>
                </a:lnTo>
                <a:lnTo>
                  <a:pt x="355" y="1453"/>
                </a:lnTo>
                <a:lnTo>
                  <a:pt x="381" y="1478"/>
                </a:lnTo>
                <a:lnTo>
                  <a:pt x="370" y="1502"/>
                </a:lnTo>
                <a:lnTo>
                  <a:pt x="339" y="1508"/>
                </a:lnTo>
                <a:lnTo>
                  <a:pt x="309" y="1506"/>
                </a:lnTo>
                <a:lnTo>
                  <a:pt x="299" y="1535"/>
                </a:lnTo>
                <a:lnTo>
                  <a:pt x="270" y="1595"/>
                </a:lnTo>
                <a:lnTo>
                  <a:pt x="247" y="1642"/>
                </a:lnTo>
                <a:lnTo>
                  <a:pt x="269" y="1671"/>
                </a:lnTo>
                <a:lnTo>
                  <a:pt x="269" y="1710"/>
                </a:lnTo>
                <a:lnTo>
                  <a:pt x="311" y="1708"/>
                </a:lnTo>
                <a:lnTo>
                  <a:pt x="316" y="1716"/>
                </a:lnTo>
                <a:lnTo>
                  <a:pt x="355" y="1727"/>
                </a:lnTo>
                <a:lnTo>
                  <a:pt x="372" y="1716"/>
                </a:lnTo>
                <a:lnTo>
                  <a:pt x="396" y="1716"/>
                </a:lnTo>
                <a:lnTo>
                  <a:pt x="392" y="1753"/>
                </a:lnTo>
                <a:lnTo>
                  <a:pt x="428" y="1769"/>
                </a:lnTo>
                <a:lnTo>
                  <a:pt x="448" y="1785"/>
                </a:lnTo>
                <a:lnTo>
                  <a:pt x="477" y="1801"/>
                </a:lnTo>
                <a:lnTo>
                  <a:pt x="484" y="1814"/>
                </a:lnTo>
                <a:lnTo>
                  <a:pt x="464" y="1852"/>
                </a:lnTo>
                <a:lnTo>
                  <a:pt x="473" y="1866"/>
                </a:lnTo>
                <a:lnTo>
                  <a:pt x="510" y="1895"/>
                </a:lnTo>
                <a:lnTo>
                  <a:pt x="515" y="1921"/>
                </a:lnTo>
                <a:lnTo>
                  <a:pt x="528" y="1947"/>
                </a:lnTo>
                <a:lnTo>
                  <a:pt x="548" y="1982"/>
                </a:lnTo>
                <a:lnTo>
                  <a:pt x="582" y="2011"/>
                </a:lnTo>
                <a:lnTo>
                  <a:pt x="612" y="2034"/>
                </a:lnTo>
                <a:lnTo>
                  <a:pt x="641" y="2036"/>
                </a:lnTo>
                <a:lnTo>
                  <a:pt x="677" y="2033"/>
                </a:lnTo>
                <a:lnTo>
                  <a:pt x="693" y="2009"/>
                </a:lnTo>
                <a:lnTo>
                  <a:pt x="729" y="1943"/>
                </a:lnTo>
                <a:lnTo>
                  <a:pt x="790" y="1923"/>
                </a:lnTo>
                <a:lnTo>
                  <a:pt x="858" y="1918"/>
                </a:lnTo>
                <a:lnTo>
                  <a:pt x="906" y="1887"/>
                </a:lnTo>
                <a:lnTo>
                  <a:pt x="939" y="1885"/>
                </a:lnTo>
                <a:lnTo>
                  <a:pt x="960" y="1866"/>
                </a:lnTo>
                <a:lnTo>
                  <a:pt x="985" y="1866"/>
                </a:lnTo>
                <a:lnTo>
                  <a:pt x="1034" y="1877"/>
                </a:lnTo>
                <a:lnTo>
                  <a:pt x="1072" y="1870"/>
                </a:lnTo>
                <a:lnTo>
                  <a:pt x="1099" y="1885"/>
                </a:lnTo>
                <a:lnTo>
                  <a:pt x="1132" y="1875"/>
                </a:lnTo>
                <a:lnTo>
                  <a:pt x="1219" y="1875"/>
                </a:lnTo>
                <a:lnTo>
                  <a:pt x="1249" y="1885"/>
                </a:lnTo>
                <a:lnTo>
                  <a:pt x="1307" y="1844"/>
                </a:lnTo>
                <a:lnTo>
                  <a:pt x="1333" y="1826"/>
                </a:lnTo>
                <a:lnTo>
                  <a:pt x="1345" y="1846"/>
                </a:lnTo>
                <a:lnTo>
                  <a:pt x="1385" y="1857"/>
                </a:lnTo>
                <a:lnTo>
                  <a:pt x="1405" y="1848"/>
                </a:lnTo>
                <a:lnTo>
                  <a:pt x="1416" y="1814"/>
                </a:lnTo>
                <a:lnTo>
                  <a:pt x="1434" y="1801"/>
                </a:lnTo>
                <a:lnTo>
                  <a:pt x="1449" y="1769"/>
                </a:lnTo>
                <a:lnTo>
                  <a:pt x="1470" y="1706"/>
                </a:lnTo>
                <a:lnTo>
                  <a:pt x="1494" y="1709"/>
                </a:lnTo>
                <a:lnTo>
                  <a:pt x="1559" y="1665"/>
                </a:lnTo>
                <a:lnTo>
                  <a:pt x="1613" y="1639"/>
                </a:lnTo>
                <a:lnTo>
                  <a:pt x="1639" y="1649"/>
                </a:lnTo>
                <a:lnTo>
                  <a:pt x="1670" y="1655"/>
                </a:lnTo>
                <a:lnTo>
                  <a:pt x="1698" y="1621"/>
                </a:lnTo>
                <a:lnTo>
                  <a:pt x="1685" y="1610"/>
                </a:lnTo>
                <a:lnTo>
                  <a:pt x="1691" y="1552"/>
                </a:lnTo>
                <a:lnTo>
                  <a:pt x="1706" y="1521"/>
                </a:lnTo>
                <a:lnTo>
                  <a:pt x="1715" y="1483"/>
                </a:lnTo>
                <a:lnTo>
                  <a:pt x="1737" y="1457"/>
                </a:lnTo>
                <a:lnTo>
                  <a:pt x="1737" y="1435"/>
                </a:lnTo>
                <a:lnTo>
                  <a:pt x="1765" y="1437"/>
                </a:lnTo>
                <a:lnTo>
                  <a:pt x="1767" y="1399"/>
                </a:lnTo>
                <a:lnTo>
                  <a:pt x="1827" y="1377"/>
                </a:lnTo>
                <a:lnTo>
                  <a:pt x="1845" y="1349"/>
                </a:lnTo>
                <a:lnTo>
                  <a:pt x="1865" y="1353"/>
                </a:lnTo>
                <a:lnTo>
                  <a:pt x="1885" y="1325"/>
                </a:lnTo>
                <a:lnTo>
                  <a:pt x="1854" y="1289"/>
                </a:lnTo>
                <a:lnTo>
                  <a:pt x="1829" y="1283"/>
                </a:lnTo>
                <a:lnTo>
                  <a:pt x="1809" y="1273"/>
                </a:lnTo>
                <a:lnTo>
                  <a:pt x="1777" y="1230"/>
                </a:lnTo>
                <a:lnTo>
                  <a:pt x="1759" y="1171"/>
                </a:lnTo>
                <a:lnTo>
                  <a:pt x="1750" y="1131"/>
                </a:lnTo>
                <a:lnTo>
                  <a:pt x="1775" y="1080"/>
                </a:lnTo>
                <a:lnTo>
                  <a:pt x="1823" y="989"/>
                </a:lnTo>
                <a:lnTo>
                  <a:pt x="1868" y="908"/>
                </a:lnTo>
                <a:lnTo>
                  <a:pt x="1883" y="901"/>
                </a:lnTo>
                <a:lnTo>
                  <a:pt x="1903" y="866"/>
                </a:lnTo>
                <a:lnTo>
                  <a:pt x="1917" y="827"/>
                </a:lnTo>
                <a:lnTo>
                  <a:pt x="1934" y="830"/>
                </a:lnTo>
                <a:lnTo>
                  <a:pt x="1972" y="807"/>
                </a:lnTo>
                <a:lnTo>
                  <a:pt x="1972" y="789"/>
                </a:lnTo>
                <a:lnTo>
                  <a:pt x="1944" y="787"/>
                </a:lnTo>
                <a:lnTo>
                  <a:pt x="1946" y="769"/>
                </a:lnTo>
                <a:lnTo>
                  <a:pt x="1968" y="751"/>
                </a:lnTo>
                <a:lnTo>
                  <a:pt x="1977" y="715"/>
                </a:lnTo>
                <a:lnTo>
                  <a:pt x="2018" y="700"/>
                </a:lnTo>
                <a:lnTo>
                  <a:pt x="2072" y="684"/>
                </a:lnTo>
                <a:lnTo>
                  <a:pt x="2115" y="677"/>
                </a:lnTo>
                <a:lnTo>
                  <a:pt x="2134" y="650"/>
                </a:lnTo>
                <a:lnTo>
                  <a:pt x="2171" y="627"/>
                </a:lnTo>
                <a:lnTo>
                  <a:pt x="2222" y="633"/>
                </a:lnTo>
                <a:lnTo>
                  <a:pt x="2222" y="612"/>
                </a:lnTo>
                <a:lnTo>
                  <a:pt x="2263" y="569"/>
                </a:lnTo>
                <a:lnTo>
                  <a:pt x="2288" y="549"/>
                </a:lnTo>
                <a:lnTo>
                  <a:pt x="2336" y="518"/>
                </a:lnTo>
                <a:lnTo>
                  <a:pt x="2364" y="521"/>
                </a:lnTo>
                <a:lnTo>
                  <a:pt x="2393" y="482"/>
                </a:lnTo>
                <a:lnTo>
                  <a:pt x="2397" y="443"/>
                </a:lnTo>
                <a:lnTo>
                  <a:pt x="2428" y="423"/>
                </a:lnTo>
                <a:lnTo>
                  <a:pt x="2415" y="393"/>
                </a:lnTo>
                <a:lnTo>
                  <a:pt x="2390" y="381"/>
                </a:lnTo>
                <a:lnTo>
                  <a:pt x="2397" y="355"/>
                </a:lnTo>
                <a:lnTo>
                  <a:pt x="2417" y="345"/>
                </a:lnTo>
                <a:lnTo>
                  <a:pt x="2399" y="328"/>
                </a:lnTo>
                <a:lnTo>
                  <a:pt x="2377" y="320"/>
                </a:lnTo>
                <a:lnTo>
                  <a:pt x="2327" y="314"/>
                </a:lnTo>
                <a:lnTo>
                  <a:pt x="2312" y="327"/>
                </a:lnTo>
                <a:lnTo>
                  <a:pt x="2296" y="352"/>
                </a:lnTo>
                <a:lnTo>
                  <a:pt x="2268" y="355"/>
                </a:lnTo>
                <a:lnTo>
                  <a:pt x="2240" y="347"/>
                </a:lnTo>
                <a:lnTo>
                  <a:pt x="2154" y="347"/>
                </a:lnTo>
                <a:lnTo>
                  <a:pt x="2138" y="325"/>
                </a:lnTo>
                <a:lnTo>
                  <a:pt x="2090" y="352"/>
                </a:lnTo>
                <a:lnTo>
                  <a:pt x="2048" y="357"/>
                </a:lnTo>
                <a:lnTo>
                  <a:pt x="2048" y="347"/>
                </a:lnTo>
                <a:lnTo>
                  <a:pt x="2070" y="297"/>
                </a:lnTo>
                <a:lnTo>
                  <a:pt x="2009" y="269"/>
                </a:lnTo>
                <a:lnTo>
                  <a:pt x="1959" y="263"/>
                </a:lnTo>
                <a:lnTo>
                  <a:pt x="1946" y="245"/>
                </a:lnTo>
                <a:lnTo>
                  <a:pt x="1900" y="248"/>
                </a:lnTo>
                <a:lnTo>
                  <a:pt x="1895" y="286"/>
                </a:lnTo>
                <a:lnTo>
                  <a:pt x="1860" y="286"/>
                </a:lnTo>
                <a:lnTo>
                  <a:pt x="1741" y="284"/>
                </a:lnTo>
                <a:lnTo>
                  <a:pt x="1755" y="262"/>
                </a:lnTo>
                <a:lnTo>
                  <a:pt x="1732" y="248"/>
                </a:lnTo>
                <a:lnTo>
                  <a:pt x="1706" y="259"/>
                </a:lnTo>
                <a:lnTo>
                  <a:pt x="1657" y="260"/>
                </a:lnTo>
                <a:lnTo>
                  <a:pt x="1647" y="228"/>
                </a:lnTo>
                <a:lnTo>
                  <a:pt x="1637" y="198"/>
                </a:lnTo>
                <a:lnTo>
                  <a:pt x="1604" y="213"/>
                </a:lnTo>
                <a:lnTo>
                  <a:pt x="1572" y="213"/>
                </a:lnTo>
                <a:lnTo>
                  <a:pt x="1576" y="192"/>
                </a:lnTo>
                <a:lnTo>
                  <a:pt x="1542" y="185"/>
                </a:lnTo>
                <a:lnTo>
                  <a:pt x="1518" y="192"/>
                </a:lnTo>
                <a:lnTo>
                  <a:pt x="1496" y="189"/>
                </a:lnTo>
                <a:lnTo>
                  <a:pt x="1496" y="141"/>
                </a:lnTo>
                <a:lnTo>
                  <a:pt x="1463" y="153"/>
                </a:lnTo>
                <a:lnTo>
                  <a:pt x="1461" y="132"/>
                </a:lnTo>
                <a:lnTo>
                  <a:pt x="1435" y="120"/>
                </a:lnTo>
                <a:lnTo>
                  <a:pt x="1422" y="131"/>
                </a:lnTo>
                <a:lnTo>
                  <a:pt x="1387" y="132"/>
                </a:lnTo>
                <a:lnTo>
                  <a:pt x="1369" y="138"/>
                </a:lnTo>
                <a:lnTo>
                  <a:pt x="1323" y="138"/>
                </a:lnTo>
                <a:lnTo>
                  <a:pt x="1277" y="120"/>
                </a:lnTo>
                <a:lnTo>
                  <a:pt x="1270" y="108"/>
                </a:lnTo>
                <a:lnTo>
                  <a:pt x="1237" y="114"/>
                </a:lnTo>
                <a:lnTo>
                  <a:pt x="1216" y="96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867360" y="5199120"/>
            <a:ext cx="752400" cy="480600"/>
            <a:chOff x="6867360" y="5199120"/>
            <a:chExt cx="752400" cy="480600"/>
          </a:xfrm>
        </p:grpSpPr>
        <p:sp>
          <p:nvSpPr>
            <p:cNvPr id="370" name=""/>
            <p:cNvSpPr/>
            <p:nvPr/>
          </p:nvSpPr>
          <p:spPr>
            <a:xfrm>
              <a:off x="6867360" y="5533560"/>
              <a:ext cx="100080" cy="87480"/>
            </a:xfrm>
            <a:custGeom>
              <a:avLst/>
              <a:gdLst/>
              <a:ahLst/>
              <a:rect l="l" t="t" r="r" b="b"/>
              <a:pathLst>
                <a:path w="83" h="72">
                  <a:moveTo>
                    <a:pt x="71" y="0"/>
                  </a:moveTo>
                  <a:lnTo>
                    <a:pt x="47" y="0"/>
                  </a:lnTo>
                  <a:lnTo>
                    <a:pt x="19" y="16"/>
                  </a:lnTo>
                  <a:lnTo>
                    <a:pt x="19" y="32"/>
                  </a:lnTo>
                  <a:lnTo>
                    <a:pt x="11" y="34"/>
                  </a:lnTo>
                  <a:lnTo>
                    <a:pt x="3" y="44"/>
                  </a:lnTo>
                  <a:lnTo>
                    <a:pt x="0" y="55"/>
                  </a:lnTo>
                  <a:lnTo>
                    <a:pt x="9" y="57"/>
                  </a:lnTo>
                  <a:lnTo>
                    <a:pt x="24" y="72"/>
                  </a:lnTo>
                  <a:lnTo>
                    <a:pt x="34" y="72"/>
                  </a:lnTo>
                  <a:lnTo>
                    <a:pt x="34" y="65"/>
                  </a:lnTo>
                  <a:lnTo>
                    <a:pt x="43" y="49"/>
                  </a:lnTo>
                  <a:lnTo>
                    <a:pt x="52" y="52"/>
                  </a:lnTo>
                  <a:lnTo>
                    <a:pt x="60" y="41"/>
                  </a:lnTo>
                  <a:lnTo>
                    <a:pt x="81" y="21"/>
                  </a:lnTo>
                  <a:lnTo>
                    <a:pt x="83" y="16"/>
                  </a:lnTo>
                  <a:lnTo>
                    <a:pt x="81" y="1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13800" y="5633280"/>
              <a:ext cx="53640" cy="4644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7" y="0"/>
                  </a:moveTo>
                  <a:lnTo>
                    <a:pt x="7" y="8"/>
                  </a:lnTo>
                  <a:lnTo>
                    <a:pt x="0" y="16"/>
                  </a:lnTo>
                  <a:lnTo>
                    <a:pt x="0" y="28"/>
                  </a:lnTo>
                  <a:lnTo>
                    <a:pt x="7" y="38"/>
                  </a:lnTo>
                  <a:lnTo>
                    <a:pt x="15" y="31"/>
                  </a:lnTo>
                  <a:lnTo>
                    <a:pt x="20" y="34"/>
                  </a:lnTo>
                  <a:lnTo>
                    <a:pt x="33" y="38"/>
                  </a:lnTo>
                  <a:lnTo>
                    <a:pt x="43" y="34"/>
                  </a:lnTo>
                  <a:lnTo>
                    <a:pt x="41" y="25"/>
                  </a:lnTo>
                  <a:lnTo>
                    <a:pt x="31" y="16"/>
                  </a:lnTo>
                  <a:lnTo>
                    <a:pt x="22" y="12"/>
                  </a:lnTo>
                  <a:lnTo>
                    <a:pt x="15" y="1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26560" y="5230440"/>
              <a:ext cx="277920" cy="226800"/>
            </a:xfrm>
            <a:custGeom>
              <a:avLst/>
              <a:gdLst/>
              <a:ahLst/>
              <a:rect l="l" t="t" r="r" b="b"/>
              <a:pathLst>
                <a:path w="229" h="186">
                  <a:moveTo>
                    <a:pt x="181" y="0"/>
                  </a:moveTo>
                  <a:lnTo>
                    <a:pt x="160" y="13"/>
                  </a:lnTo>
                  <a:lnTo>
                    <a:pt x="165" y="18"/>
                  </a:lnTo>
                  <a:lnTo>
                    <a:pt x="175" y="18"/>
                  </a:lnTo>
                  <a:lnTo>
                    <a:pt x="170" y="28"/>
                  </a:lnTo>
                  <a:lnTo>
                    <a:pt x="157" y="40"/>
                  </a:lnTo>
                  <a:lnTo>
                    <a:pt x="170" y="38"/>
                  </a:lnTo>
                  <a:lnTo>
                    <a:pt x="179" y="45"/>
                  </a:lnTo>
                  <a:lnTo>
                    <a:pt x="179" y="48"/>
                  </a:lnTo>
                  <a:lnTo>
                    <a:pt x="187" y="58"/>
                  </a:lnTo>
                  <a:lnTo>
                    <a:pt x="198" y="52"/>
                  </a:lnTo>
                  <a:lnTo>
                    <a:pt x="203" y="38"/>
                  </a:lnTo>
                  <a:lnTo>
                    <a:pt x="216" y="40"/>
                  </a:lnTo>
                  <a:lnTo>
                    <a:pt x="223" y="48"/>
                  </a:lnTo>
                  <a:lnTo>
                    <a:pt x="229" y="58"/>
                  </a:lnTo>
                  <a:lnTo>
                    <a:pt x="220" y="68"/>
                  </a:lnTo>
                  <a:lnTo>
                    <a:pt x="211" y="74"/>
                  </a:lnTo>
                  <a:lnTo>
                    <a:pt x="218" y="87"/>
                  </a:lnTo>
                  <a:lnTo>
                    <a:pt x="216" y="98"/>
                  </a:lnTo>
                  <a:lnTo>
                    <a:pt x="213" y="114"/>
                  </a:lnTo>
                  <a:lnTo>
                    <a:pt x="207" y="130"/>
                  </a:lnTo>
                  <a:lnTo>
                    <a:pt x="190" y="132"/>
                  </a:lnTo>
                  <a:lnTo>
                    <a:pt x="195" y="143"/>
                  </a:lnTo>
                  <a:lnTo>
                    <a:pt x="203" y="156"/>
                  </a:lnTo>
                  <a:lnTo>
                    <a:pt x="192" y="163"/>
                  </a:lnTo>
                  <a:lnTo>
                    <a:pt x="187" y="178"/>
                  </a:lnTo>
                  <a:lnTo>
                    <a:pt x="181" y="181"/>
                  </a:lnTo>
                  <a:lnTo>
                    <a:pt x="173" y="176"/>
                  </a:lnTo>
                  <a:lnTo>
                    <a:pt x="165" y="176"/>
                  </a:lnTo>
                  <a:lnTo>
                    <a:pt x="150" y="186"/>
                  </a:lnTo>
                  <a:lnTo>
                    <a:pt x="130" y="160"/>
                  </a:lnTo>
                  <a:lnTo>
                    <a:pt x="111" y="165"/>
                  </a:lnTo>
                  <a:lnTo>
                    <a:pt x="99" y="154"/>
                  </a:lnTo>
                  <a:lnTo>
                    <a:pt x="93" y="138"/>
                  </a:lnTo>
                  <a:lnTo>
                    <a:pt x="93" y="122"/>
                  </a:lnTo>
                  <a:lnTo>
                    <a:pt x="77" y="118"/>
                  </a:lnTo>
                  <a:lnTo>
                    <a:pt x="70" y="118"/>
                  </a:lnTo>
                  <a:lnTo>
                    <a:pt x="64" y="109"/>
                  </a:lnTo>
                  <a:lnTo>
                    <a:pt x="57" y="118"/>
                  </a:lnTo>
                  <a:lnTo>
                    <a:pt x="52" y="130"/>
                  </a:lnTo>
                  <a:lnTo>
                    <a:pt x="39" y="141"/>
                  </a:lnTo>
                  <a:lnTo>
                    <a:pt x="24" y="122"/>
                  </a:lnTo>
                  <a:lnTo>
                    <a:pt x="0" y="120"/>
                  </a:lnTo>
                  <a:lnTo>
                    <a:pt x="6" y="109"/>
                  </a:lnTo>
                  <a:lnTo>
                    <a:pt x="22" y="98"/>
                  </a:lnTo>
                  <a:lnTo>
                    <a:pt x="24" y="87"/>
                  </a:lnTo>
                  <a:lnTo>
                    <a:pt x="41" y="63"/>
                  </a:lnTo>
                  <a:lnTo>
                    <a:pt x="62" y="61"/>
                  </a:lnTo>
                  <a:lnTo>
                    <a:pt x="80" y="43"/>
                  </a:lnTo>
                  <a:lnTo>
                    <a:pt x="86" y="33"/>
                  </a:lnTo>
                  <a:lnTo>
                    <a:pt x="99" y="22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30" y="5"/>
                  </a:lnTo>
                  <a:lnTo>
                    <a:pt x="155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488000" y="5199120"/>
              <a:ext cx="131760" cy="92160"/>
            </a:xfrm>
            <a:custGeom>
              <a:avLst/>
              <a:gdLst/>
              <a:ahLst/>
              <a:rect l="l" t="t" r="r" b="b"/>
              <a:pathLst>
                <a:path w="108" h="75">
                  <a:moveTo>
                    <a:pt x="0" y="4"/>
                  </a:moveTo>
                  <a:lnTo>
                    <a:pt x="10" y="0"/>
                  </a:lnTo>
                  <a:lnTo>
                    <a:pt x="33" y="4"/>
                  </a:lnTo>
                  <a:lnTo>
                    <a:pt x="41" y="6"/>
                  </a:lnTo>
                  <a:lnTo>
                    <a:pt x="50" y="4"/>
                  </a:lnTo>
                  <a:lnTo>
                    <a:pt x="63" y="0"/>
                  </a:lnTo>
                  <a:lnTo>
                    <a:pt x="78" y="2"/>
                  </a:lnTo>
                  <a:lnTo>
                    <a:pt x="92" y="8"/>
                  </a:lnTo>
                  <a:lnTo>
                    <a:pt x="99" y="27"/>
                  </a:lnTo>
                  <a:lnTo>
                    <a:pt x="95" y="38"/>
                  </a:lnTo>
                  <a:lnTo>
                    <a:pt x="101" y="51"/>
                  </a:lnTo>
                  <a:lnTo>
                    <a:pt x="108" y="63"/>
                  </a:lnTo>
                  <a:lnTo>
                    <a:pt x="105" y="75"/>
                  </a:lnTo>
                  <a:lnTo>
                    <a:pt x="99" y="65"/>
                  </a:lnTo>
                  <a:lnTo>
                    <a:pt x="82" y="49"/>
                  </a:lnTo>
                  <a:lnTo>
                    <a:pt x="54" y="38"/>
                  </a:lnTo>
                  <a:lnTo>
                    <a:pt x="33" y="3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10" y="21"/>
                  </a:lnTo>
                  <a:lnTo>
                    <a:pt x="0" y="1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75600" y="5479920"/>
              <a:ext cx="43560" cy="3348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11" y="0"/>
                  </a:moveTo>
                  <a:lnTo>
                    <a:pt x="0" y="13"/>
                  </a:lnTo>
                  <a:lnTo>
                    <a:pt x="4" y="23"/>
                  </a:lnTo>
                  <a:lnTo>
                    <a:pt x="13" y="28"/>
                  </a:lnTo>
                  <a:lnTo>
                    <a:pt x="25" y="23"/>
                  </a:lnTo>
                  <a:lnTo>
                    <a:pt x="35" y="17"/>
                  </a:lnTo>
                  <a:lnTo>
                    <a:pt x="3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881440" y="1294920"/>
            <a:ext cx="1842840" cy="501480"/>
            <a:chOff x="2881440" y="1294920"/>
            <a:chExt cx="1842840" cy="501480"/>
          </a:xfrm>
        </p:grpSpPr>
        <p:sp>
          <p:nvSpPr>
            <p:cNvPr id="376" name=""/>
            <p:cNvSpPr/>
            <p:nvPr/>
          </p:nvSpPr>
          <p:spPr>
            <a:xfrm>
              <a:off x="2881440" y="13366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733920" y="1294920"/>
              <a:ext cx="990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7376400" y="498600"/>
            <a:ext cx="977760" cy="1330200"/>
            <a:chOff x="7376400" y="498600"/>
            <a:chExt cx="977760" cy="1330200"/>
          </a:xfrm>
        </p:grpSpPr>
        <p:sp>
          <p:nvSpPr>
            <p:cNvPr id="379" name=""/>
            <p:cNvSpPr/>
            <p:nvPr/>
          </p:nvSpPr>
          <p:spPr>
            <a:xfrm>
              <a:off x="7376400" y="498600"/>
              <a:ext cx="977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er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48720" y="1295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1" name="" descr=""/>
          <p:cNvPicPr/>
          <p:nvPr/>
        </p:nvPicPr>
        <p:blipFill>
          <a:blip r:embed="rId6"/>
          <a:stretch/>
        </p:blipFill>
        <p:spPr>
          <a:xfrm>
            <a:off x="5638680" y="1295280"/>
            <a:ext cx="1295640" cy="587520"/>
          </a:xfrm>
          <a:prstGeom prst="rect">
            <a:avLst/>
          </a:prstGeom>
          <a:ln w="0">
            <a:noFill/>
          </a:ln>
        </p:spPr>
      </p:pic>
      <p:grpSp>
        <p:nvGrpSpPr>
          <p:cNvPr id="382" name=""/>
          <p:cNvGrpSpPr/>
          <p:nvPr/>
        </p:nvGrpSpPr>
        <p:grpSpPr>
          <a:xfrm>
            <a:off x="5500080" y="1523880"/>
            <a:ext cx="1815840" cy="1679760"/>
            <a:chOff x="5500080" y="1523880"/>
            <a:chExt cx="1815840" cy="1679760"/>
          </a:xfrm>
        </p:grpSpPr>
        <p:sp>
          <p:nvSpPr>
            <p:cNvPr id="383" name=""/>
            <p:cNvSpPr/>
            <p:nvPr/>
          </p:nvSpPr>
          <p:spPr>
            <a:xfrm>
              <a:off x="5500080" y="2378160"/>
              <a:ext cx="181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 Repúbl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minica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248520" y="1523880"/>
              <a:ext cx="228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8000">
    <p:pull dir="ru"/>
    <p:sndAc>
      <p:stSnd>
        <p:snd r:embed="rId7" name="chimes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219320" y="4157640"/>
            <a:ext cx="4647960" cy="24066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019920" y="4538520"/>
            <a:ext cx="2895480" cy="15987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981080" y="26668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a Hab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Cub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91" name=""/>
          <p:cNvSpPr/>
          <p:nvPr/>
        </p:nvSpPr>
        <p:spPr>
          <a:xfrm>
            <a:off x="5562720" y="26668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u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143000" y="2971800"/>
            <a:ext cx="3343320" cy="35910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334120" y="4495680"/>
            <a:ext cx="3200400" cy="20574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334120" y="27432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to Domin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219320" y="304920"/>
            <a:ext cx="487656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La Re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Dominica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98" name=""/>
          <p:cNvSpPr/>
          <p:nvPr/>
        </p:nvSpPr>
        <p:spPr>
          <a:xfrm>
            <a:off x="5334120" y="35352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ominic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34120" y="4495680"/>
            <a:ext cx="3200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143000" y="4040280"/>
            <a:ext cx="4800600" cy="24559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981080" y="2514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 Ju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219320" y="304920"/>
            <a:ext cx="5257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Puerto Ric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2514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uertorriqu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72200" y="4419720"/>
            <a:ext cx="27432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5410080" y="4191120"/>
            <a:ext cx="2971800" cy="19047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5867280" y="2209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ad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29257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españ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1219320" y="3200400"/>
            <a:ext cx="3139920" cy="33735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1219320" y="304920"/>
            <a:ext cx="5257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Españ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415" name=""/>
          <p:cNvSpPr/>
          <p:nvPr/>
        </p:nvSpPr>
        <p:spPr>
          <a:xfrm>
            <a:off x="5410080" y="4191120"/>
            <a:ext cx="29718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6320" y="0"/>
            <a:ext cx="8914320" cy="6856200"/>
            <a:chOff x="76320" y="0"/>
            <a:chExt cx="8914320" cy="6856200"/>
          </a:xfrm>
        </p:grpSpPr>
        <p:grpSp>
          <p:nvGrpSpPr>
            <p:cNvPr id="419" name=""/>
            <p:cNvGrpSpPr/>
            <p:nvPr/>
          </p:nvGrpSpPr>
          <p:grpSpPr>
            <a:xfrm>
              <a:off x="76320" y="0"/>
              <a:ext cx="4484520" cy="6856200"/>
              <a:chOff x="76320" y="0"/>
              <a:chExt cx="4484520" cy="685620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320" y="0"/>
                <a:ext cx="4484520" cy="351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3340800"/>
                <a:ext cx="4484520" cy="351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2" name=""/>
            <p:cNvGrpSpPr/>
            <p:nvPr/>
          </p:nvGrpSpPr>
          <p:grpSpPr>
            <a:xfrm>
              <a:off x="4506120" y="0"/>
              <a:ext cx="4484520" cy="6856200"/>
              <a:chOff x="4506120" y="0"/>
              <a:chExt cx="4484520" cy="6856200"/>
            </a:xfrm>
          </p:grpSpPr>
          <p:pic>
            <p:nvPicPr>
              <p:cNvPr id="42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06120" y="0"/>
                <a:ext cx="4484520" cy="351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6120" y="3340800"/>
                <a:ext cx="4484520" cy="351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25" name=""/>
          <p:cNvSpPr/>
          <p:nvPr/>
        </p:nvSpPr>
        <p:spPr>
          <a:xfrm>
            <a:off x="2732040" y="2681280"/>
            <a:ext cx="368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stellar"/>
              </a:rPr>
              <a:t>El  FI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5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5033880" y="3344760"/>
            <a:ext cx="1027080" cy="903240"/>
          </a:xfrm>
          <a:custGeom>
            <a:avLst/>
            <a:gdLst/>
            <a:ahLst/>
            <a:rect l="l" t="t" r="r" b="b"/>
            <a:pathLst>
              <a:path w="1294" h="1137">
                <a:moveTo>
                  <a:pt x="1040" y="14"/>
                </a:moveTo>
                <a:lnTo>
                  <a:pt x="850" y="0"/>
                </a:lnTo>
                <a:lnTo>
                  <a:pt x="730" y="76"/>
                </a:lnTo>
                <a:lnTo>
                  <a:pt x="531" y="45"/>
                </a:lnTo>
                <a:lnTo>
                  <a:pt x="502" y="161"/>
                </a:lnTo>
                <a:lnTo>
                  <a:pt x="373" y="236"/>
                </a:lnTo>
                <a:lnTo>
                  <a:pt x="430" y="395"/>
                </a:lnTo>
                <a:lnTo>
                  <a:pt x="432" y="521"/>
                </a:lnTo>
                <a:lnTo>
                  <a:pt x="252" y="566"/>
                </a:lnTo>
                <a:lnTo>
                  <a:pt x="102" y="615"/>
                </a:lnTo>
                <a:lnTo>
                  <a:pt x="21" y="783"/>
                </a:lnTo>
                <a:lnTo>
                  <a:pt x="0" y="882"/>
                </a:lnTo>
                <a:lnTo>
                  <a:pt x="123" y="943"/>
                </a:lnTo>
                <a:lnTo>
                  <a:pt x="380" y="1078"/>
                </a:lnTo>
                <a:lnTo>
                  <a:pt x="561" y="1078"/>
                </a:lnTo>
                <a:lnTo>
                  <a:pt x="684" y="1017"/>
                </a:lnTo>
                <a:lnTo>
                  <a:pt x="767" y="1137"/>
                </a:lnTo>
                <a:lnTo>
                  <a:pt x="892" y="998"/>
                </a:lnTo>
                <a:lnTo>
                  <a:pt x="907" y="964"/>
                </a:lnTo>
                <a:lnTo>
                  <a:pt x="1294" y="547"/>
                </a:lnTo>
                <a:lnTo>
                  <a:pt x="1079" y="593"/>
                </a:lnTo>
                <a:lnTo>
                  <a:pt x="1066" y="532"/>
                </a:lnTo>
                <a:lnTo>
                  <a:pt x="959" y="610"/>
                </a:lnTo>
                <a:lnTo>
                  <a:pt x="935" y="578"/>
                </a:lnTo>
                <a:lnTo>
                  <a:pt x="888" y="551"/>
                </a:lnTo>
                <a:lnTo>
                  <a:pt x="919" y="134"/>
                </a:lnTo>
                <a:lnTo>
                  <a:pt x="1003" y="97"/>
                </a:lnTo>
                <a:lnTo>
                  <a:pt x="1040" y="14"/>
                </a:lnTo>
                <a:close/>
              </a:path>
            </a:pathLst>
          </a:custGeom>
          <a:solidFill>
            <a:srgbClr val="3f7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38760" y="3354480"/>
            <a:ext cx="177840" cy="455400"/>
          </a:xfrm>
          <a:custGeom>
            <a:avLst/>
            <a:gdLst/>
            <a:ahLst/>
            <a:rect l="l" t="t" r="r" b="b"/>
            <a:pathLst>
              <a:path w="224" h="575">
                <a:moveTo>
                  <a:pt x="23" y="123"/>
                </a:moveTo>
                <a:lnTo>
                  <a:pt x="0" y="542"/>
                </a:lnTo>
                <a:lnTo>
                  <a:pt x="47" y="575"/>
                </a:lnTo>
                <a:lnTo>
                  <a:pt x="102" y="459"/>
                </a:lnTo>
                <a:lnTo>
                  <a:pt x="206" y="382"/>
                </a:lnTo>
                <a:lnTo>
                  <a:pt x="224" y="73"/>
                </a:lnTo>
                <a:lnTo>
                  <a:pt x="184" y="63"/>
                </a:lnTo>
                <a:lnTo>
                  <a:pt x="152" y="0"/>
                </a:lnTo>
                <a:lnTo>
                  <a:pt x="108" y="76"/>
                </a:lnTo>
                <a:lnTo>
                  <a:pt x="23" y="123"/>
                </a:lnTo>
                <a:close/>
              </a:path>
            </a:pathLst>
          </a:custGeom>
          <a:solidFill>
            <a:srgbClr val="5fd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5727600" y="3656160"/>
            <a:ext cx="1233720" cy="653760"/>
          </a:xfrm>
          <a:custGeom>
            <a:avLst/>
            <a:gdLst/>
            <a:ahLst/>
            <a:rect l="l" t="t" r="r" b="b"/>
            <a:pathLst>
              <a:path w="1554" h="824">
                <a:moveTo>
                  <a:pt x="420" y="146"/>
                </a:moveTo>
                <a:lnTo>
                  <a:pt x="592" y="67"/>
                </a:lnTo>
                <a:lnTo>
                  <a:pt x="791" y="67"/>
                </a:lnTo>
                <a:lnTo>
                  <a:pt x="1011" y="33"/>
                </a:lnTo>
                <a:lnTo>
                  <a:pt x="1070" y="64"/>
                </a:lnTo>
                <a:lnTo>
                  <a:pt x="1112" y="0"/>
                </a:lnTo>
                <a:lnTo>
                  <a:pt x="1254" y="12"/>
                </a:lnTo>
                <a:lnTo>
                  <a:pt x="1269" y="94"/>
                </a:lnTo>
                <a:lnTo>
                  <a:pt x="1330" y="79"/>
                </a:lnTo>
                <a:lnTo>
                  <a:pt x="1375" y="12"/>
                </a:lnTo>
                <a:lnTo>
                  <a:pt x="1476" y="52"/>
                </a:lnTo>
                <a:lnTo>
                  <a:pt x="1554" y="153"/>
                </a:lnTo>
                <a:lnTo>
                  <a:pt x="1513" y="294"/>
                </a:lnTo>
                <a:lnTo>
                  <a:pt x="1496" y="441"/>
                </a:lnTo>
                <a:lnTo>
                  <a:pt x="1421" y="474"/>
                </a:lnTo>
                <a:lnTo>
                  <a:pt x="1284" y="517"/>
                </a:lnTo>
                <a:lnTo>
                  <a:pt x="1133" y="474"/>
                </a:lnTo>
                <a:lnTo>
                  <a:pt x="1048" y="533"/>
                </a:lnTo>
                <a:lnTo>
                  <a:pt x="1011" y="637"/>
                </a:lnTo>
                <a:lnTo>
                  <a:pt x="872" y="625"/>
                </a:lnTo>
                <a:lnTo>
                  <a:pt x="692" y="684"/>
                </a:lnTo>
                <a:lnTo>
                  <a:pt x="646" y="806"/>
                </a:lnTo>
                <a:lnTo>
                  <a:pt x="489" y="824"/>
                </a:lnTo>
                <a:lnTo>
                  <a:pt x="457" y="686"/>
                </a:lnTo>
                <a:lnTo>
                  <a:pt x="321" y="572"/>
                </a:lnTo>
                <a:lnTo>
                  <a:pt x="144" y="566"/>
                </a:lnTo>
                <a:lnTo>
                  <a:pt x="46" y="582"/>
                </a:lnTo>
                <a:lnTo>
                  <a:pt x="0" y="598"/>
                </a:lnTo>
                <a:lnTo>
                  <a:pt x="420" y="14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6107040" y="4002120"/>
            <a:ext cx="808200" cy="608040"/>
          </a:xfrm>
          <a:custGeom>
            <a:avLst/>
            <a:gdLst/>
            <a:ahLst/>
            <a:rect l="l" t="t" r="r" b="b"/>
            <a:pathLst>
              <a:path w="1018" h="767">
                <a:moveTo>
                  <a:pt x="9" y="382"/>
                </a:moveTo>
                <a:lnTo>
                  <a:pt x="163" y="367"/>
                </a:lnTo>
                <a:lnTo>
                  <a:pt x="214" y="251"/>
                </a:lnTo>
                <a:lnTo>
                  <a:pt x="396" y="190"/>
                </a:lnTo>
                <a:lnTo>
                  <a:pt x="533" y="208"/>
                </a:lnTo>
                <a:lnTo>
                  <a:pt x="563" y="100"/>
                </a:lnTo>
                <a:lnTo>
                  <a:pt x="655" y="39"/>
                </a:lnTo>
                <a:lnTo>
                  <a:pt x="806" y="85"/>
                </a:lnTo>
                <a:lnTo>
                  <a:pt x="1018" y="0"/>
                </a:lnTo>
                <a:lnTo>
                  <a:pt x="1018" y="116"/>
                </a:lnTo>
                <a:lnTo>
                  <a:pt x="912" y="116"/>
                </a:lnTo>
                <a:lnTo>
                  <a:pt x="959" y="251"/>
                </a:lnTo>
                <a:lnTo>
                  <a:pt x="926" y="435"/>
                </a:lnTo>
                <a:lnTo>
                  <a:pt x="943" y="525"/>
                </a:lnTo>
                <a:lnTo>
                  <a:pt x="867" y="572"/>
                </a:lnTo>
                <a:lnTo>
                  <a:pt x="943" y="710"/>
                </a:lnTo>
                <a:lnTo>
                  <a:pt x="857" y="751"/>
                </a:lnTo>
                <a:lnTo>
                  <a:pt x="796" y="747"/>
                </a:lnTo>
                <a:lnTo>
                  <a:pt x="714" y="747"/>
                </a:lnTo>
                <a:lnTo>
                  <a:pt x="612" y="767"/>
                </a:lnTo>
                <a:lnTo>
                  <a:pt x="496" y="736"/>
                </a:lnTo>
                <a:lnTo>
                  <a:pt x="419" y="692"/>
                </a:lnTo>
                <a:lnTo>
                  <a:pt x="334" y="723"/>
                </a:lnTo>
                <a:lnTo>
                  <a:pt x="214" y="638"/>
                </a:lnTo>
                <a:lnTo>
                  <a:pt x="109" y="563"/>
                </a:lnTo>
                <a:lnTo>
                  <a:pt x="46" y="465"/>
                </a:lnTo>
                <a:lnTo>
                  <a:pt x="0" y="435"/>
                </a:lnTo>
                <a:lnTo>
                  <a:pt x="9" y="382"/>
                </a:lnTo>
                <a:close/>
              </a:path>
            </a:pathLst>
          </a:custGeom>
          <a:solidFill>
            <a:srgbClr val="7f3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6370560" y="4543560"/>
            <a:ext cx="712800" cy="527040"/>
          </a:xfrm>
          <a:custGeom>
            <a:avLst/>
            <a:gdLst/>
            <a:ahLst/>
            <a:rect l="l" t="t" r="r" b="b"/>
            <a:pathLst>
              <a:path w="900" h="663">
                <a:moveTo>
                  <a:pt x="165" y="44"/>
                </a:moveTo>
                <a:lnTo>
                  <a:pt x="285" y="83"/>
                </a:lnTo>
                <a:lnTo>
                  <a:pt x="392" y="55"/>
                </a:lnTo>
                <a:lnTo>
                  <a:pt x="521" y="61"/>
                </a:lnTo>
                <a:lnTo>
                  <a:pt x="612" y="27"/>
                </a:lnTo>
                <a:lnTo>
                  <a:pt x="732" y="193"/>
                </a:lnTo>
                <a:lnTo>
                  <a:pt x="885" y="300"/>
                </a:lnTo>
                <a:lnTo>
                  <a:pt x="900" y="543"/>
                </a:lnTo>
                <a:lnTo>
                  <a:pt x="808" y="663"/>
                </a:lnTo>
                <a:lnTo>
                  <a:pt x="732" y="497"/>
                </a:lnTo>
                <a:lnTo>
                  <a:pt x="704" y="588"/>
                </a:lnTo>
                <a:lnTo>
                  <a:pt x="641" y="604"/>
                </a:lnTo>
                <a:lnTo>
                  <a:pt x="566" y="436"/>
                </a:lnTo>
                <a:lnTo>
                  <a:pt x="399" y="346"/>
                </a:lnTo>
                <a:lnTo>
                  <a:pt x="248" y="224"/>
                </a:lnTo>
                <a:lnTo>
                  <a:pt x="217" y="300"/>
                </a:lnTo>
                <a:lnTo>
                  <a:pt x="307" y="377"/>
                </a:lnTo>
                <a:lnTo>
                  <a:pt x="261" y="436"/>
                </a:lnTo>
                <a:lnTo>
                  <a:pt x="36" y="285"/>
                </a:lnTo>
                <a:lnTo>
                  <a:pt x="0" y="31"/>
                </a:lnTo>
                <a:lnTo>
                  <a:pt x="88" y="0"/>
                </a:lnTo>
                <a:lnTo>
                  <a:pt x="165" y="44"/>
                </a:lnTo>
                <a:close/>
              </a:path>
            </a:pathLst>
          </a:custGeom>
          <a:solidFill>
            <a:srgbClr val="bf3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5" action="ppaction://hlinksldjump"/>
          </p:cNvPr>
          <p:cNvSpPr/>
          <p:nvPr/>
        </p:nvSpPr>
        <p:spPr>
          <a:xfrm>
            <a:off x="7068960" y="4702320"/>
            <a:ext cx="997200" cy="452160"/>
          </a:xfrm>
          <a:custGeom>
            <a:avLst/>
            <a:gdLst/>
            <a:ahLst/>
            <a:rect l="l" t="t" r="r" b="b"/>
            <a:pathLst>
              <a:path w="1258" h="570">
                <a:moveTo>
                  <a:pt x="0" y="97"/>
                </a:moveTo>
                <a:lnTo>
                  <a:pt x="173" y="281"/>
                </a:lnTo>
                <a:lnTo>
                  <a:pt x="202" y="129"/>
                </a:lnTo>
                <a:lnTo>
                  <a:pt x="325" y="253"/>
                </a:lnTo>
                <a:lnTo>
                  <a:pt x="462" y="236"/>
                </a:lnTo>
                <a:lnTo>
                  <a:pt x="704" y="24"/>
                </a:lnTo>
                <a:lnTo>
                  <a:pt x="879" y="0"/>
                </a:lnTo>
                <a:lnTo>
                  <a:pt x="1048" y="19"/>
                </a:lnTo>
                <a:lnTo>
                  <a:pt x="1175" y="88"/>
                </a:lnTo>
                <a:lnTo>
                  <a:pt x="1258" y="208"/>
                </a:lnTo>
                <a:lnTo>
                  <a:pt x="1221" y="238"/>
                </a:lnTo>
                <a:lnTo>
                  <a:pt x="1206" y="345"/>
                </a:lnTo>
                <a:lnTo>
                  <a:pt x="1048" y="411"/>
                </a:lnTo>
                <a:lnTo>
                  <a:pt x="1008" y="345"/>
                </a:lnTo>
                <a:lnTo>
                  <a:pt x="1017" y="263"/>
                </a:lnTo>
                <a:lnTo>
                  <a:pt x="995" y="155"/>
                </a:lnTo>
                <a:lnTo>
                  <a:pt x="870" y="112"/>
                </a:lnTo>
                <a:lnTo>
                  <a:pt x="766" y="160"/>
                </a:lnTo>
                <a:lnTo>
                  <a:pt x="713" y="254"/>
                </a:lnTo>
                <a:lnTo>
                  <a:pt x="584" y="310"/>
                </a:lnTo>
                <a:lnTo>
                  <a:pt x="553" y="343"/>
                </a:lnTo>
                <a:lnTo>
                  <a:pt x="674" y="509"/>
                </a:lnTo>
                <a:lnTo>
                  <a:pt x="569" y="570"/>
                </a:lnTo>
                <a:lnTo>
                  <a:pt x="523" y="487"/>
                </a:lnTo>
                <a:lnTo>
                  <a:pt x="469" y="509"/>
                </a:lnTo>
                <a:lnTo>
                  <a:pt x="432" y="419"/>
                </a:lnTo>
                <a:lnTo>
                  <a:pt x="333" y="441"/>
                </a:lnTo>
                <a:lnTo>
                  <a:pt x="256" y="383"/>
                </a:lnTo>
                <a:lnTo>
                  <a:pt x="110" y="356"/>
                </a:lnTo>
                <a:lnTo>
                  <a:pt x="5" y="388"/>
                </a:lnTo>
                <a:lnTo>
                  <a:pt x="11" y="330"/>
                </a:lnTo>
                <a:lnTo>
                  <a:pt x="0" y="97"/>
                </a:lnTo>
                <a:close/>
              </a:path>
            </a:pathLst>
          </a:custGeom>
          <a:solidFill>
            <a:srgbClr val="3f5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6" action="ppaction://hlinksldjump"/>
          </p:cNvPr>
          <p:cNvSpPr/>
          <p:nvPr/>
        </p:nvSpPr>
        <p:spPr>
          <a:xfrm>
            <a:off x="5643720" y="4100400"/>
            <a:ext cx="477720" cy="258840"/>
          </a:xfrm>
          <a:custGeom>
            <a:avLst/>
            <a:gdLst/>
            <a:ahLst/>
            <a:rect l="l" t="t" r="r" b="b"/>
            <a:pathLst>
              <a:path w="603" h="326">
                <a:moveTo>
                  <a:pt x="0" y="179"/>
                </a:moveTo>
                <a:lnTo>
                  <a:pt x="144" y="21"/>
                </a:lnTo>
                <a:lnTo>
                  <a:pt x="245" y="0"/>
                </a:lnTo>
                <a:lnTo>
                  <a:pt x="428" y="6"/>
                </a:lnTo>
                <a:lnTo>
                  <a:pt x="570" y="126"/>
                </a:lnTo>
                <a:lnTo>
                  <a:pt x="603" y="264"/>
                </a:lnTo>
                <a:lnTo>
                  <a:pt x="389" y="326"/>
                </a:lnTo>
                <a:lnTo>
                  <a:pt x="0" y="17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7" action="ppaction://hlinksldjump"/>
          </p:cNvPr>
          <p:cNvSpPr/>
          <p:nvPr/>
        </p:nvSpPr>
        <p:spPr>
          <a:xfrm>
            <a:off x="1154160" y="685800"/>
            <a:ext cx="4734000" cy="3351240"/>
          </a:xfrm>
          <a:custGeom>
            <a:avLst/>
            <a:gdLst/>
            <a:ahLst/>
            <a:rect l="l" t="t" r="r" b="b"/>
            <a:pathLst>
              <a:path w="2982" h="2111">
                <a:moveTo>
                  <a:pt x="0" y="0"/>
                </a:moveTo>
                <a:lnTo>
                  <a:pt x="79" y="108"/>
                </a:lnTo>
                <a:lnTo>
                  <a:pt x="62" y="159"/>
                </a:lnTo>
                <a:lnTo>
                  <a:pt x="73" y="402"/>
                </a:lnTo>
                <a:lnTo>
                  <a:pt x="156" y="454"/>
                </a:lnTo>
                <a:lnTo>
                  <a:pt x="238" y="573"/>
                </a:lnTo>
                <a:lnTo>
                  <a:pt x="199" y="659"/>
                </a:lnTo>
                <a:lnTo>
                  <a:pt x="146" y="670"/>
                </a:lnTo>
                <a:lnTo>
                  <a:pt x="246" y="796"/>
                </a:lnTo>
                <a:lnTo>
                  <a:pt x="305" y="797"/>
                </a:lnTo>
                <a:lnTo>
                  <a:pt x="395" y="918"/>
                </a:lnTo>
                <a:lnTo>
                  <a:pt x="369" y="1043"/>
                </a:lnTo>
                <a:lnTo>
                  <a:pt x="497" y="1102"/>
                </a:lnTo>
                <a:lnTo>
                  <a:pt x="636" y="1240"/>
                </a:lnTo>
                <a:lnTo>
                  <a:pt x="638" y="1156"/>
                </a:lnTo>
                <a:lnTo>
                  <a:pt x="558" y="1064"/>
                </a:lnTo>
                <a:lnTo>
                  <a:pt x="558" y="953"/>
                </a:lnTo>
                <a:lnTo>
                  <a:pt x="447" y="892"/>
                </a:lnTo>
                <a:lnTo>
                  <a:pt x="447" y="730"/>
                </a:lnTo>
                <a:lnTo>
                  <a:pt x="355" y="678"/>
                </a:lnTo>
                <a:lnTo>
                  <a:pt x="355" y="592"/>
                </a:lnTo>
                <a:lnTo>
                  <a:pt x="306" y="579"/>
                </a:lnTo>
                <a:lnTo>
                  <a:pt x="307" y="495"/>
                </a:lnTo>
                <a:lnTo>
                  <a:pt x="246" y="403"/>
                </a:lnTo>
                <a:lnTo>
                  <a:pt x="271" y="351"/>
                </a:lnTo>
                <a:lnTo>
                  <a:pt x="235" y="324"/>
                </a:lnTo>
                <a:lnTo>
                  <a:pt x="255" y="209"/>
                </a:lnTo>
                <a:lnTo>
                  <a:pt x="238" y="169"/>
                </a:lnTo>
                <a:lnTo>
                  <a:pt x="294" y="234"/>
                </a:lnTo>
                <a:lnTo>
                  <a:pt x="373" y="283"/>
                </a:lnTo>
                <a:lnTo>
                  <a:pt x="428" y="450"/>
                </a:lnTo>
                <a:lnTo>
                  <a:pt x="432" y="499"/>
                </a:lnTo>
                <a:lnTo>
                  <a:pt x="534" y="683"/>
                </a:lnTo>
                <a:lnTo>
                  <a:pt x="562" y="675"/>
                </a:lnTo>
                <a:lnTo>
                  <a:pt x="577" y="678"/>
                </a:lnTo>
                <a:lnTo>
                  <a:pt x="599" y="786"/>
                </a:lnTo>
                <a:lnTo>
                  <a:pt x="638" y="783"/>
                </a:lnTo>
                <a:lnTo>
                  <a:pt x="679" y="828"/>
                </a:lnTo>
                <a:lnTo>
                  <a:pt x="712" y="872"/>
                </a:lnTo>
                <a:lnTo>
                  <a:pt x="673" y="926"/>
                </a:lnTo>
                <a:lnTo>
                  <a:pt x="718" y="986"/>
                </a:lnTo>
                <a:lnTo>
                  <a:pt x="743" y="972"/>
                </a:lnTo>
                <a:lnTo>
                  <a:pt x="805" y="1002"/>
                </a:lnTo>
                <a:lnTo>
                  <a:pt x="804" y="1037"/>
                </a:lnTo>
                <a:lnTo>
                  <a:pt x="877" y="1103"/>
                </a:lnTo>
                <a:lnTo>
                  <a:pt x="968" y="1238"/>
                </a:lnTo>
                <a:lnTo>
                  <a:pt x="1049" y="1275"/>
                </a:lnTo>
                <a:lnTo>
                  <a:pt x="1065" y="1366"/>
                </a:lnTo>
                <a:lnTo>
                  <a:pt x="1110" y="1425"/>
                </a:lnTo>
                <a:lnTo>
                  <a:pt x="1089" y="1439"/>
                </a:lnTo>
                <a:lnTo>
                  <a:pt x="1057" y="1473"/>
                </a:lnTo>
                <a:lnTo>
                  <a:pt x="1106" y="1530"/>
                </a:lnTo>
                <a:lnTo>
                  <a:pt x="1072" y="1555"/>
                </a:lnTo>
                <a:lnTo>
                  <a:pt x="1073" y="1634"/>
                </a:lnTo>
                <a:lnTo>
                  <a:pt x="1171" y="1645"/>
                </a:lnTo>
                <a:lnTo>
                  <a:pt x="1168" y="1698"/>
                </a:lnTo>
                <a:lnTo>
                  <a:pt x="1211" y="1698"/>
                </a:lnTo>
                <a:lnTo>
                  <a:pt x="1248" y="1701"/>
                </a:lnTo>
                <a:lnTo>
                  <a:pt x="1246" y="1770"/>
                </a:lnTo>
                <a:lnTo>
                  <a:pt x="1393" y="1771"/>
                </a:lnTo>
                <a:lnTo>
                  <a:pt x="1469" y="1877"/>
                </a:lnTo>
                <a:lnTo>
                  <a:pt x="1683" y="1942"/>
                </a:lnTo>
                <a:lnTo>
                  <a:pt x="1859" y="1979"/>
                </a:lnTo>
                <a:lnTo>
                  <a:pt x="1930" y="2028"/>
                </a:lnTo>
                <a:lnTo>
                  <a:pt x="2008" y="2034"/>
                </a:lnTo>
                <a:lnTo>
                  <a:pt x="2066" y="2039"/>
                </a:lnTo>
                <a:lnTo>
                  <a:pt x="2159" y="2010"/>
                </a:lnTo>
                <a:lnTo>
                  <a:pt x="2215" y="1962"/>
                </a:lnTo>
                <a:lnTo>
                  <a:pt x="2333" y="1962"/>
                </a:lnTo>
                <a:lnTo>
                  <a:pt x="2393" y="2054"/>
                </a:lnTo>
                <a:lnTo>
                  <a:pt x="2478" y="2111"/>
                </a:lnTo>
                <a:lnTo>
                  <a:pt x="2548" y="2038"/>
                </a:lnTo>
                <a:lnTo>
                  <a:pt x="2508" y="2018"/>
                </a:lnTo>
                <a:lnTo>
                  <a:pt x="2538" y="1956"/>
                </a:lnTo>
                <a:lnTo>
                  <a:pt x="2648" y="1956"/>
                </a:lnTo>
                <a:lnTo>
                  <a:pt x="2659" y="1930"/>
                </a:lnTo>
                <a:lnTo>
                  <a:pt x="2670" y="1902"/>
                </a:lnTo>
                <a:lnTo>
                  <a:pt x="2648" y="1862"/>
                </a:lnTo>
                <a:lnTo>
                  <a:pt x="2576" y="1815"/>
                </a:lnTo>
                <a:lnTo>
                  <a:pt x="2614" y="1806"/>
                </a:lnTo>
                <a:lnTo>
                  <a:pt x="2613" y="1751"/>
                </a:lnTo>
                <a:lnTo>
                  <a:pt x="2790" y="1737"/>
                </a:lnTo>
                <a:lnTo>
                  <a:pt x="2891" y="1619"/>
                </a:lnTo>
                <a:lnTo>
                  <a:pt x="2914" y="1675"/>
                </a:lnTo>
                <a:lnTo>
                  <a:pt x="2944" y="1607"/>
                </a:lnTo>
                <a:lnTo>
                  <a:pt x="2912" y="1558"/>
                </a:lnTo>
                <a:lnTo>
                  <a:pt x="2921" y="1467"/>
                </a:lnTo>
                <a:lnTo>
                  <a:pt x="2982" y="1379"/>
                </a:lnTo>
                <a:lnTo>
                  <a:pt x="2959" y="1329"/>
                </a:lnTo>
                <a:lnTo>
                  <a:pt x="2932" y="1354"/>
                </a:lnTo>
                <a:lnTo>
                  <a:pt x="2843" y="1353"/>
                </a:lnTo>
                <a:lnTo>
                  <a:pt x="2824" y="1376"/>
                </a:lnTo>
                <a:lnTo>
                  <a:pt x="2708" y="1376"/>
                </a:lnTo>
                <a:lnTo>
                  <a:pt x="2656" y="1407"/>
                </a:lnTo>
                <a:lnTo>
                  <a:pt x="2629" y="1591"/>
                </a:lnTo>
                <a:lnTo>
                  <a:pt x="2569" y="1619"/>
                </a:lnTo>
                <a:lnTo>
                  <a:pt x="2577" y="1666"/>
                </a:lnTo>
                <a:lnTo>
                  <a:pt x="2534" y="1696"/>
                </a:lnTo>
                <a:lnTo>
                  <a:pt x="2482" y="1673"/>
                </a:lnTo>
                <a:lnTo>
                  <a:pt x="2428" y="1692"/>
                </a:lnTo>
                <a:lnTo>
                  <a:pt x="2394" y="1712"/>
                </a:lnTo>
                <a:lnTo>
                  <a:pt x="2254" y="1774"/>
                </a:lnTo>
                <a:lnTo>
                  <a:pt x="2215" y="1721"/>
                </a:lnTo>
                <a:lnTo>
                  <a:pt x="2164" y="1748"/>
                </a:lnTo>
                <a:lnTo>
                  <a:pt x="2156" y="1707"/>
                </a:lnTo>
                <a:lnTo>
                  <a:pt x="2028" y="1644"/>
                </a:lnTo>
                <a:lnTo>
                  <a:pt x="2017" y="1572"/>
                </a:lnTo>
                <a:lnTo>
                  <a:pt x="1919" y="1486"/>
                </a:lnTo>
                <a:lnTo>
                  <a:pt x="1853" y="1309"/>
                </a:lnTo>
                <a:lnTo>
                  <a:pt x="1877" y="1281"/>
                </a:lnTo>
                <a:lnTo>
                  <a:pt x="1866" y="1024"/>
                </a:lnTo>
                <a:lnTo>
                  <a:pt x="1932" y="970"/>
                </a:lnTo>
                <a:lnTo>
                  <a:pt x="1932" y="928"/>
                </a:lnTo>
                <a:lnTo>
                  <a:pt x="1723" y="904"/>
                </a:lnTo>
                <a:lnTo>
                  <a:pt x="1705" y="794"/>
                </a:lnTo>
                <a:lnTo>
                  <a:pt x="1591" y="674"/>
                </a:lnTo>
                <a:lnTo>
                  <a:pt x="1549" y="557"/>
                </a:lnTo>
                <a:lnTo>
                  <a:pt x="1393" y="528"/>
                </a:lnTo>
                <a:lnTo>
                  <a:pt x="1309" y="615"/>
                </a:lnTo>
                <a:lnTo>
                  <a:pt x="1226" y="595"/>
                </a:lnTo>
                <a:lnTo>
                  <a:pt x="1182" y="445"/>
                </a:lnTo>
                <a:lnTo>
                  <a:pt x="1116" y="425"/>
                </a:lnTo>
                <a:lnTo>
                  <a:pt x="1007" y="304"/>
                </a:lnTo>
                <a:lnTo>
                  <a:pt x="867" y="303"/>
                </a:lnTo>
                <a:lnTo>
                  <a:pt x="870" y="344"/>
                </a:lnTo>
                <a:lnTo>
                  <a:pt x="578" y="325"/>
                </a:lnTo>
                <a:lnTo>
                  <a:pt x="291" y="146"/>
                </a:lnTo>
                <a:lnTo>
                  <a:pt x="201" y="24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720" y="482760"/>
            <a:ext cx="44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México y la América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095840" y="2954160"/>
            <a:ext cx="2409480" cy="459720"/>
            <a:chOff x="1095840" y="2954160"/>
            <a:chExt cx="2409480" cy="459720"/>
          </a:xfrm>
        </p:grpSpPr>
        <p:sp>
          <p:nvSpPr>
            <p:cNvPr id="175" name=""/>
            <p:cNvSpPr/>
            <p:nvPr/>
          </p:nvSpPr>
          <p:spPr>
            <a:xfrm>
              <a:off x="1095840" y="295416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éx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09680" y="318276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275640" y="3944880"/>
            <a:ext cx="2134440" cy="535680"/>
            <a:chOff x="3275640" y="3944880"/>
            <a:chExt cx="2134440" cy="535680"/>
          </a:xfrm>
        </p:grpSpPr>
        <p:sp>
          <p:nvSpPr>
            <p:cNvPr id="178" name=""/>
            <p:cNvSpPr/>
            <p:nvPr/>
          </p:nvSpPr>
          <p:spPr>
            <a:xfrm>
              <a:off x="3275640" y="4020840"/>
              <a:ext cx="150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uatema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800600" y="394488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276720" y="4173120"/>
            <a:ext cx="2590560" cy="917280"/>
            <a:chOff x="3276720" y="4173120"/>
            <a:chExt cx="2590560" cy="917280"/>
          </a:xfrm>
        </p:grpSpPr>
        <p:sp>
          <p:nvSpPr>
            <p:cNvPr id="181" name=""/>
            <p:cNvSpPr/>
            <p:nvPr/>
          </p:nvSpPr>
          <p:spPr>
            <a:xfrm>
              <a:off x="3276720" y="4630680"/>
              <a:ext cx="161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 Salv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876920" y="4173120"/>
              <a:ext cx="9903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234120" y="2386080"/>
            <a:ext cx="1366560" cy="1482120"/>
            <a:chOff x="6234120" y="2386080"/>
            <a:chExt cx="1366560" cy="1482120"/>
          </a:xfrm>
        </p:grpSpPr>
        <p:sp>
          <p:nvSpPr>
            <p:cNvPr id="184" name=""/>
            <p:cNvSpPr/>
            <p:nvPr/>
          </p:nvSpPr>
          <p:spPr>
            <a:xfrm>
              <a:off x="6234120" y="238608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ndu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324120" y="2877840"/>
              <a:ext cx="3049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629040" y="3376440"/>
            <a:ext cx="2181600" cy="949320"/>
            <a:chOff x="6629040" y="3376440"/>
            <a:chExt cx="2181600" cy="949320"/>
          </a:xfrm>
        </p:grpSpPr>
        <p:sp>
          <p:nvSpPr>
            <p:cNvPr id="187" name=""/>
            <p:cNvSpPr/>
            <p:nvPr/>
          </p:nvSpPr>
          <p:spPr>
            <a:xfrm>
              <a:off x="7375680" y="3376440"/>
              <a:ext cx="14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icarag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629040" y="3792240"/>
              <a:ext cx="1219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343400" y="4724280"/>
            <a:ext cx="2514600" cy="916920"/>
            <a:chOff x="4343400" y="4724280"/>
            <a:chExt cx="2514600" cy="916920"/>
          </a:xfrm>
        </p:grpSpPr>
        <p:sp>
          <p:nvSpPr>
            <p:cNvPr id="190" name=""/>
            <p:cNvSpPr/>
            <p:nvPr/>
          </p:nvSpPr>
          <p:spPr>
            <a:xfrm>
              <a:off x="4343400" y="518148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sta R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791320" y="47242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299720" y="4876920"/>
            <a:ext cx="1146960" cy="1145520"/>
            <a:chOff x="7299720" y="4876920"/>
            <a:chExt cx="1146960" cy="1145520"/>
          </a:xfrm>
        </p:grpSpPr>
        <p:sp>
          <p:nvSpPr>
            <p:cNvPr id="193" name=""/>
            <p:cNvSpPr/>
            <p:nvPr/>
          </p:nvSpPr>
          <p:spPr>
            <a:xfrm>
              <a:off x="7299720" y="556272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nam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696080" y="4876920"/>
              <a:ext cx="2286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8000">
    <p:pull dir="ru"/>
    <p:sndAc>
      <p:stSnd>
        <p:snd r:embed="rId8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3824280"/>
            <a:ext cx="5029200" cy="26049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553080" y="4343400"/>
            <a:ext cx="2362320" cy="1600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219320" y="304920"/>
            <a:ext cx="3733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Méxic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00" name=""/>
          <p:cNvSpPr/>
          <p:nvPr/>
        </p:nvSpPr>
        <p:spPr>
          <a:xfrm>
            <a:off x="2133720" y="2362320"/>
            <a:ext cx="289548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éxico D.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(La Ciudad de Méx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25146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exic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4343400"/>
            <a:ext cx="23623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3200400"/>
            <a:ext cx="3200400" cy="3419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562720" y="4343400"/>
            <a:ext cx="3286080" cy="2057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715000" y="198108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a Ciudad de Guatem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19320" y="304920"/>
            <a:ext cx="5105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Guatemal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276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uatemalte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4343400"/>
            <a:ext cx="32763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4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4017960"/>
            <a:ext cx="4876560" cy="2463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248520" y="4343400"/>
            <a:ext cx="2666880" cy="1600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600200" y="2666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 Salv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19320" y="304920"/>
            <a:ext cx="5105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El Salvad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17" name=""/>
          <p:cNvSpPr/>
          <p:nvPr/>
        </p:nvSpPr>
        <p:spPr>
          <a:xfrm>
            <a:off x="5257800" y="2666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lvador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4343400"/>
            <a:ext cx="26668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71600" y="2971800"/>
            <a:ext cx="3343320" cy="3591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257800" y="3886200"/>
            <a:ext cx="3505320" cy="2057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34120" y="18590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egucigal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219320" y="304920"/>
            <a:ext cx="4267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Hondur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5" name=""/>
          <p:cNvSpPr/>
          <p:nvPr/>
        </p:nvSpPr>
        <p:spPr>
          <a:xfrm>
            <a:off x="5334120" y="28494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ondur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3886200"/>
            <a:ext cx="35053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4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2971800"/>
            <a:ext cx="3343320" cy="3591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257800" y="3962520"/>
            <a:ext cx="3448080" cy="2066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10080" y="18288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an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219320" y="304920"/>
            <a:ext cx="4267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Nicaragu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277344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icaragu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3962520"/>
            <a:ext cx="34290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4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71600" y="2971800"/>
            <a:ext cx="3343320" cy="3591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5562720" y="4038480"/>
            <a:ext cx="3124080" cy="2057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562720" y="2057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 Jos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19320" y="3049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Costa R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2925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staric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62720" y="4038480"/>
            <a:ext cx="3124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18:28:07Z</dcterms:created>
  <dc:creator>Matt Hamlyn</dc:creator>
  <dc:description/>
  <dc:language>en-US</dc:language>
  <cp:lastModifiedBy>CSeccombe</cp:lastModifiedBy>
  <dcterms:modified xsi:type="dcterms:W3CDTF">2005-04-05T12:31:30Z</dcterms:modified>
  <cp:revision>32</cp:revision>
  <dc:subject/>
  <dc:title>No Slide Title</dc:title>
</cp:coreProperties>
</file>