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7.png" ContentType="image/png"/>
  <Override PartName="/ppt/media/image12.wmf" ContentType="image/x-wmf"/>
  <Override PartName="/ppt/media/image28.jpeg" ContentType="image/jpeg"/>
  <Override PartName="/ppt/media/image11.jpeg" ContentType="image/jpeg"/>
  <Override PartName="/ppt/media/image9.jpeg" ContentType="image/jpeg"/>
  <Override PartName="/ppt/media/image25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31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3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0.wmf" ContentType="image/x-wmf"/>
  <Override PartName="/ppt/media/image14.gif" ContentType="image/gif"/>
  <Override PartName="/ppt/media/image20.wmf" ContentType="image/x-wmf"/>
  <Override PartName="/ppt/media/image17.png" ContentType="image/png"/>
  <Override PartName="/ppt/media/image22.gif" ContentType="image/gif"/>
  <Override PartName="/ppt/media/image15.png" ContentType="image/png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434-14EA-4F83-AF14-D0ED281874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4013-7645-4875-A5AC-EDE34991D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E566-EE83-47E6-A265-E2B44FD41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AD6A-66F5-40F1-A01A-DFBB8BAD1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1EA-2696-474A-A396-703BD094C8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1E8-F2B6-403D-896F-E088769A70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F9B2-BA05-4339-A4FC-B1BB5DC053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0A8-1131-4DA2-B2BE-352AFC4A1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1A38-27C2-430A-AEEA-E830AACA43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E87-0535-4AA8-8F62-0CF8364430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791-8BE8-4B47-81FA-AD438335C8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2B7-B4D6-4F8C-8AF9-AE71CC14E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4DE5-0E01-484A-9FB3-641ECAE03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242-7BDE-45E8-98DA-F643CCE4E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A15-2526-4F5E-9007-9F07C40EB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D249-CC01-4C0E-85B4-D1D554AFA0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3E7-CB8F-4B53-B066-6BFC65703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D22-C258-4176-87D7-031D5561C6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124-6485-457F-A5C8-B1E6D4565F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B3E-C00A-4E52-A9B4-4602151537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D23-3AFE-4F76-9467-F90A2F482D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D27-0E67-46B4-9D4C-50EC840EEB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0DA-2909-4BAA-95CC-1F1C6E3A0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2453-50C3-46CB-BDC7-A52E08E69A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4CD1-666B-4251-A5A5-24A7619427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C7A-D20F-4A02-A093-FED12515B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0303-19E2-413D-AD1D-EBD9CCBD2F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D7FE-BA04-487E-B77B-17EAF055F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4452-6FA8-416B-B22A-B62C27A87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AB1-FA79-46CA-ABC1-9727813BC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445-151C-4B3B-9491-0F4422F18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F71-A216-429B-A448-A625347512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92D-0AD1-4972-AE76-919872F76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518-562D-4F8A-AFCD-C40D3A024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A632-80B2-4EAB-B00D-4C38257C6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56F-9679-42C1-A40B-11A0123DE1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FD9-34AB-4BF9-9CE0-D1550E27AD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382-5B8C-4437-8164-3B1738D419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64F-CE05-4EE2-9238-3C4878AD8E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7C6-0B19-4483-8A1E-2355BD9704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1E88-0271-4056-AF77-01A4C95FD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24AA-2C0E-47A9-BE42-602B71EAE3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4ED-788E-4BAE-8E5F-917D316823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86E-5447-4AE7-9449-7F94A49DC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174-0F97-4A00-9E87-AB935EC662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3BB3-40E1-40D0-9B65-65511AE51A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0B89-15DD-445F-907D-E9AFE6C49C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E6DB-2CF9-433E-A2EC-1BE4026D7B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BD8-A4A3-4AE5-AD06-CBF11C2FD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F71-2C5D-46B1-8232-1EAE0B46B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389-FFDE-4ED6-BD24-EE0E10573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8E1-1AA9-4623-85DA-8CE2B24496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877-19BD-4B0A-8F9A-8E676FF4A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609-FC10-481B-B4EF-B234F9CC4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66A4-E5D6-45CE-80C8-BA55048E7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AE4-24E5-4429-8363-03A7E46140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0E0B-2329-4241-B45B-5C582A1B80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851-8F55-4BA8-9201-DFFF6F12C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500-1525-413E-8194-9FBBCFAE36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FC1-BD30-4026-BDA1-BEBB36C74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145-CF6A-41B1-97DD-9F6200FDC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6D9-F340-4422-B8C5-C7D1B76E27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637-6748-42A9-B532-26493F2C2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714-6AAC-4FB0-AD5D-806F7400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241-BDBC-4AA2-B4EE-395CDC1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179-B631-42D5-97DC-00FF6ED1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963-7FE2-4FF7-A392-A7D4E51C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58F-77A8-4E2C-B5F2-1E31D3C0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A49-55D9-4105-8C2C-07DEF6E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331-47D8-41B0-8FA5-D923864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E8D-423F-49D9-AAFF-0207755C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A83-09C5-4C33-8192-B227B11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F99-A8C4-44CD-A7BC-DB6D04E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F9E-275F-4E17-ADF1-115D0A6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55C-110B-4970-898B-804BA30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41E-9037-4F45-A03C-38BD78DF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9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8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6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6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jpe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3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8.wmf"/><Relationship Id="rId9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jpe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sa.gov.uk/consumer/bytes/images/mod02/im_washing_up.gif&amp;imgrefurl=http://www.fsa.gov.uk/consumer/bytes/mod02/ct_top05_02.html&amp;h=144&amp;w=144&amp;sz=6&amp;tbnid=0CLNaxaZ2pTSRM:&amp;tbnh=89&amp;tbnw=89&amp;hl=en&amp;start=1&amp;prev=/images%3Fq%3Dwashing%2Bup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warburtons.co.uk/images/education/icon_washing_up.jpg&amp;imgrefurl=http://www.warburtons.co.uk/education/health_safety/&amp;h=200&amp;w=200&amp;sz=13&amp;tbnid=iZYmu1wz4mMSfM:&amp;tbnh=99&amp;tbnw=99&amp;hl=en&amp;start=2&amp;prev=/images%3Fq%3Dwashing%2Bup%26svnum%3D10%26hl%3Den%26lr%3D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3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jpe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hyperlink" Target="http://images.google.co.uk/imgres?imgurl=http://www.gippeswic.demon.co.uk/dustbin.gif&amp;imgrefurl=http://www.gippeswic.demon.co.uk/Gt%2520Yeldham.html&amp;h=799&amp;w=630&amp;sz=42&amp;tbnid=yj0UW5UBVzQfUM:&amp;tbnh=142&amp;tbnw=111&amp;hl=en&amp;start=8&amp;prev=/images%3Fq%3Ddustbin%26svnum%3D10%26hl%3Den%26lr%3D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gif"/><Relationship Id="rId14" Type="http://schemas.openxmlformats.org/officeDocument/2006/relationships/image" Target="../media/image23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6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3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8.wmf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6.jpeg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3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8.wmf"/><Relationship Id="rId10" Type="http://schemas.openxmlformats.org/officeDocument/2006/relationships/image" Target="../media/image21.jpeg"/><Relationship Id="rId11" Type="http://schemas.openxmlformats.org/officeDocument/2006/relationships/image" Target="../media/image22.gif"/><Relationship Id="rId12" Type="http://schemas.openxmlformats.org/officeDocument/2006/relationships/image" Target="../media/image23.jpe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ible.ca/marriage/man-ironing-housework.jpg&amp;imgrefurl=http://www.bible.ca/marriage/marriage-myths-roles-husbands-wifes.htm&amp;h=189&amp;w=175&amp;sz=15&amp;tbnid=hqpiqcSIUDdzvM:&amp;tbnh=97&amp;tbnw=89&amp;hl=en&amp;start=6&amp;prev=/images%3Fq%3Dhousework%26svnum%3D10%26hl%3Den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24000" y="2133720"/>
            <a:ext cx="820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cogn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ch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a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 th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s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ta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630864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453360"/>
            <a:ext cx="85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Light Bulb Languages/SBell 2014 http://www.lightboxlanguages.co.u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468360" y="2205000"/>
            <a:ext cx="3490920" cy="34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11640" y="2421000"/>
            <a:ext cx="453708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as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la aspir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netanimations.net/Animated-dancing-red-question-mark-picture-moving.gif"/>
          <p:cNvPicPr/>
          <p:nvPr/>
        </p:nvPicPr>
        <p:blipFill>
          <a:blip r:embed="rId6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203640" y="2421000"/>
            <a:ext cx="52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468360" y="2205000"/>
            <a:ext cx="3490920" cy="34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4211640" y="2421000"/>
            <a:ext cx="453708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aso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la aspir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quito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netanimations.net/Animated-dancing-red-question-mark-picture-moving.gif"/>
          <p:cNvPicPr/>
          <p:nvPr/>
        </p:nvPicPr>
        <p:blipFill>
          <a:blip r:embed="rId6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os pl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059280" y="2349360"/>
            <a:ext cx="52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lavo los pla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multimenage.webs.com/dusting.jpg"/>
          <p:cNvPicPr/>
          <p:nvPr/>
        </p:nvPicPr>
        <p:blipFill>
          <a:blip r:embed="rId6"/>
          <a:stretch/>
        </p:blipFill>
        <p:spPr>
          <a:xfrm>
            <a:off x="-252360" y="2205000"/>
            <a:ext cx="4016160" cy="30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0" y="2492280"/>
            <a:ext cx="528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lancho la ro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oc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ttp://multimenage.webs.com/dusting.jpg"/>
          <p:cNvPicPr/>
          <p:nvPr/>
        </p:nvPicPr>
        <p:blipFill>
          <a:blip r:embed="rId6"/>
          <a:stretch/>
        </p:blipFill>
        <p:spPr>
          <a:xfrm>
            <a:off x="-252360" y="2205000"/>
            <a:ext cx="4016160" cy="30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Program Files\Microsoft Office\Clipart\standard\stddir3\HH01751_.wmf"/>
          <p:cNvPicPr/>
          <p:nvPr/>
        </p:nvPicPr>
        <p:blipFill>
          <a:blip r:embed="rId1"/>
          <a:stretch/>
        </p:blipFill>
        <p:spPr>
          <a:xfrm>
            <a:off x="152280" y="228600"/>
            <a:ext cx="2971800" cy="1951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2268360" y="3284640"/>
            <a:ext cx="655164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1600200" y="2514240"/>
            <a:ext cx="0" cy="34290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995640" y="54936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ogram Files\Microsoft Office\Clipart\standard\stddir3\HH01751_.wmf"/>
          <p:cNvPicPr/>
          <p:nvPr/>
        </p:nvPicPr>
        <p:blipFill>
          <a:blip r:embed="rId1"/>
          <a:stretch/>
        </p:blipFill>
        <p:spPr>
          <a:xfrm>
            <a:off x="611280" y="4149720"/>
            <a:ext cx="2895480" cy="190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187280" y="1143000"/>
            <a:ext cx="65534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http://www.englishexercises.org/makeagame/my_documents/my_pictures/2010/jul/clear_the_table.GIF"/>
          <p:cNvPicPr/>
          <p:nvPr/>
        </p:nvPicPr>
        <p:blipFill>
          <a:blip r:embed="rId2"/>
          <a:stretch/>
        </p:blipFill>
        <p:spPr>
          <a:xfrm>
            <a:off x="5796000" y="2924280"/>
            <a:ext cx="2755800" cy="341316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6"/>
          <p:cNvSpPr/>
          <p:nvPr/>
        </p:nvSpPr>
        <p:spPr>
          <a:xfrm>
            <a:off x="611280" y="3716280"/>
            <a:ext cx="3097080" cy="252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7"/>
          <p:cNvSpPr/>
          <p:nvPr/>
        </p:nvSpPr>
        <p:spPr>
          <a:xfrm flipV="1">
            <a:off x="468360" y="3645000"/>
            <a:ext cx="2735280" cy="25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492360" y="620640"/>
            <a:ext cx="1150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Program Files\Microsoft Office\Clipart\standard\stddir3\HH00874_.wmf"/>
          <p:cNvPicPr/>
          <p:nvPr/>
        </p:nvPicPr>
        <p:blipFill>
          <a:blip r:embed="rId1"/>
          <a:stretch/>
        </p:blipFill>
        <p:spPr>
          <a:xfrm>
            <a:off x="304920" y="228600"/>
            <a:ext cx="320040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19280" y="2852640"/>
            <a:ext cx="6624720" cy="21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:\Program Files\Microsoft Office\Clipart\standard\stddir3\HH01228_.wmf"/>
          <p:cNvPicPr/>
          <p:nvPr/>
        </p:nvPicPr>
        <p:blipFill>
          <a:blip r:embed="rId2"/>
          <a:stretch/>
        </p:blipFill>
        <p:spPr>
          <a:xfrm>
            <a:off x="0" y="2590920"/>
            <a:ext cx="2971800" cy="2768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Program Files\Microsoft Office\Clipart\standard\stddir3\HH00804_.wmf"/>
          <p:cNvPicPr/>
          <p:nvPr/>
        </p:nvPicPr>
        <p:blipFill>
          <a:blip r:embed="rId3"/>
          <a:stretch/>
        </p:blipFill>
        <p:spPr>
          <a:xfrm>
            <a:off x="1143000" y="4952880"/>
            <a:ext cx="27432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3995640" y="47628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dustb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3000"/>
            <a:ext cx="3546720" cy="4537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3886200" y="1143000"/>
            <a:ext cx="356544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Saco la basu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067280" y="549360"/>
            <a:ext cx="1225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95320" y="1071720"/>
            <a:ext cx="7353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3419640" y="1341360"/>
            <a:ext cx="5522760" cy="4564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79280" y="836640"/>
            <a:ext cx="3384720" cy="33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el coc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50920" y="333360"/>
            <a:ext cx="93636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4869000"/>
            <a:ext cx="843588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www.hangerworld.co.uk/images/uploads/General%20Site%20Images/vacuuming%20bedroom.jpg"/>
          <p:cNvPicPr/>
          <p:nvPr/>
        </p:nvPicPr>
        <p:blipFill>
          <a:blip r:embed="rId1"/>
          <a:stretch/>
        </p:blipFill>
        <p:spPr>
          <a:xfrm>
            <a:off x="900000" y="404640"/>
            <a:ext cx="3819600" cy="40579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468360" y="6021360"/>
            <a:ext cx="1366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reg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Program Files\Microsoft Office\Clipart\standard\stddir4\PE02699_.wmf"/>
          <p:cNvPicPr/>
          <p:nvPr/>
        </p:nvPicPr>
        <p:blipFill>
          <a:blip r:embed="rId1"/>
          <a:stretch/>
        </p:blipFill>
        <p:spPr>
          <a:xfrm>
            <a:off x="395280" y="2746440"/>
            <a:ext cx="3114720" cy="3267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187280" y="1068480"/>
            <a:ext cx="763272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Hago de cangur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http://idaniswriting.files.wordpress.com/2011/03/find_a_babysitter_job.gif"/>
          <p:cNvPicPr/>
          <p:nvPr/>
        </p:nvPicPr>
        <p:blipFill>
          <a:blip r:embed="rId2"/>
          <a:stretch/>
        </p:blipFill>
        <p:spPr>
          <a:xfrm>
            <a:off x="4788000" y="2276640"/>
            <a:ext cx="3995640" cy="4206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627280" y="333360"/>
            <a:ext cx="1081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de cang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co la bas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Program Files\Microsoft Office\Clipart\standard\stddir3\HH00874_.wmf"/>
          <p:cNvPicPr/>
          <p:nvPr/>
        </p:nvPicPr>
        <p:blipFill>
          <a:blip r:embed="rId6"/>
          <a:stretch/>
        </p:blipFill>
        <p:spPr>
          <a:xfrm>
            <a:off x="395280" y="2349360"/>
            <a:ext cx="35402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0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203640" y="2492280"/>
            <a:ext cx="528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hago cang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aco la bas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go las c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Program Files\Microsoft Office\Clipart\standard\stddir3\HH00874_.wmf"/>
          <p:cNvPicPr/>
          <p:nvPr/>
        </p:nvPicPr>
        <p:blipFill>
          <a:blip r:embed="rId6"/>
          <a:stretch/>
        </p:blipFill>
        <p:spPr>
          <a:xfrm>
            <a:off x="395280" y="2349360"/>
            <a:ext cx="3540240" cy="300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o el co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324000" y="2421000"/>
            <a:ext cx="3600360" cy="28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Straight Connector 14"/>
          <p:cNvSpPr/>
          <p:nvPr/>
        </p:nvSpPr>
        <p:spPr>
          <a:xfrm>
            <a:off x="539640" y="2565360"/>
            <a:ext cx="309564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15"/>
          <p:cNvSpPr/>
          <p:nvPr/>
        </p:nvSpPr>
        <p:spPr>
          <a:xfrm flipV="1">
            <a:off x="395280" y="2565360"/>
            <a:ext cx="338472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348000" y="2492280"/>
            <a:ext cx="52704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4211640" y="2421000"/>
            <a:ext cx="453708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uit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lavo el co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324000" y="2421000"/>
            <a:ext cx="3600360" cy="283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Straight Connector 14"/>
          <p:cNvSpPr/>
          <p:nvPr/>
        </p:nvSpPr>
        <p:spPr>
          <a:xfrm>
            <a:off x="539640" y="2565360"/>
            <a:ext cx="309564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15"/>
          <p:cNvSpPr/>
          <p:nvPr/>
        </p:nvSpPr>
        <p:spPr>
          <a:xfrm flipV="1">
            <a:off x="395280" y="2565360"/>
            <a:ext cx="338472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348000" y="2492280"/>
            <a:ext cx="52704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211640" y="2421000"/>
            <a:ext cx="4608360" cy="271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aco la bas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4476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http://www.netanimations.net/Animated-gif-spinning-question-mark-picture-moving.gif"/>
          <p:cNvPicPr/>
          <p:nvPr/>
        </p:nvPicPr>
        <p:blipFill>
          <a:blip r:embed="rId7"/>
          <a:stretch/>
        </p:blipFill>
        <p:spPr>
          <a:xfrm>
            <a:off x="3132000" y="2349360"/>
            <a:ext cx="527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11640" y="2421000"/>
            <a:ext cx="4608360" cy="271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aco la bas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ngo la m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rreglo mi dorm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4476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324000" y="213372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and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6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,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-396720" y="3500280"/>
            <a:ext cx="102978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Program Files\Microsoft Office\Clipart\standard\stddir3\IN01082_.WMF"/>
          <p:cNvPicPr/>
          <p:nvPr/>
        </p:nvPicPr>
        <p:blipFill>
          <a:blip r:embed="rId1"/>
          <a:stretch/>
        </p:blipFill>
        <p:spPr>
          <a:xfrm>
            <a:off x="762120" y="3124080"/>
            <a:ext cx="2886120" cy="289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Program Files\Microsoft Office\Clipart\standard\stddir1\BD06921_.WMF"/>
          <p:cNvPicPr/>
          <p:nvPr/>
        </p:nvPicPr>
        <p:blipFill>
          <a:blip r:embed="rId2"/>
          <a:stretch/>
        </p:blipFill>
        <p:spPr>
          <a:xfrm>
            <a:off x="3657600" y="2133720"/>
            <a:ext cx="5486400" cy="3789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68360" y="189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www.hangerworld.co.uk/images/uploads/General%20Site%20Images/vacuuming%20bedroom.jpg"/>
          <p:cNvPicPr/>
          <p:nvPr/>
        </p:nvPicPr>
        <p:blipFill>
          <a:blip r:embed="rId6"/>
          <a:stretch/>
        </p:blipFill>
        <p:spPr>
          <a:xfrm>
            <a:off x="468360" y="2205000"/>
            <a:ext cx="33876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a  rregl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 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 ormitori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932360" y="2205000"/>
            <a:ext cx="3816360" cy="3672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19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v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  o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4788000" y="2060640"/>
            <a:ext cx="3816360" cy="3672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C:\Program Files\Microsoft Office\Clipart\standard\stddir3\HH01314_.wmf"/>
          <p:cNvPicPr/>
          <p:nvPr/>
        </p:nvPicPr>
        <p:blipFill>
          <a:blip r:embed="rId6"/>
          <a:stretch/>
        </p:blipFill>
        <p:spPr>
          <a:xfrm>
            <a:off x="468360" y="2060640"/>
            <a:ext cx="3471840" cy="37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19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H  ag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 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  angu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822920" y="2408400"/>
            <a:ext cx="3816360" cy="3152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http://idaniswriting.files.wordpress.com/2011/03/find_a_babysitter_job.gif"/>
          <p:cNvPicPr/>
          <p:nvPr/>
        </p:nvPicPr>
        <p:blipFill>
          <a:blip r:embed="rId6"/>
          <a:stretch/>
        </p:blipFill>
        <p:spPr>
          <a:xfrm>
            <a:off x="46080" y="2133720"/>
            <a:ext cx="36259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20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-1189080" y="-316080"/>
            <a:ext cx="12025440" cy="8137800"/>
          </a:xfrm>
          <a:prstGeom prst="rect">
            <a:avLst/>
          </a:prstGeom>
          <a:solidFill>
            <a:srgbClr val="7030a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http://www.netanimations.net/Animated-dancing-red-question-mark-picture-moving.gif"/>
          <p:cNvPicPr/>
          <p:nvPr/>
        </p:nvPicPr>
        <p:blipFill>
          <a:blip r:embed="rId1"/>
          <a:stretch/>
        </p:blipFill>
        <p:spPr>
          <a:xfrm>
            <a:off x="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www.netanimations.net/Animated-dancing-red-question-mark-picture-moving.gif"/>
          <p:cNvPicPr/>
          <p:nvPr/>
        </p:nvPicPr>
        <p:blipFill>
          <a:blip r:embed="rId2"/>
          <a:stretch/>
        </p:blipFill>
        <p:spPr>
          <a:xfrm rot="10800000">
            <a:off x="154728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netanimations.net/Animated-dancing-red-question-mark-picture-moving.gif"/>
          <p:cNvPicPr/>
          <p:nvPr/>
        </p:nvPicPr>
        <p:blipFill>
          <a:blip r:embed="rId3"/>
          <a:stretch/>
        </p:blipFill>
        <p:spPr>
          <a:xfrm>
            <a:off x="3780000" y="-458640"/>
            <a:ext cx="1724040" cy="2114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www.netanimations.net/Animated-dancing-red-question-mark-picture-moving.gif"/>
          <p:cNvPicPr/>
          <p:nvPr/>
        </p:nvPicPr>
        <p:blipFill>
          <a:blip r:embed="rId4"/>
          <a:stretch/>
        </p:blipFill>
        <p:spPr>
          <a:xfrm rot="10800000">
            <a:off x="5579640" y="0"/>
            <a:ext cx="172404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netanimations.net/Animated-dancing-red-question-mark-picture-moving.gif"/>
          <p:cNvPicPr/>
          <p:nvPr/>
        </p:nvPicPr>
        <p:blipFill>
          <a:blip r:embed="rId5"/>
          <a:stretch/>
        </p:blipFill>
        <p:spPr>
          <a:xfrm>
            <a:off x="7740720" y="-458640"/>
            <a:ext cx="1724040" cy="21142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3995640" y="242100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av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  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  lat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716360" y="2276640"/>
            <a:ext cx="3816360" cy="33130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http://images.mylot.com/userImages/images/postphotos/1329122.jpg"/>
          <p:cNvPicPr/>
          <p:nvPr/>
        </p:nvPicPr>
        <p:blipFill>
          <a:blip r:embed="rId6"/>
          <a:stretch/>
        </p:blipFill>
        <p:spPr>
          <a:xfrm>
            <a:off x="324000" y="2205000"/>
            <a:ext cx="3379680" cy="31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9158E-006 L 0.01181 1.50173 E">
                                      <p:cBhvr>
                                        <p:cTn id="20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http://multimenage.webs.com/dusting.jpg"/>
          <p:cNvPicPr/>
          <p:nvPr/>
        </p:nvPicPr>
        <p:blipFill>
          <a:blip r:embed="rId2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Program Files\Microsoft Office\Clipart\standard\stddir3\HH01314_.wmf"/>
          <p:cNvPicPr/>
          <p:nvPr/>
        </p:nvPicPr>
        <p:blipFill>
          <a:blip r:embed="rId3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www.jamberry.co.uk/training/images/team_building_with_cooking.jpg"/>
          <p:cNvPicPr/>
          <p:nvPr/>
        </p:nvPicPr>
        <p:blipFill>
          <a:blip r:embed="rId4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26" descr="C:\Program Files\Microsoft Office\Clipart\standard\stddir3\IN01082_.WMF"/>
          <p:cNvPicPr/>
          <p:nvPr/>
        </p:nvPicPr>
        <p:blipFill>
          <a:blip r:embed="rId5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Program Files\Microsoft Office\Clipart\standard\stddir3\HH01751_.wmf"/>
          <p:cNvPicPr/>
          <p:nvPr/>
        </p:nvPicPr>
        <p:blipFill>
          <a:blip r:embed="rId6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284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C:\Program Files\Microsoft Office\Clipart\standard\stddir3\HH00874_.wmf"/>
          <p:cNvPicPr/>
          <p:nvPr/>
        </p:nvPicPr>
        <p:blipFill>
          <a:blip r:embed="rId8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dustbi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00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31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46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dustb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http://www.timeouthut.com/images/carwash.gif"/>
          <p:cNvPicPr/>
          <p:nvPr/>
        </p:nvPicPr>
        <p:blipFill>
          <a:blip r:embed="rId12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http://www.hangerworld.co.uk/images/uploads/General%20Site%20Images/vacuuming%20bedroom.jpg"/>
          <p:cNvPicPr/>
          <p:nvPr/>
        </p:nvPicPr>
        <p:blipFill>
          <a:blip r:embed="rId13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://idaniswriting.files.wordpress.com/2011/03/find_a_babysitter_job.gif"/>
          <p:cNvPicPr/>
          <p:nvPr/>
        </p:nvPicPr>
        <p:blipFill>
          <a:blip r:embed="rId14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_washing_u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icon_washing_u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0"/>
            <a:ext cx="316692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95280" y="692280"/>
            <a:ext cx="680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los plat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ww.supernatural.ie/wp-content/uploads/2011/03/washing_dishes.jpg"/>
          <p:cNvPicPr/>
          <p:nvPr/>
        </p:nvPicPr>
        <p:blipFill>
          <a:blip r:embed="rId5"/>
          <a:stretch/>
        </p:blipFill>
        <p:spPr>
          <a:xfrm>
            <a:off x="5508720" y="4076640"/>
            <a:ext cx="3049560" cy="234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images.mylot.com/userImages/images/postphotos/1329122.jpg"/>
          <p:cNvPicPr/>
          <p:nvPr/>
        </p:nvPicPr>
        <p:blipFill>
          <a:blip r:embed="rId6"/>
          <a:stretch/>
        </p:blipFill>
        <p:spPr>
          <a:xfrm>
            <a:off x="2571840" y="3789360"/>
            <a:ext cx="2738520" cy="253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68360" y="2060640"/>
            <a:ext cx="93492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62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26" descr="C:\Program Files\Microsoft Office\Clipart\standard\stddir3\IN01082_.WMF"/>
          <p:cNvPicPr/>
          <p:nvPr/>
        </p:nvPicPr>
        <p:blipFill>
          <a:blip r:embed="rId6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77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dustb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www.timeouthut.com/images/carwash.gif"/>
          <p:cNvPicPr/>
          <p:nvPr/>
        </p:nvPicPr>
        <p:blipFill>
          <a:blip r:embed="rId12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hangerworld.co.uk/images/uploads/General%20Site%20Images/vacuuming%20bedroom.jpg"/>
          <p:cNvPicPr/>
          <p:nvPr/>
        </p:nvPicPr>
        <p:blipFill>
          <a:blip r:embed="rId13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idaniswriting.files.wordpress.com/2011/03/find_a_babysitter_job.gif"/>
          <p:cNvPicPr/>
          <p:nvPr/>
        </p:nvPicPr>
        <p:blipFill>
          <a:blip r:embed="rId14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ustbi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timeouthut.com/images/carwash.gif"/>
          <p:cNvPicPr/>
          <p:nvPr/>
        </p:nvPicPr>
        <p:blipFill>
          <a:blip r:embed="rId13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ttp://www.hangerworld.co.uk/images/uploads/General%20Site%20Images/vacuuming%20bedroom.jpg"/>
          <p:cNvPicPr/>
          <p:nvPr/>
        </p:nvPicPr>
        <p:blipFill>
          <a:blip r:embed="rId14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://idaniswriting.files.wordpress.com/2011/03/find_a_babysitter_job.gif"/>
          <p:cNvPicPr/>
          <p:nvPr/>
        </p:nvPicPr>
        <p:blipFill>
          <a:blip r:embed="rId15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26" descr="man-ironing-housewor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ttp://multimenage.webs.com/dusting.jpg"/>
          <p:cNvPicPr/>
          <p:nvPr/>
        </p:nvPicPr>
        <p:blipFill>
          <a:blip r:embed="rId4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Program Files\Microsoft Office\Clipart\standard\stddir3\HH01314_.wmf"/>
          <p:cNvPicPr/>
          <p:nvPr/>
        </p:nvPicPr>
        <p:blipFill>
          <a:blip r:embed="rId5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http://www.jamberry.co.uk/training/images/team_building_with_cooking.jpg"/>
          <p:cNvPicPr/>
          <p:nvPr/>
        </p:nvPicPr>
        <p:blipFill>
          <a:blip r:embed="rId6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26" descr="C:\Program Files\Microsoft Office\Clipart\standard\stddir3\IN01082_.WMF"/>
          <p:cNvPicPr/>
          <p:nvPr/>
        </p:nvPicPr>
        <p:blipFill>
          <a:blip r:embed="rId7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Program Files\Microsoft Office\Clipart\standard\stddir3\HH01751_.wmf"/>
          <p:cNvPicPr/>
          <p:nvPr/>
        </p:nvPicPr>
        <p:blipFill>
          <a:blip r:embed="rId9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2" descr="C:\Program Files\Microsoft Office\Clipart\standard\stddir3\HH00874_.wmf"/>
          <p:cNvPicPr/>
          <p:nvPr/>
        </p:nvPicPr>
        <p:blipFill>
          <a:blip r:embed="rId10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" descr="http://images.mylot.com/userImages/images/postphotos/1329122.jpg"/>
          <p:cNvPicPr/>
          <p:nvPr/>
        </p:nvPicPr>
        <p:blipFill>
          <a:blip r:embed="rId1"/>
          <a:stretch/>
        </p:blipFill>
        <p:spPr>
          <a:xfrm>
            <a:off x="0" y="476280"/>
            <a:ext cx="1708200" cy="1584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26" descr="man-ironing-housework"/>
          <p:cNvPicPr/>
          <p:nvPr/>
        </p:nvPicPr>
        <p:blipFill>
          <a:blip r:embed="rId2"/>
          <a:stretch/>
        </p:blipFill>
        <p:spPr>
          <a:xfrm>
            <a:off x="1979640" y="404640"/>
            <a:ext cx="1454040" cy="158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http://multimenage.webs.com/dusting.jpg"/>
          <p:cNvPicPr/>
          <p:nvPr/>
        </p:nvPicPr>
        <p:blipFill>
          <a:blip r:embed="rId3"/>
          <a:stretch/>
        </p:blipFill>
        <p:spPr>
          <a:xfrm>
            <a:off x="3924360" y="54936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Program Files\Microsoft Office\Clipart\standard\stddir3\HH01314_.wmf"/>
          <p:cNvPicPr/>
          <p:nvPr/>
        </p:nvPicPr>
        <p:blipFill>
          <a:blip r:embed="rId4"/>
          <a:stretch/>
        </p:blipFill>
        <p:spPr>
          <a:xfrm>
            <a:off x="6084720" y="476280"/>
            <a:ext cx="1293840" cy="1413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www.jamberry.co.uk/training/images/team_building_with_cooking.jpg"/>
          <p:cNvPicPr/>
          <p:nvPr/>
        </p:nvPicPr>
        <p:blipFill>
          <a:blip r:embed="rId5"/>
          <a:stretch/>
        </p:blipFill>
        <p:spPr>
          <a:xfrm>
            <a:off x="0" y="2565360"/>
            <a:ext cx="1835280" cy="18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26" descr="C:\Program Files\Microsoft Office\Clipart\standard\stddir3\IN01082_.WMF"/>
          <p:cNvPicPr/>
          <p:nvPr/>
        </p:nvPicPr>
        <p:blipFill>
          <a:blip r:embed="rId6"/>
          <a:stretch/>
        </p:blipFill>
        <p:spPr>
          <a:xfrm>
            <a:off x="2195640" y="2637000"/>
            <a:ext cx="1704960" cy="1711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Program Files\Microsoft Office\Clipart\standard\stddir3\HH01751_.wmf"/>
          <p:cNvPicPr/>
          <p:nvPr/>
        </p:nvPicPr>
        <p:blipFill>
          <a:blip r:embed="rId7"/>
          <a:stretch/>
        </p:blipFill>
        <p:spPr>
          <a:xfrm>
            <a:off x="4427640" y="2781360"/>
            <a:ext cx="208440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Program Files\Microsoft Office\Clipart\standard\stddir3\HH01751_.wmf"/>
          <p:cNvPicPr/>
          <p:nvPr/>
        </p:nvPicPr>
        <p:blipFill>
          <a:blip r:embed="rId8"/>
          <a:stretch/>
        </p:blipFill>
        <p:spPr>
          <a:xfrm>
            <a:off x="6804000" y="2781360"/>
            <a:ext cx="2124000" cy="139392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9"/>
          <p:cNvSpPr/>
          <p:nvPr/>
        </p:nvSpPr>
        <p:spPr>
          <a:xfrm>
            <a:off x="6875640" y="2708280"/>
            <a:ext cx="201744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traight Connector 12"/>
          <p:cNvSpPr/>
          <p:nvPr/>
        </p:nvSpPr>
        <p:spPr>
          <a:xfrm flipV="1">
            <a:off x="6875640" y="2708280"/>
            <a:ext cx="2017440" cy="1225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" descr="C:\Program Files\Microsoft Office\Clipart\standard\stddir3\HH00874_.wmf"/>
          <p:cNvPicPr/>
          <p:nvPr/>
        </p:nvPicPr>
        <p:blipFill>
          <a:blip r:embed="rId9"/>
          <a:stretch/>
        </p:blipFill>
        <p:spPr>
          <a:xfrm>
            <a:off x="611280" y="4869000"/>
            <a:ext cx="1863720" cy="158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dustbin"/>
          <p:cNvPicPr/>
          <p:nvPr/>
        </p:nvPicPr>
        <p:blipFill>
          <a:blip r:embed="rId10"/>
          <a:stretch/>
        </p:blipFill>
        <p:spPr>
          <a:xfrm>
            <a:off x="3059280" y="4941720"/>
            <a:ext cx="1215720" cy="1554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ttp://www.timeouthut.com/images/carwash.gif"/>
          <p:cNvPicPr/>
          <p:nvPr/>
        </p:nvPicPr>
        <p:blipFill>
          <a:blip r:embed="rId11"/>
          <a:stretch/>
        </p:blipFill>
        <p:spPr>
          <a:xfrm>
            <a:off x="4643280" y="4941720"/>
            <a:ext cx="1863720" cy="1540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http://www.hangerworld.co.uk/images/uploads/General%20Site%20Images/vacuuming%20bedroom.jpg"/>
          <p:cNvPicPr/>
          <p:nvPr/>
        </p:nvPicPr>
        <p:blipFill>
          <a:blip r:embed="rId12"/>
          <a:stretch/>
        </p:blipFill>
        <p:spPr>
          <a:xfrm>
            <a:off x="7093080" y="4797360"/>
            <a:ext cx="1582560" cy="1681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idaniswriting.files.wordpress.com/2011/03/find_a_babysitter_job.gif"/>
          <p:cNvPicPr/>
          <p:nvPr/>
        </p:nvPicPr>
        <p:blipFill>
          <a:blip r:embed="rId13"/>
          <a:stretch/>
        </p:blipFill>
        <p:spPr>
          <a:xfrm>
            <a:off x="7667640" y="333360"/>
            <a:ext cx="1476360" cy="15526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19"/>
          <p:cNvSpPr/>
          <p:nvPr/>
        </p:nvSpPr>
        <p:spPr>
          <a:xfrm>
            <a:off x="0" y="0"/>
            <a:ext cx="755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895320" y="1071720"/>
            <a:ext cx="73533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179280" y="4724280"/>
            <a:ext cx="8137800" cy="8654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79280" y="3573360"/>
            <a:ext cx="813780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79280" y="2852640"/>
            <a:ext cx="81378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26920" y="189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¿Cómo ayuda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3" descr="C:\Program Files\Microsoft Office\Clipart\standard\stddir1\BD06921_.WMF"/>
          <p:cNvPicPr/>
          <p:nvPr/>
        </p:nvPicPr>
        <p:blipFill>
          <a:blip r:embed="rId1"/>
          <a:stretch/>
        </p:blipFill>
        <p:spPr>
          <a:xfrm>
            <a:off x="7164360" y="981000"/>
            <a:ext cx="1619280" cy="1117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324000" y="213372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To say what 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o help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4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 and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Men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least 6 th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at home,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oft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o the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ive your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-468360" y="2565360"/>
            <a:ext cx="10296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-396720" y="4653000"/>
            <a:ext cx="1029780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http://www.hangerworld.co.uk/images/uploads/General%20Site%20Images/vacuuming%20bedroom.jpg"/>
          <p:cNvPicPr/>
          <p:nvPr/>
        </p:nvPicPr>
        <p:blipFill>
          <a:blip r:embed="rId1"/>
          <a:stretch/>
        </p:blipFill>
        <p:spPr>
          <a:xfrm>
            <a:off x="-3421080" y="0"/>
            <a:ext cx="3166920" cy="33638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468360" y="692280"/>
            <a:ext cx="4680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todos los dí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4" descr="http://image.shutterstock.com/display_pic_with_logo/149584/149584,1308082775,1/stock-photo--days-of-week-from-monday-to-sunday-in-vintage-wood-letterpress-printing-blocks-isolated-on-white-79236718.jpg"/>
          <p:cNvPicPr/>
          <p:nvPr/>
        </p:nvPicPr>
        <p:blipFill>
          <a:blip r:embed="rId2"/>
          <a:stretch/>
        </p:blipFill>
        <p:spPr>
          <a:xfrm>
            <a:off x="5076720" y="33336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5364000" y="4653000"/>
            <a:ext cx="266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Comic Sans MS"/>
              </a:rPr>
              <a:t>do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veces a la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28767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00000"/>
                </a:solidFill>
                <a:latin typeface="Comic Sans MS"/>
              </a:rPr>
              <a:t>tres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veces a la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317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man-ironing-house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384516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31"/>
          <p:cNvSpPr/>
          <p:nvPr/>
        </p:nvSpPr>
        <p:spPr>
          <a:xfrm>
            <a:off x="2124000" y="404640"/>
            <a:ext cx="7848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lancho la rop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851280" y="1557360"/>
            <a:ext cx="1441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68360" y="692280"/>
            <a:ext cx="4680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mic Sans MS"/>
              </a:rPr>
              <a:t>Los fines de sem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5082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6453360"/>
            <a:ext cx="1116000" cy="404640"/>
          </a:xfrm>
          <a:prstGeom prst="rect">
            <a:avLst/>
          </a:prstGeom>
          <a:solidFill>
            <a:srgbClr val="ff66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0" y="6165720"/>
            <a:ext cx="1116000" cy="28764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5805360"/>
            <a:ext cx="1116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0" y="907920"/>
          <a:ext cx="9144000" cy="4754520"/>
        </p:xfrm>
        <a:graphic>
          <a:graphicData uri="http://schemas.openxmlformats.org/drawingml/2006/table">
            <a:tbl>
              <a:tblPr/>
              <a:tblGrid>
                <a:gridCol w="1954080"/>
                <a:gridCol w="1681200"/>
                <a:gridCol w="2232000"/>
                <a:gridCol w="3276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in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/N   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/N   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ón            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pic>
        <p:nvPicPr>
          <p:cNvPr id="455" name="Picture 2" descr="http://www.aperfectworld.org/clipart/gestures/listen02.gif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836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0" y="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der B Track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0" y="580536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2400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 arreglo mi dormitorio dos veces a la semana. No me gusta ayudar en casa ya que es aburri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rm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, cocino todos los días y lavo los platos.  Creo que es importante ayudar en casa porque mis padres trabajan d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Lo único que me gusta hacer es lavar el coche porque es divertido.  Escucho música mientras lavandolo. Lo lavo una vez a la semana. Nunca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art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– Vivo con mi madre.  Es madre soltera así que siempre ayudo en casa.  Tengo tres hermanas y hago canguro los fines de semana. También, hago las camas y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0"/>
          <p:cNvSpPr/>
          <p:nvPr/>
        </p:nvSpPr>
        <p:spPr>
          <a:xfrm>
            <a:off x="395280" y="6021360"/>
            <a:ext cx="252108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5867280" y="5661000"/>
            <a:ext cx="208944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95280" y="5661000"/>
            <a:ext cx="1152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020000" y="5300640"/>
            <a:ext cx="72072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5867280" y="3500280"/>
            <a:ext cx="1873440" cy="21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7956720" y="1989000"/>
            <a:ext cx="64764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24000" y="2349360"/>
            <a:ext cx="143964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716360" y="1989000"/>
            <a:ext cx="93528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4140360" y="549360"/>
            <a:ext cx="302400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1"/>
          <p:cNvSpPr/>
          <p:nvPr/>
        </p:nvSpPr>
        <p:spPr>
          <a:xfrm>
            <a:off x="32400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 arreglo mi dormitorio dos veces a la semana. No me gusta ayudar en casa ya que es aburri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rm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Para ayudar en casa, cocino todos los días y lavo los platos.  Creo que es importante ayudar en casa porque mis padres trabajan d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Lo único que me gusta hacer es lavar el coche porque es divertido.  Escucho música mientras lavandolo. Lo lavo una vez a la semana. Nunca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art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– Vivo con mi madre.  Es madre soltera así que siempre ayudo en casa.  Tengo tres hermanas y hago canguro los fines de semana. También, hago las camas y paso la aspirador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spe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wast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al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gast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tight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934920" y="1379520"/>
            <a:ext cx="8209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acañ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ac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toco la guitar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6" descr="http://www.timeouthut.com/images/carwash.gif"/>
          <p:cNvPicPr/>
          <p:nvPr/>
        </p:nvPicPr>
        <p:blipFill>
          <a:blip r:embed="rId1"/>
          <a:stretch/>
        </p:blipFill>
        <p:spPr>
          <a:xfrm>
            <a:off x="6732720" y="4437000"/>
            <a:ext cx="1863720" cy="15400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1"/>
          <p:cNvSpPr/>
          <p:nvPr/>
        </p:nvSpPr>
        <p:spPr>
          <a:xfrm>
            <a:off x="971640" y="404640"/>
            <a:ext cx="705636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I get £10 per week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934920" y="1379520"/>
            <a:ext cx="8209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o 10 euro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o 10 libra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recibir 10 libras a la sem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971640" y="404640"/>
            <a:ext cx="70563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I always do the hoover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684360" y="1413000"/>
            <a:ext cx="820872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Nunca paso la aspir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Siempre paso la aspir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Siempre hago las c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755640" y="404640"/>
            <a:ext cx="7920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My parents give me mone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934920" y="1379520"/>
            <a:ext cx="820908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abuelos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padres no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mis padres me dan din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33"/>
          <p:cNvSpPr/>
          <p:nvPr/>
        </p:nvSpPr>
        <p:spPr>
          <a:xfrm>
            <a:off x="539640" y="1143000"/>
            <a:ext cx="81471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Quito el polv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http://multimenage.webs.com/dusting.jpg"/>
          <p:cNvPicPr/>
          <p:nvPr/>
        </p:nvPicPr>
        <p:blipFill>
          <a:blip r:embed="rId1"/>
          <a:stretch/>
        </p:blipFill>
        <p:spPr>
          <a:xfrm>
            <a:off x="971640" y="2492280"/>
            <a:ext cx="5997600" cy="4132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55640" y="549360"/>
            <a:ext cx="122400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Sometimes I cook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2"/>
          <p:cNvSpPr/>
          <p:nvPr/>
        </p:nvSpPr>
        <p:spPr>
          <a:xfrm>
            <a:off x="934920" y="1379520"/>
            <a:ext cx="82090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de vez en cuando coc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 veces coc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me gusta cocin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The only thing I lik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934920" y="1379520"/>
            <a:ext cx="820908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único que no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único que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lo que más me gus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0" y="404640"/>
            <a:ext cx="9144000" cy="779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Helping at home is bor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934920" y="1379520"/>
            <a:ext cx="8209080" cy="65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yudar en casa es aburrid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ayudar en casa es geni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Comic Sans MS"/>
              </a:rPr>
              <a:t>odio ayudar en cas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0" y="4581360"/>
            <a:ext cx="611280" cy="192240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0" y="0"/>
            <a:ext cx="835344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De dónde recibes tu din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uánto dinero recibes cada semana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En qué gastas tu din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ómo ayudas en casa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Con qué frecuencia ayudas en ca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Qué opinas de ayudar en ca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539640" y="404640"/>
            <a:ext cx="8604360" cy="76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Lo recibo de mis padr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Normalmente recibo £20 cada seman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  <a:ea typeface="Tahoma"/>
              </a:rPr>
              <a:t>De vez en cuando, gasto mi dinero en ir al cine.  A veces lo gasto en comprar revistas y maquillaje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  <a:ea typeface="Tahoma"/>
              </a:rPr>
              <a:t>Para ayudar en casa, quito la mesa y lavo los platos .  También, los fines de semana arreglo mi dormitori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  <a:ea typeface="Tahoma"/>
              </a:rPr>
              <a:t>Quito la mesa todos los días. Normalmente yo lavo los platos pero a veces mi hermana me ayu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ahoma"/>
                <a:ea typeface="Tahoma"/>
              </a:rPr>
              <a:t>Creo que es importante ayudar a mis padres aunque a veces es abburido.  Lo que menos me gusta es lavar los platos.  ¡Qué lata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6335640" y="1197000"/>
            <a:ext cx="22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6119640" y="2781360"/>
            <a:ext cx="3024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/future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5"/>
          <p:cNvSpPr/>
          <p:nvPr/>
        </p:nvSpPr>
        <p:spPr>
          <a:xfrm>
            <a:off x="6443640" y="3789360"/>
            <a:ext cx="2232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past ten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Program Files\Microsoft Office\Clipart\standard\stddir3\HH01314_.wmf"/>
          <p:cNvPicPr/>
          <p:nvPr/>
        </p:nvPicPr>
        <p:blipFill>
          <a:blip r:embed="rId1"/>
          <a:stretch/>
        </p:blipFill>
        <p:spPr>
          <a:xfrm>
            <a:off x="228600" y="762120"/>
            <a:ext cx="405432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2916360" y="5229360"/>
            <a:ext cx="6013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Lavo la rop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427640" y="836640"/>
            <a:ext cx="93636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jamberry.co.uk/training/images/team_building_with_cooking.jpg"/>
          <p:cNvPicPr/>
          <p:nvPr/>
        </p:nvPicPr>
        <p:blipFill>
          <a:blip r:embed="rId1"/>
          <a:stretch/>
        </p:blipFill>
        <p:spPr>
          <a:xfrm>
            <a:off x="3780000" y="1125360"/>
            <a:ext cx="5580000" cy="551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Program Files\Microsoft Office\Clipart\standard\stddir3\HH01077_.wmf"/>
          <p:cNvPicPr/>
          <p:nvPr/>
        </p:nvPicPr>
        <p:blipFill>
          <a:blip r:embed="rId2"/>
          <a:stretch/>
        </p:blipFill>
        <p:spPr>
          <a:xfrm>
            <a:off x="228600" y="228600"/>
            <a:ext cx="2506680" cy="341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Program Files\Microsoft Office\Clipart\standard\stddir3\FD01559_.wmf"/>
          <p:cNvPicPr/>
          <p:nvPr/>
        </p:nvPicPr>
        <p:blipFill>
          <a:blip r:embed="rId3"/>
          <a:stretch/>
        </p:blipFill>
        <p:spPr>
          <a:xfrm>
            <a:off x="179280" y="4005360"/>
            <a:ext cx="238788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916360" y="2349360"/>
            <a:ext cx="316836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ocino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203640" y="1773360"/>
            <a:ext cx="129708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C:\Program Files\Microsoft Office\Clipart\standard\stddir3\IN01082_.WMF"/>
          <p:cNvPicPr/>
          <p:nvPr/>
        </p:nvPicPr>
        <p:blipFill>
          <a:blip r:embed="rId1"/>
          <a:stretch/>
        </p:blipFill>
        <p:spPr>
          <a:xfrm>
            <a:off x="1403280" y="2421000"/>
            <a:ext cx="3721320" cy="373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7"/>
          <p:cNvSpPr/>
          <p:nvPr/>
        </p:nvSpPr>
        <p:spPr>
          <a:xfrm>
            <a:off x="468360" y="1143000"/>
            <a:ext cx="849636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Paso la aspirador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851280" y="692280"/>
            <a:ext cx="1225440" cy="4597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21:45:22Z</dcterms:created>
  <dc:creator>BES</dc:creator>
  <dc:description/>
  <dc:language>en-US</dc:language>
  <cp:lastModifiedBy>Clare Seccombe</cp:lastModifiedBy>
  <dcterms:modified xsi:type="dcterms:W3CDTF">2014-04-09T09:40:01Z</dcterms:modified>
  <cp:revision>60</cp:revision>
  <dc:subject/>
  <dc:title>PowerPoint Presentation</dc:title>
</cp:coreProperties>
</file>