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2AA-EDD3-414F-B927-9F167777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B68-C095-4AF4-B2AE-C141A5C1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4CD-65E6-4D5C-B048-0297D753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EC7-EB6A-4D71-B096-57C174B2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BF6-CCA1-4F27-865A-1C2A6F28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414-F0AB-4267-ADFA-7E9C21CC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6BC-CD3E-42EF-B667-63629C06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D0C-D9EE-49C7-8E22-A205A02E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7B8-EE09-4FE4-A8D2-D9C70030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774-8C31-470C-BA06-21A72BBB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362-4C6D-42F0-BB4C-990F8747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423-2E91-4CFE-A0A8-D28CF67D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3404-8D2E-4F36-A856-AF459678F9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9780746066331"/>
          <p:cNvPicPr/>
          <p:nvPr/>
        </p:nvPicPr>
        <p:blipFill>
          <a:blip r:embed="rId1"/>
          <a:stretch/>
        </p:blipFill>
        <p:spPr>
          <a:xfrm>
            <a:off x="1835280" y="476280"/>
            <a:ext cx="5540400" cy="5616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6948360" y="6613560"/>
            <a:ext cx="341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0000"/>
                </a:solidFill>
                <a:latin typeface="Arial Rounded MT Bold"/>
              </a:rPr>
              <a:t>Light Bulb Languages/KWhitehead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%7B64E14CDA-B540-48E3-96F9-2527DCDD5853%7D"/>
          <p:cNvPicPr/>
          <p:nvPr/>
        </p:nvPicPr>
        <p:blipFill>
          <a:blip r:embed="rId1"/>
          <a:stretch/>
        </p:blipFill>
        <p:spPr>
          <a:xfrm>
            <a:off x="2484360" y="1666800"/>
            <a:ext cx="4676760" cy="5191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0" y="333360"/>
            <a:ext cx="914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333399"/>
                </a:solidFill>
                <a:latin typeface="Comic Sans MS"/>
              </a:rPr>
              <a:t>Éste no es mi monstruo porque </a:t>
            </a:r>
            <a:r>
              <a:rPr b="1" lang="en-GB" sz="3300" spc="-1" strike="noStrike">
                <a:solidFill>
                  <a:srgbClr val="333399"/>
                </a:solidFill>
                <a:latin typeface="Comic Sans MS"/>
              </a:rPr>
              <a:t>mi</a:t>
            </a:r>
            <a:r>
              <a:rPr b="0" lang="en-GB" sz="3300" spc="-1" strike="noStrike">
                <a:solidFill>
                  <a:srgbClr val="333399"/>
                </a:solidFill>
                <a:latin typeface="Comic Sans MS"/>
              </a:rPr>
              <a:t> monstruo tiene dos ojo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monsta20"/>
          <p:cNvPicPr/>
          <p:nvPr/>
        </p:nvPicPr>
        <p:blipFill>
          <a:blip r:embed="rId1"/>
          <a:stretch/>
        </p:blipFill>
        <p:spPr>
          <a:xfrm>
            <a:off x="2195640" y="1528920"/>
            <a:ext cx="5329080" cy="5329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Éste no es mi monstruo porque 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i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 monstruo no tiene una nariz az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monster-monday-2008-08-17"/>
          <p:cNvPicPr/>
          <p:nvPr/>
        </p:nvPicPr>
        <p:blipFill>
          <a:blip r:embed="rId1"/>
          <a:stretch/>
        </p:blipFill>
        <p:spPr>
          <a:xfrm>
            <a:off x="2050920" y="1944720"/>
            <a:ext cx="5472360" cy="4913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Éste no es mi monstruo porque 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i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 monstruo no es ver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0" y="0"/>
            <a:ext cx="6732720" cy="504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Éste es </a:t>
            </a:r>
            <a:r>
              <a:rPr b="1" lang="en-GB" sz="3000" spc="-1" strike="noStrike">
                <a:solidFill>
                  <a:srgbClr val="333399"/>
                </a:solidFill>
                <a:latin typeface="Comic Sans MS"/>
              </a:rPr>
              <a:t>mi</a:t>
            </a: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 monstruo porque tiene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el pelo verd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dos ojos grand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una nariz ro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y es morado y negr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Me gusta mi monstruo por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es muy gracioso.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monsterstudiosfinal"/>
          <p:cNvPicPr/>
          <p:nvPr/>
        </p:nvPicPr>
        <p:blipFill>
          <a:blip r:embed="rId1"/>
          <a:stretch/>
        </p:blipFill>
        <p:spPr>
          <a:xfrm>
            <a:off x="5651640" y="836640"/>
            <a:ext cx="3492360" cy="6021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9"/>
          <p:cNvSpPr/>
          <p:nvPr/>
        </p:nvSpPr>
        <p:spPr>
          <a:xfrm>
            <a:off x="3276720" y="4437000"/>
            <a:ext cx="503280" cy="503280"/>
          </a:xfrm>
          <a:custGeom>
            <a:avLst/>
            <a:gdLst>
              <a:gd name="textAreaLeft" fmla="*/ 117360 w 503280"/>
              <a:gd name="textAreaRight" fmla="*/ 385920 w 503280"/>
              <a:gd name="textAreaTop" fmla="*/ 52920 h 503280"/>
              <a:gd name="textAreaBottom" fmla="*/ 318600 h 503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851280" y="4437000"/>
            <a:ext cx="503280" cy="503280"/>
          </a:xfrm>
          <a:custGeom>
            <a:avLst/>
            <a:gdLst>
              <a:gd name="textAreaLeft" fmla="*/ 117360 w 503280"/>
              <a:gd name="textAreaRight" fmla="*/ 385920 w 503280"/>
              <a:gd name="textAreaTop" fmla="*/ 52920 h 503280"/>
              <a:gd name="textAreaBottom" fmla="*/ 318600 h 503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55640" y="4983120"/>
            <a:ext cx="5041800" cy="192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Make your work bet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Use </a:t>
            </a:r>
            <a:r>
              <a:rPr b="0" lang="en-GB" sz="2000" spc="-1" strike="noStrike">
                <a:solidFill>
                  <a:srgbClr val="993366"/>
                </a:solidFill>
                <a:latin typeface="Cambria"/>
              </a:rPr>
              <a:t>un poco 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(a little bit),</a:t>
            </a:r>
            <a:r>
              <a:rPr b="0" lang="en-GB" sz="2000" spc="-1" strike="noStrike">
                <a:solidFill>
                  <a:srgbClr val="993366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66"/>
                </a:solidFill>
                <a:latin typeface="Cambria"/>
              </a:rPr>
              <a:t>bastante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(quite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66"/>
                </a:solidFill>
                <a:latin typeface="Cambria"/>
              </a:rPr>
              <a:t>muy </a:t>
            </a:r>
            <a:r>
              <a:rPr b="0" lang="es-ES" sz="2000" spc="-1" strike="noStrike">
                <a:solidFill>
                  <a:srgbClr val="000000"/>
                </a:solidFill>
                <a:latin typeface="Cambria"/>
              </a:rPr>
              <a:t>(very)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to boost your le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Remember! 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To say “he’s 18” i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tiene 18 a</a:t>
            </a:r>
            <a:r>
              <a:rPr b="0" lang="es-ES" sz="2000" spc="-1" strike="noStrike">
                <a:solidFill>
                  <a:srgbClr val="000000"/>
                </a:solidFill>
                <a:latin typeface="Cambria"/>
              </a:rPr>
              <a:t>ños” NOT “es 18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0" y="189000"/>
            <a:ext cx="442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Éste es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monstruo porque tie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l pelo ver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os ojos gran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a nariz r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 es morado y neg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e gusta mi monstruo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orque es muy graci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284720" y="549360"/>
            <a:ext cx="4859280" cy="542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ambria"/>
              </a:rPr>
              <a:t>Level 1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work uses single </a:t>
            </a:r>
            <a:r>
              <a:rPr b="0" lang="en-GB" sz="2400" spc="-1" strike="noStrike">
                <a:solidFill>
                  <a:srgbClr val="009999"/>
                </a:solidFill>
                <a:latin typeface="Cambria"/>
              </a:rPr>
              <a:t>key words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mbria"/>
              </a:rPr>
              <a:t>Level 2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has short sentences that may be copied or have spelling mist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ambria"/>
              </a:rPr>
              <a:t>Level 3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workers could write three or more good </a:t>
            </a: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sentences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from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Cambria"/>
              </a:rPr>
              <a:t>Level 4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work will include more details such as your </a:t>
            </a:r>
            <a:r>
              <a:rPr b="0" lang="en-GB" sz="2400" spc="-1" strike="noStrike">
                <a:solidFill>
                  <a:srgbClr val="990033"/>
                </a:solidFill>
                <a:latin typeface="Cambria"/>
              </a:rPr>
              <a:t>opinions with reasons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You might also be able to look up a few new words in the dictionary and use them properly.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 best work will also correctly use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990033"/>
                </a:solidFill>
                <a:latin typeface="Cambria"/>
              </a:rPr>
              <a:t>word endings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.g. fea/feo.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4005360"/>
            <a:ext cx="4211640" cy="26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Make your work bet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Use 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un poco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(a little bit),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bastante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(quite)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Cambria"/>
              </a:rPr>
              <a:t>muy </a:t>
            </a: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(very)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to boost your le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memb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o say “he’s 18” i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iene 18 a</a:t>
            </a: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ños” NOT “es 18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monsterstudiosfinal"/>
          <p:cNvPicPr/>
          <p:nvPr/>
        </p:nvPicPr>
        <p:blipFill>
          <a:blip r:embed="rId1"/>
          <a:stretch/>
        </p:blipFill>
        <p:spPr>
          <a:xfrm>
            <a:off x="2987640" y="620640"/>
            <a:ext cx="1446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743040" y="4175280"/>
            <a:ext cx="4572000" cy="2571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rcRect l="0" t="9459" r="9469" b="10691"/>
          <a:stretch/>
        </p:blipFill>
        <p:spPr>
          <a:xfrm>
            <a:off x="-9360" y="0"/>
            <a:ext cx="2663640" cy="417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rcRect l="0" t="10401" r="3541" b="6811"/>
          <a:stretch/>
        </p:blipFill>
        <p:spPr>
          <a:xfrm>
            <a:off x="5397480" y="-9360"/>
            <a:ext cx="372096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6:56:40Z</dcterms:created>
  <dc:creator>Ian&amp;Kaz</dc:creator>
  <dc:description/>
  <dc:language>en-US</dc:language>
  <cp:lastModifiedBy>Clare Seccombe</cp:lastModifiedBy>
  <dcterms:modified xsi:type="dcterms:W3CDTF">2014-04-15T05:56:20Z</dcterms:modified>
  <cp:revision>25</cp:revision>
  <dc:subject/>
  <dc:title>Slide 1</dc:title>
</cp:coreProperties>
</file>