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E69-C30E-4F08-AB96-C84F1B8E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EA4-58FC-4DB9-9C97-4FA1F181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8D4-340A-4DAB-972E-6F0BE10B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213-C997-4D87-BB50-7EABCF3E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022-F23A-41D9-9EF4-115795CA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609-18AA-4371-8792-054EFA7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76F-992B-47DF-8AE1-8CBFC176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3E1-F643-4B53-94C3-576B171B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02C-4CBD-4B9D-984E-09CF0719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637-89B9-495C-A756-52061A7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B86-92FD-43A3-9711-EEAC928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BFA-4624-49CD-BD3B-58FDC30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6ED9-D78F-42BB-BC31-52BD43C1C9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9780746066331"/>
          <p:cNvPicPr/>
          <p:nvPr/>
        </p:nvPicPr>
        <p:blipFill>
          <a:blip r:embed="rId1"/>
          <a:stretch/>
        </p:blipFill>
        <p:spPr>
          <a:xfrm>
            <a:off x="1835280" y="476280"/>
            <a:ext cx="5540400" cy="5616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6948360" y="6613560"/>
            <a:ext cx="341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0000"/>
                </a:solidFill>
                <a:latin typeface="Arial Rounded MT Bold"/>
              </a:rPr>
              <a:t>Light Bulb Languages/KWhitehead 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%7B64E14CDA-B540-48E3-96F9-2527DCDD5853%7D"/>
          <p:cNvPicPr/>
          <p:nvPr/>
        </p:nvPicPr>
        <p:blipFill>
          <a:blip r:embed="rId1"/>
          <a:stretch/>
        </p:blipFill>
        <p:spPr>
          <a:xfrm>
            <a:off x="2484360" y="1666800"/>
            <a:ext cx="4676760" cy="5191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0" y="33336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3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300" spc="-1" strike="noStrike">
                <a:solidFill>
                  <a:srgbClr val="333399"/>
                </a:solidFill>
                <a:latin typeface="Comic Sans MS"/>
              </a:rPr>
              <a:t> monstruo tiene dos ojo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nsta20"/>
          <p:cNvPicPr/>
          <p:nvPr/>
        </p:nvPicPr>
        <p:blipFill>
          <a:blip r:embed="rId1"/>
          <a:stretch/>
        </p:blipFill>
        <p:spPr>
          <a:xfrm>
            <a:off x="2195640" y="152892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 monstruo no tiene una nariz az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monster-monday-2008-08-17"/>
          <p:cNvPicPr/>
          <p:nvPr/>
        </p:nvPicPr>
        <p:blipFill>
          <a:blip r:embed="rId1"/>
          <a:stretch/>
        </p:blipFill>
        <p:spPr>
          <a:xfrm>
            <a:off x="2050920" y="1944720"/>
            <a:ext cx="5472360" cy="4913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Éste no es mi monstruo porque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 monstruo no es ver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0"/>
            <a:ext cx="6732720" cy="50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Éste es </a:t>
            </a:r>
            <a:r>
              <a:rPr b="1" lang="en-GB" sz="3000" spc="-1" strike="noStrike">
                <a:solidFill>
                  <a:srgbClr val="333399"/>
                </a:solidFill>
                <a:latin typeface="Comic Sans MS"/>
              </a:rPr>
              <a:t>mi</a:t>
            </a: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 monstruo porque tiene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el pelo verd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dos ojos grand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una nariz ro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y es morado y negr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Me gusta mi monstruo po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Comic Sans MS"/>
              </a:rPr>
              <a:t>es muy gracioso.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onsterstudiosfinal"/>
          <p:cNvPicPr/>
          <p:nvPr/>
        </p:nvPicPr>
        <p:blipFill>
          <a:blip r:embed="rId1"/>
          <a:stretch/>
        </p:blipFill>
        <p:spPr>
          <a:xfrm>
            <a:off x="5651640" y="836640"/>
            <a:ext cx="3492360" cy="6021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9"/>
          <p:cNvSpPr/>
          <p:nvPr/>
        </p:nvSpPr>
        <p:spPr>
          <a:xfrm>
            <a:off x="3276720" y="4437000"/>
            <a:ext cx="503280" cy="503280"/>
          </a:xfrm>
          <a:custGeom>
            <a:avLst/>
            <a:gdLst>
              <a:gd name="textAreaLeft" fmla="*/ 117360 w 503280"/>
              <a:gd name="textAreaRight" fmla="*/ 385920 w 50328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851280" y="4437000"/>
            <a:ext cx="503280" cy="503280"/>
          </a:xfrm>
          <a:custGeom>
            <a:avLst/>
            <a:gdLst>
              <a:gd name="textAreaLeft" fmla="*/ 117360 w 503280"/>
              <a:gd name="textAreaRight" fmla="*/ 385920 w 50328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55640" y="4983120"/>
            <a:ext cx="5041800" cy="1923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Make your work bet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Use </a:t>
            </a: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un poco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(a little bit),</a:t>
            </a: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66"/>
                </a:solidFill>
                <a:latin typeface="Cambria"/>
              </a:rPr>
              <a:t>bastante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(quite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66"/>
                </a:solidFill>
                <a:latin typeface="Cambria"/>
              </a:rPr>
              <a:t>muy </a:t>
            </a:r>
            <a:r>
              <a:rPr b="0" lang="es-ES" sz="2000" spc="-1" strike="noStrike">
                <a:solidFill>
                  <a:srgbClr val="000000"/>
                </a:solidFill>
                <a:latin typeface="Cambria"/>
              </a:rPr>
              <a:t>(very)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 to boost your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Remember! 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To say “he’s 18” i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tiene 18 a</a:t>
            </a:r>
            <a:r>
              <a:rPr b="0" lang="es-ES" sz="2000" spc="-1" strike="noStrike">
                <a:solidFill>
                  <a:srgbClr val="000000"/>
                </a:solidFill>
                <a:latin typeface="Cambria"/>
              </a:rPr>
              <a:t>ños” NOT “es 18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0" y="189000"/>
            <a:ext cx="44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Éste es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monstruo porque tie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l pelo ver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s ojos gran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na nariz r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 es morado y ne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e gusta mi monstruo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orque es muy grac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284720" y="549360"/>
            <a:ext cx="4859280" cy="542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ambria"/>
              </a:rPr>
              <a:t>Level 1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 uses single </a:t>
            </a:r>
            <a:r>
              <a:rPr b="0" lang="en-GB" sz="2400" spc="-1" strike="noStrike">
                <a:solidFill>
                  <a:srgbClr val="009999"/>
                </a:solidFill>
                <a:latin typeface="Cambria"/>
              </a:rPr>
              <a:t>key words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mbria"/>
              </a:rPr>
              <a:t>Level 2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has short sentences that may be copied or have spelling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ambria"/>
              </a:rPr>
              <a:t>Level 3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ers could write three or more good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sentences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from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Level 4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ork will include more details such as your </a:t>
            </a: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opinions with reasons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You might also be able to look up a few new words in the dictionary and use them properly.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best work will also correctly use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990033"/>
                </a:solidFill>
                <a:latin typeface="Cambria"/>
              </a:rPr>
              <a:t>word endings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.g. fea/feo.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4005360"/>
            <a:ext cx="421164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Make your work be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Use 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un poco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(a little bit),</a:t>
            </a: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66"/>
                </a:solidFill>
                <a:latin typeface="Cambria"/>
              </a:rPr>
              <a:t>bastante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(quite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Cambria"/>
              </a:rPr>
              <a:t>muy </a:t>
            </a: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(very)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to boost your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memb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o say “he’s 18”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iene 18 a</a:t>
            </a:r>
            <a:r>
              <a:rPr b="0" lang="es-ES" sz="2400" spc="-1" strike="noStrike">
                <a:solidFill>
                  <a:srgbClr val="000000"/>
                </a:solidFill>
                <a:latin typeface="Cambria"/>
              </a:rPr>
              <a:t>ños” NOT “es 18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monsterstudiosfinal"/>
          <p:cNvPicPr/>
          <p:nvPr/>
        </p:nvPicPr>
        <p:blipFill>
          <a:blip r:embed="rId1"/>
          <a:stretch/>
        </p:blipFill>
        <p:spPr>
          <a:xfrm>
            <a:off x="2987640" y="620640"/>
            <a:ext cx="1446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743040" y="417528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rcRect l="0" t="9459" r="9469" b="10691"/>
          <a:stretch/>
        </p:blipFill>
        <p:spPr>
          <a:xfrm>
            <a:off x="-9360" y="0"/>
            <a:ext cx="2663640" cy="417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rcRect l="0" t="10401" r="3541" b="6811"/>
          <a:stretch/>
        </p:blipFill>
        <p:spPr>
          <a:xfrm>
            <a:off x="5397480" y="-9360"/>
            <a:ext cx="372096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6:56:40Z</dcterms:created>
  <dc:creator>Ian&amp;Kaz</dc:creator>
  <dc:description/>
  <dc:language>en-US</dc:language>
  <cp:lastModifiedBy>Clare Seccombe</cp:lastModifiedBy>
  <dcterms:modified xsi:type="dcterms:W3CDTF">2014-04-15T05:56:20Z</dcterms:modified>
  <cp:revision>25</cp:revision>
  <dc:subject/>
  <dc:title>Slide 1</dc:title>
</cp:coreProperties>
</file>