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AAA7-3057-4949-8EC3-9A9A5ACF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E2A-7B48-4AC7-A16F-D609F5C9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F16-0067-4DB8-9860-A063F1C1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D019-15DF-426A-9F7D-8D15B27F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F96-1D43-43B7-86C7-011120A4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1BA-30EA-44C8-AB53-6C5879A3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4EE2-20A2-4EFC-9353-14CA720F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840-DEAF-44FE-9DC6-911D900E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CE96-62C4-4C50-8833-37F9EAE5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DDA-12B2-4CD4-89FB-2F73B275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049-ED96-45E5-BFD2-B1DFD7E3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9C7-E2BF-4846-8BDC-55165815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14CE-4AEA-4EE3-89F3-D2254082357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FD18-CC78-4338-B804-A536919D7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4.xml"/><Relationship Id="rId15" Type="http://schemas.openxmlformats.org/officeDocument/2006/relationships/slide" Target="slide36.xml"/><Relationship Id="rId16" Type="http://schemas.openxmlformats.org/officeDocument/2006/relationships/slide" Target="slide38.xml"/><Relationship Id="rId17" Type="http://schemas.openxmlformats.org/officeDocument/2006/relationships/slide" Target="slide40.xml"/><Relationship Id="rId18" Type="http://schemas.openxmlformats.org/officeDocument/2006/relationships/slide" Target="slide42.xml"/><Relationship Id="rId19" Type="http://schemas.openxmlformats.org/officeDocument/2006/relationships/slide" Target="slide44.xml"/><Relationship Id="rId20" Type="http://schemas.openxmlformats.org/officeDocument/2006/relationships/slide" Target="slide44.xml"/><Relationship Id="rId21" Type="http://schemas.openxmlformats.org/officeDocument/2006/relationships/slide" Target="slide48.xml"/><Relationship Id="rId22" Type="http://schemas.openxmlformats.org/officeDocument/2006/relationships/slide" Target="slide50.xml"/><Relationship Id="rId23" Type="http://schemas.openxmlformats.org/officeDocument/2006/relationships/slide" Target="slide2.xml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9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0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1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2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8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0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1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2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3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u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nta 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s of 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ugust 3, 14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date Columbus left from Spa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rgest of the three ships that Columbus took across the oce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Santa Ma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100 t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weight of the Santa Ma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ristopher Colum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o was the captain of the Santa Ma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40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number of men aboard the Santa Ma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ctober 12, 14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d not return from the first voy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state of the Santa Ma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smallest of the three 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Nin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number of sails on the Nin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50 or 60 t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weight of the Nin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incente Anes Pinz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o was the captain of the Nin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date Columbus arrived in the Caribbean Islan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ra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Nina’s type of shi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medium-sized ship of Columbus’s voy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Pin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rtin Pinz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o was the captain of the Pin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70 t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weight of the Pin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ree s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number of sails the Pinta may have h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enoa, It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fastest of the 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speed of the Pin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umbus ate, slept, and worked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captain’s ca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reb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another word for a sto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lds up the s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a ma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od, supplies and water are kept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hol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city where Columbus was bor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ee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place where the crew steered the shi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en Isabella and King Ferdin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o are the Spanish rulers that gave Columbus money to take the voy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nta M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ship that Columbus was captain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CSeccombe</cp:lastModifiedBy>
  <dcterms:modified xsi:type="dcterms:W3CDTF">2005-04-05T13:23:08Z</dcterms:modified>
  <cp:revision>33</cp:revision>
  <dc:subject/>
  <dc:title>Blank Jeopardy</dc:title>
</cp:coreProperties>
</file>