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582-8E35-467A-9439-B7CD6D53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496-6B9A-4E16-AF78-5F01CAAA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436-DD92-4348-9C05-6EBF6626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607-C184-4DD4-80A7-42B7923C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7B3-8D5B-4B14-8BCF-070AE8CE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DD7-C6C7-4F42-A182-3D289B89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ACC6-DF61-4464-A6EF-107387B3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0504-7FFF-4C0C-A21E-AD9A42CC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6DEC-5A01-4E69-B16C-80FCE642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DF3-3486-419B-8954-82B584DA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D55-BEBB-430F-B9ED-A38F2728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1FE8-0FBE-4538-8AE9-5D863A8D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973F-AA8B-4D52-AE03-6F0494572CA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9868-8970-4081-87DD-43E84F816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4.xml"/><Relationship Id="rId15" Type="http://schemas.openxmlformats.org/officeDocument/2006/relationships/slide" Target="slide36.xml"/><Relationship Id="rId16" Type="http://schemas.openxmlformats.org/officeDocument/2006/relationships/slide" Target="slide38.xml"/><Relationship Id="rId17" Type="http://schemas.openxmlformats.org/officeDocument/2006/relationships/slide" Target="slide40.xml"/><Relationship Id="rId18" Type="http://schemas.openxmlformats.org/officeDocument/2006/relationships/slide" Target="slide42.xml"/><Relationship Id="rId19" Type="http://schemas.openxmlformats.org/officeDocument/2006/relationships/slide" Target="slide44.xml"/><Relationship Id="rId20" Type="http://schemas.openxmlformats.org/officeDocument/2006/relationships/slide" Target="slide44.xml"/><Relationship Id="rId21" Type="http://schemas.openxmlformats.org/officeDocument/2006/relationships/slide" Target="slide48.xml"/><Relationship Id="rId22" Type="http://schemas.openxmlformats.org/officeDocument/2006/relationships/slide" Target="slide50.xml"/><Relationship Id="rId23" Type="http://schemas.openxmlformats.org/officeDocument/2006/relationships/slide" Target="slide2.xml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9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0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1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2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8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0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1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2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3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u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nta 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s of 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ugust 3, 14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date Columbus left from Spa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rgest of the three ships that Columbus took across the oce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Santa Ma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100 t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weight of the Santa Ma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ristopher Colum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o was the captain of the Santa Ma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40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number of men aboard the Santa Ma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ctober 12, 14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d not return from the first voy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state of the Santa Ma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smallest of the three 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Nin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number of sails on the Nin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50 or 60 t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weight of the Nin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incente Anes Pinz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o was the captain of the Nin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date Columbus arrived in the Caribbean Islan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ra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Nina’s type of shi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medium-sized ship of Columbus’s voy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Pin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rtin Pinz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o was the captain of the Pin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70 t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weight of the Pin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ree s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number of sails the Pinta may have h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enoa, It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fastest of the 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speed of the Pin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umbus ate, slept, and worked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captain’s ca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reb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another word for a sto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lds up the s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a ma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od, supplies and water are kept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hol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city where Columbus was bor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ee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place where the crew steered the shi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en Isabella and King Ferdin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o are the Spanish rulers that gave Columbus money to take the voy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nta M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the ship that Columbus was captain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CSeccombe</cp:lastModifiedBy>
  <dcterms:modified xsi:type="dcterms:W3CDTF">2005-04-05T13:23:08Z</dcterms:modified>
  <cp:revision>33</cp:revision>
  <dc:subject/>
  <dc:title>Blank Jeopardy</dc:title>
</cp:coreProperties>
</file>