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A5A-7120-4AC0-ADD0-7CE3471E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2A7-D215-4348-A68E-EECF262E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355-ADA4-4C56-A9A7-551B6568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DBA-1C12-4956-A7ED-F8473430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D35-880D-4B07-BD8D-0BD12B74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31D-35A0-4255-9212-3F3AB55C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EB6-11FE-478F-9F26-DB5D2B48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1E5-590B-4FA4-B630-2DEA9C82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5C1-D0D5-4B16-9696-75CE3E11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C88-BAFE-40F2-B575-1CEA0265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1B2-94AE-4900-8375-A7F2A46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3A0-46AE-4978-A40C-B75135C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0B7A-604D-4DFA-8841-96D64211A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erols.com/jbrennan" TargetMode="External"/><Relationship Id="rId2" Type="http://schemas.openxmlformats.org/officeDocument/2006/relationships/hyperlink" Target="http://www.erols.com/jbrennan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360600" cy="33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manza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2401920" cy="429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18280" y="5105520"/>
            <a:ext cx="41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helad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914400"/>
            <a:ext cx="3505320" cy="326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63320" y="502920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caf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130560" cy="189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03560" y="5257800"/>
            <a:ext cx="49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galle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2717640" cy="434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00960" y="5105520"/>
            <a:ext cx="32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maí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495680" cy="291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99520" y="5029200"/>
            <a:ext cx="32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pav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48320" cy="3357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08160" y="5105520"/>
            <a:ext cx="49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cangrej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59480" cy="47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51800" y="5257800"/>
            <a:ext cx="474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os huev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5311800" cy="2220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40080" y="52578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pescad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336920" cy="270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292640"/>
            <a:ext cx="776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fruta y vegeta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24640" cy="301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19800" y="5105520"/>
            <a:ext cx="247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aj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50840" y="5181480"/>
            <a:ext cx="52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alcachof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090600" cy="294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30160" y="4876920"/>
            <a:ext cx="42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toronj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2919240" cy="3008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03680" y="5257800"/>
            <a:ext cx="36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limó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06880" cy="2613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31800" y="5181480"/>
            <a:ext cx="488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os hong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478040" cy="2620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71120" y="5029200"/>
            <a:ext cx="42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ceboll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59040" cy="3062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19280" y="4508640"/>
            <a:ext cx="531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os guisan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2330640" cy="396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92360" y="4437000"/>
            <a:ext cx="360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per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867120" cy="2558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88040" y="5029200"/>
            <a:ext cx="39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sandí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3343320" cy="3272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72120" y="5105520"/>
            <a:ext cx="426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toma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3504960" cy="329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53040" y="4952880"/>
            <a:ext cx="20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t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1888920" cy="362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63640" y="4437000"/>
            <a:ext cx="28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piñ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1280" y="5181480"/>
            <a:ext cx="56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os plátan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3108240" cy="306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1480" y="5181480"/>
            <a:ext cx="50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 refresc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249732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98640" y="5257800"/>
            <a:ext cx="51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té helad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52680" y="762120"/>
            <a:ext cx="286236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85480" y="5257800"/>
            <a:ext cx="50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gamb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664240" cy="256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29120" y="5181480"/>
            <a:ext cx="48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langos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3406680" cy="38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00720" y="52578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biste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66868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00120" y="5181480"/>
            <a:ext cx="48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mostaz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3111480" cy="3162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38880" y="51814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azúca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10068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6840" y="510552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hamburgues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8120" y="685800"/>
            <a:ext cx="309852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92360" y="4508640"/>
            <a:ext cx="347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jamó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671720" cy="337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68920" y="5181480"/>
            <a:ext cx="331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poll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755880" cy="3444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3280" y="5257800"/>
            <a:ext cx="41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tor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189680" cy="4140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62800" y="5257800"/>
            <a:ext cx="51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salchich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298600" cy="269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194400" y="5300640"/>
            <a:ext cx="98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crema de cacahue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2855880" cy="4419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32000" y="4076640"/>
            <a:ext cx="337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s uv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2438280"/>
            <a:ext cx="3864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Jester"/>
              </a:rPr>
              <a:t>¡EL FIN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257800"/>
            <a:ext cx="60958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Jester"/>
              </a:rPr>
              <a:t>Slide presentation created by Janel Brennan</a:t>
            </a:r>
            <a:br>
              <a:rPr sz="18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Jester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Jester"/>
                <a:hlinkClick r:id="rId2"/>
              </a:rPr>
              <a:t>www.erols.com/jbre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717720" cy="29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11000" y="4952880"/>
            <a:ext cx="42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s fres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132440" cy="316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17320" y="5181480"/>
            <a:ext cx="281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p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87684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4724280"/>
            <a:ext cx="380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brocol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562720" cy="2125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85080" y="5105520"/>
            <a:ext cx="63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s zanahor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429000" cy="339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76360" y="4292640"/>
            <a:ext cx="342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ques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1T16:47:56Z</dcterms:created>
  <dc:creator>Towson University</dc:creator>
  <dc:description/>
  <dc:language>en-US</dc:language>
  <cp:lastModifiedBy>CSeccombe</cp:lastModifiedBy>
  <dcterms:modified xsi:type="dcterms:W3CDTF">2005-04-05T20:02:49Z</dcterms:modified>
  <cp:revision>21</cp:revision>
  <dc:subject/>
  <dc:title>No Slide Title</dc:title>
</cp:coreProperties>
</file>