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AB2-6E0A-4245-9D6C-D7FC3C7A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E0A-5A54-44ED-891E-A24CBB5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C21-8A5C-4FFC-AC1E-1539F9A5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AF9-A630-432C-B654-1753A5E0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E7C-F710-4EBA-A276-1FC8BB1E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087-A7FB-491D-A2BD-5592B8C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1DD-FFFD-416D-AE8B-87FA7980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58F-AA4F-4BD0-B72F-EBE0D1F2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619-412C-4712-B019-8E1256A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413-3EF7-46DF-9372-9838FF2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AB2-45D6-4A95-8314-E4B3197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2E4-2111-4044-B7B1-D2183CB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D63-3BD0-4BC4-B7D8-53797A5E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erols.com/jbrennan" TargetMode="External"/><Relationship Id="rId2" Type="http://schemas.openxmlformats.org/officeDocument/2006/relationships/hyperlink" Target="http://www.erols.com/jbrenna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360600" cy="33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manza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401920" cy="429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18280" y="5105520"/>
            <a:ext cx="41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hel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3505320" cy="326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63320" y="50292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caf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130560" cy="18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3560" y="5257800"/>
            <a:ext cx="49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galle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2717640" cy="43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00960" y="5105520"/>
            <a:ext cx="32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maí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291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99520" y="5029200"/>
            <a:ext cx="32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av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35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08160" y="510552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cangrej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5948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51800" y="5257800"/>
            <a:ext cx="474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huev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5311800" cy="2220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40080" y="52578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esc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336920" cy="27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292640"/>
            <a:ext cx="77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fruta y vegetal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01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19800" y="5105520"/>
            <a:ext cx="24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aj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50840" y="5181480"/>
            <a:ext cx="52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alcachof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090600" cy="294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30160" y="48769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toronj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919240" cy="3008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03680" y="5257800"/>
            <a:ext cx="36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li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06880" cy="2613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1800" y="5181480"/>
            <a:ext cx="48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hong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478040" cy="2620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71120" y="5029200"/>
            <a:ext cx="42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ceboll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59040" cy="306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19280" y="4508640"/>
            <a:ext cx="531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guisan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33064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92360" y="4437000"/>
            <a:ext cx="360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pe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867120" cy="2558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88040" y="5029200"/>
            <a:ext cx="39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sandí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3343320" cy="3272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72120" y="5105520"/>
            <a:ext cx="42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om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504960" cy="32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3040" y="4952880"/>
            <a:ext cx="20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888920" cy="362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4437000"/>
            <a:ext cx="28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piñ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1280" y="5181480"/>
            <a:ext cx="56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os plátan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3108240" cy="306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1480" y="5181480"/>
            <a:ext cx="50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 refresc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49732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98640" y="525780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té helad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762120"/>
            <a:ext cx="286236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85480" y="5257800"/>
            <a:ext cx="50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gamb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664240" cy="256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29120" y="5181480"/>
            <a:ext cx="48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langos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40668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720" y="52578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biste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6868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00120" y="5181480"/>
            <a:ext cx="48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mostaz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38880" y="51814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azúc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0068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6840" y="51055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hamburgues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309852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92360" y="4508640"/>
            <a:ext cx="347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jamó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671720" cy="337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68920" y="5181480"/>
            <a:ext cx="33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ol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755880" cy="344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3280" y="52578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una tor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189680" cy="4140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62800" y="525780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salchich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98600" cy="269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94400" y="5300640"/>
            <a:ext cx="98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 crema de cacahue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28558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4076640"/>
            <a:ext cx="337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uv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2438280"/>
            <a:ext cx="386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Jester"/>
              </a:rPr>
              <a:t>¡EL FIN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257800"/>
            <a:ext cx="6095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Jester"/>
              </a:rPr>
              <a:t>Slide presentation created by Janel Brennan</a:t>
            </a:r>
            <a:br>
              <a:rPr sz="18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Jester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Jester"/>
                <a:hlinkClick r:id="rId2"/>
              </a:rPr>
              <a:t>www.erols.com/jbre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717720" cy="29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1000" y="495288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fres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132440" cy="316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17320" y="5181480"/>
            <a:ext cx="28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p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87684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4724280"/>
            <a:ext cx="380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brocol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562720" cy="2125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85080" y="510552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las zanaho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39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6360" y="4292640"/>
            <a:ext cx="34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Jester"/>
              </a:rPr>
              <a:t>el ques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1T16:47:56Z</dcterms:created>
  <dc:creator>Towson University</dc:creator>
  <dc:description/>
  <dc:language>en-US</dc:language>
  <cp:lastModifiedBy>CSeccombe</cp:lastModifiedBy>
  <dcterms:modified xsi:type="dcterms:W3CDTF">2005-04-05T20:02:49Z</dcterms:modified>
  <cp:revision>21</cp:revision>
  <dc:subject/>
  <dc:title>No Slide Title</dc:title>
</cp:coreProperties>
</file>