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8.wmf" ContentType="image/x-wmf"/>
  <Override PartName="/ppt/media/image12.wmf" ContentType="image/x-wmf"/>
  <Override PartName="/ppt/media/image2.wmf" ContentType="image/x-wmf"/>
  <Override PartName="/ppt/media/clap.wav" ContentType="audio/x-wav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FA2-BD62-459D-ADF6-6B6F2DCC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7F3-9E58-4DFF-AD0A-256EA176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C79-80C0-4BF6-B5BB-B93888D3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F55-CF78-45B6-BE72-960A94E2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5E2-E084-45E4-89F3-7D01C4D4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28E-2634-4298-8674-69A75AB0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7A2-6E80-485B-A616-E556BE4C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76B-C837-44E3-9840-7B3138E5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1E5-3D5F-4AF7-B830-3694CB32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339-4BCD-4771-86DE-A6646941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E94-E265-419D-BB09-3EFBCF63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61D-6559-4700-81AE-4418E6D8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5e0000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12B0-B2F2-427B-AFDE-FB620225F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projctor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5120" y="533520"/>
            <a:ext cx="223668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05520" y="638280"/>
            <a:ext cx="3289320" cy="20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7280" y="3846600"/>
            <a:ext cx="2262240" cy="2401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58480" y="4295880"/>
            <a:ext cx="4073040" cy="1556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l Calenda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spañ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4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371600" y="304920"/>
            <a:ext cx="6397560" cy="1241280"/>
            <a:chOff x="1371600" y="304920"/>
            <a:chExt cx="6397560" cy="1241280"/>
          </a:xfrm>
        </p:grpSpPr>
        <p:sp>
          <p:nvSpPr>
            <p:cNvPr id="155" name=""/>
            <p:cNvSpPr/>
            <p:nvPr/>
          </p:nvSpPr>
          <p:spPr>
            <a:xfrm>
              <a:off x="3110760" y="380880"/>
              <a:ext cx="297108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n repaso brev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e </a:t>
              </a:r>
              <a:r>
                <a:rPr b="0" i="1" lang="en-US" sz="2800" spc="-1" strike="noStrike" u="sng">
                  <a:solidFill>
                    <a:srgbClr val="ffffff"/>
                  </a:solidFill>
                  <a:uFillTx/>
                  <a:latin typeface="Arial"/>
                </a:rPr>
                <a:t>los número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1371600" y="304920"/>
              <a:ext cx="136836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6400800" y="304920"/>
              <a:ext cx="1368360" cy="12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1374840" y="1814400"/>
            <a:ext cx="6597000" cy="1922760"/>
            <a:chOff x="1374840" y="1814400"/>
            <a:chExt cx="6597000" cy="1922760"/>
          </a:xfrm>
        </p:grpSpPr>
        <p:sp>
          <p:nvSpPr>
            <p:cNvPr id="159" name=""/>
            <p:cNvSpPr/>
            <p:nvPr/>
          </p:nvSpPr>
          <p:spPr>
            <a:xfrm>
              <a:off x="1374840" y="1814400"/>
              <a:ext cx="1483920" cy="192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i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ei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uar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ncu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33440" y="1814400"/>
              <a:ext cx="1264320" cy="192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s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t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h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v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57680" y="1816200"/>
              <a:ext cx="331416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u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treinta y cuat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noventa y nue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11280" y="4191120"/>
            <a:ext cx="178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o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5160" y="502920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e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5320" y="5867280"/>
            <a:ext cx="217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atro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10520" y="4038480"/>
            <a:ext cx="1721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in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40640" y="5029200"/>
            <a:ext cx="184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i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42480" y="5867280"/>
            <a:ext cx="185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te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6760" y="3962520"/>
            <a:ext cx="197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cho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74320" y="4876920"/>
            <a:ext cx="1957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ve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5160" y="5867280"/>
            <a:ext cx="622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609480" y="304920"/>
            <a:ext cx="8001000" cy="1523880"/>
            <a:chOff x="609480" y="304920"/>
            <a:chExt cx="8001000" cy="1523880"/>
          </a:xfrm>
        </p:grpSpPr>
        <p:sp>
          <p:nvSpPr>
            <p:cNvPr id="172" name=""/>
            <p:cNvSpPr/>
            <p:nvPr/>
          </p:nvSpPr>
          <p:spPr>
            <a:xfrm>
              <a:off x="2480400" y="669960"/>
              <a:ext cx="467028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Los días de fiest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7358040" y="304920"/>
              <a:ext cx="1252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609480" y="380880"/>
              <a:ext cx="1676520" cy="13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 txBox="1"/>
          <p:nvPr/>
        </p:nvSpPr>
        <p:spPr>
          <a:xfrm>
            <a:off x="1447920" y="3276720"/>
            <a:ext cx="27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a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0" y="5867280"/>
            <a:ext cx="3276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El cumpleañ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029200" y="3276720"/>
            <a:ext cx="33242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l Año Nuev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486400" y="2209680"/>
            <a:ext cx="2728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La Noche Viej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2286000"/>
            <a:ext cx="3276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Nochebuen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8080" y="4800600"/>
            <a:ext cx="653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l Día de los Reyes Mag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pull dir="ru"/>
    <p:sndAc>
      <p:stSnd>
        <p:snd r:embed="rId5" name="projctor.wav"/>
      </p:stSnd>
    </p:sndAc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609480" y="380880"/>
            <a:ext cx="6307920" cy="5791320"/>
            <a:chOff x="609480" y="380880"/>
            <a:chExt cx="6307920" cy="5791320"/>
          </a:xfrm>
        </p:grpSpPr>
        <p:sp>
          <p:nvSpPr>
            <p:cNvPr id="182" name=""/>
            <p:cNvSpPr/>
            <p:nvPr/>
          </p:nvSpPr>
          <p:spPr>
            <a:xfrm>
              <a:off x="2275560" y="380880"/>
              <a:ext cx="4641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El día de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tu santo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609480" y="1905120"/>
              <a:ext cx="3562560" cy="42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4572000" y="2352600"/>
            <a:ext cx="419112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panic people are oft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after a Cathol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often celebrate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birthday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cumple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¡Feliz cumpleañ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día de su s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¡Feliz día de tu san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5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11280" y="533520"/>
            <a:ext cx="3010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4840" y="990720"/>
            <a:ext cx="372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1520" y="1752480"/>
            <a:ext cx="394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fue ante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32560" y="2438280"/>
            <a:ext cx="4318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fecha de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4120" y="3276720"/>
            <a:ext cx="5029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fecha de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3200" y="3976560"/>
            <a:ext cx="4732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ndo es tu cumpleañ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40240" y="4586400"/>
            <a:ext cx="406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tu día favori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3400" y="5195880"/>
            <a:ext cx="4990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pasado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56440" y="5958000"/>
            <a:ext cx="4237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tu mes favori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1" name="projctor.wav"/>
      </p:stSnd>
    </p:sndAc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380880"/>
            <a:ext cx="8382240" cy="2971800"/>
            <a:chOff x="380880" y="380880"/>
            <a:chExt cx="8382240" cy="2971800"/>
          </a:xfrm>
        </p:grpSpPr>
        <p:sp>
          <p:nvSpPr>
            <p:cNvPr id="47" name=""/>
            <p:cNvSpPr/>
            <p:nvPr/>
          </p:nvSpPr>
          <p:spPr>
            <a:xfrm>
              <a:off x="380880" y="380880"/>
              <a:ext cx="8382240" cy="2971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0880" y="380880"/>
              <a:ext cx="8382240" cy="1067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 u="sng">
                  <a:solidFill>
                    <a:srgbClr val="000000"/>
                  </a:solidFill>
                  <a:uFillTx/>
                  <a:latin typeface="Harrington"/>
                </a:rPr>
                <a:t>Los Días de la Seman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233676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7788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320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3848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703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673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661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39120" y="160020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82040" y="2590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m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98320" y="1600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miérc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72880" y="259092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ju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78080" y="16002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vi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68240" y="25909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sá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43560" y="16002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domi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2666880" cy="2160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33640" y="3732120"/>
            <a:ext cx="58068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s of the week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ays are mascu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“el” or “los” to say “on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áb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oming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plu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s sáb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s domin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spanic calendar begin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l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685800" y="380880"/>
            <a:ext cx="8037360" cy="6153120"/>
            <a:chOff x="685800" y="380880"/>
            <a:chExt cx="8037360" cy="6153120"/>
          </a:xfrm>
        </p:grpSpPr>
        <p:grpSp>
          <p:nvGrpSpPr>
            <p:cNvPr id="66" name=""/>
            <p:cNvGrpSpPr/>
            <p:nvPr/>
          </p:nvGrpSpPr>
          <p:grpSpPr>
            <a:xfrm>
              <a:off x="685800" y="380880"/>
              <a:ext cx="7737840" cy="1981440"/>
              <a:chOff x="685800" y="380880"/>
              <a:chExt cx="7737840" cy="1981440"/>
            </a:xfrm>
          </p:grpSpPr>
          <p:pic>
            <p:nvPicPr>
              <p:cNvPr id="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380880"/>
                <a:ext cx="16300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2489760" y="604800"/>
                <a:ext cx="5933880" cy="155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Vocabulario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sobre el calendario…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6477120" y="4800600"/>
              <a:ext cx="2246040" cy="17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2560680" y="4267080"/>
            <a:ext cx="75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6200" y="4876920"/>
            <a:ext cx="1467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70320" y="362736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9040" y="5486400"/>
            <a:ext cx="2734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ado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0" y="3017880"/>
            <a:ext cx="156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4840" y="4267080"/>
            <a:ext cx="105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5200" y="4876920"/>
            <a:ext cx="1663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4200" y="3627360"/>
            <a:ext cx="172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4840" y="5486400"/>
            <a:ext cx="1666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af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53840" y="3017880"/>
            <a:ext cx="3509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before 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16560" y="426708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685800" y="380880"/>
            <a:ext cx="8037360" cy="6153120"/>
            <a:chOff x="685800" y="380880"/>
            <a:chExt cx="8037360" cy="6153120"/>
          </a:xfrm>
        </p:grpSpPr>
        <p:grpSp>
          <p:nvGrpSpPr>
            <p:cNvPr id="82" name=""/>
            <p:cNvGrpSpPr/>
            <p:nvPr/>
          </p:nvGrpSpPr>
          <p:grpSpPr>
            <a:xfrm>
              <a:off x="685800" y="380880"/>
              <a:ext cx="7737840" cy="1981440"/>
              <a:chOff x="685800" y="380880"/>
              <a:chExt cx="7737840" cy="1981440"/>
            </a:xfrm>
          </p:grpSpPr>
          <p:pic>
            <p:nvPicPr>
              <p:cNvPr id="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380880"/>
                <a:ext cx="16300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2489760" y="604800"/>
                <a:ext cx="5933880" cy="155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Más</a:t>
                </a: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 vocabulario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sobre el calendario…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6629400" y="4917960"/>
              <a:ext cx="2093760" cy="16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345600" y="3687840"/>
            <a:ext cx="3467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emana que v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8280" y="4297320"/>
            <a:ext cx="2379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os los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4160" y="3048120"/>
            <a:ext cx="3091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emana pa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37960" y="5486400"/>
            <a:ext cx="176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rim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8720" y="2438280"/>
            <a:ext cx="279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fin de se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97720" y="3687840"/>
            <a:ext cx="178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95560" y="4297320"/>
            <a:ext cx="172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7080" y="3048120"/>
            <a:ext cx="166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98080" y="5486400"/>
            <a:ext cx="176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7800" y="2438280"/>
            <a:ext cx="2199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ek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69080" y="403848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4890960"/>
            <a:ext cx="67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9240" y="4876920"/>
            <a:ext cx="813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43400" y="403200"/>
            <a:ext cx="588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estaciones del añ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38080" y="1295280"/>
            <a:ext cx="2971800" cy="2210760"/>
            <a:chOff x="838080" y="1295280"/>
            <a:chExt cx="2971800" cy="22107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838080" y="1295280"/>
              <a:ext cx="29718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06240" y="3046320"/>
              <a:ext cx="1567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invier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791320" y="1066680"/>
            <a:ext cx="2057400" cy="2439360"/>
            <a:chOff x="5791320" y="1066680"/>
            <a:chExt cx="2057400" cy="24393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791320" y="1066680"/>
              <a:ext cx="20574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935680" y="3046320"/>
              <a:ext cx="1857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primav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295280" y="3886200"/>
            <a:ext cx="2024280" cy="2591640"/>
            <a:chOff x="1295280" y="3886200"/>
            <a:chExt cx="2024280" cy="2591640"/>
          </a:xfrm>
        </p:grpSpPr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1295280" y="3886200"/>
              <a:ext cx="2024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573200" y="6018120"/>
              <a:ext cx="1433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vera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141960" y="3886200"/>
            <a:ext cx="1478160" cy="2591640"/>
            <a:chOff x="6141960" y="3886200"/>
            <a:chExt cx="1478160" cy="2591640"/>
          </a:xfrm>
        </p:grpSpPr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6141960" y="3886200"/>
              <a:ext cx="14781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229080" y="6018120"/>
              <a:ext cx="1264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otoñ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  <p:sndAc>
      <p:stSnd>
        <p:snd r:embed="rId5" name="projcto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295280" y="487440"/>
            <a:ext cx="2210040" cy="2712960"/>
            <a:chOff x="1295280" y="487440"/>
            <a:chExt cx="2210040" cy="27129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22100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692720" y="487440"/>
              <a:ext cx="15004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c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ebr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019920" y="380880"/>
            <a:ext cx="1600200" cy="2755080"/>
            <a:chOff x="6019920" y="380880"/>
            <a:chExt cx="1600200" cy="275508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6019920" y="380880"/>
              <a:ext cx="160020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285240" y="1944720"/>
              <a:ext cx="10281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rz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br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76520" y="3544920"/>
            <a:ext cx="1498320" cy="3008160"/>
            <a:chOff x="1676520" y="3544920"/>
            <a:chExt cx="1498320" cy="30081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1676520" y="5029200"/>
              <a:ext cx="1498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893240" y="3544920"/>
              <a:ext cx="10951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n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l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o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941800" y="3657600"/>
            <a:ext cx="1688040" cy="2713680"/>
            <a:chOff x="5941800" y="3657600"/>
            <a:chExt cx="1688040" cy="2713680"/>
          </a:xfrm>
        </p:grpSpPr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6248520" y="3657600"/>
              <a:ext cx="10238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941800" y="5180040"/>
              <a:ext cx="168804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pt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tu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v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  <p:sndAc>
      <p:stSnd>
        <p:snd r:embed="rId5" name="projctor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37600" y="380880"/>
            <a:ext cx="690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estaciones y los mes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638680" y="23842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520" y="2381400"/>
            <a:ext cx="48924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 and month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d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d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, except after “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imavera” is the on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inine s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spelling / pronu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8120" y="9637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eas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6240" y="9637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mont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545480" y="299880"/>
            <a:ext cx="6078600" cy="1702080"/>
            <a:chOff x="1545480" y="299880"/>
            <a:chExt cx="6078600" cy="170208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505320" y="1066680"/>
              <a:ext cx="205740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545480" y="299880"/>
              <a:ext cx="6078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¿Cuál es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la fecha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 de hoy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82680" y="2160720"/>
            <a:ext cx="794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88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5680" y="2158920"/>
            <a:ext cx="695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920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19200" y="2158920"/>
            <a:ext cx="1387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20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6960" y="2158920"/>
            <a:ext cx="81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872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4000" y="2158920"/>
            <a:ext cx="1169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66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52080" y="2158920"/>
            <a:ext cx="81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96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50520" y="215892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05800" y="2895480"/>
            <a:ext cx="5421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15 de octubre de 19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ñana es el 23 de mayo de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ayer fue el 10 de abril de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7600" y="4876920"/>
            <a:ext cx="628884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owev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25 de ener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ado mañana es el 2 de juli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0560" y="1676520"/>
            <a:ext cx="7735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primero”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 first day of any mon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39320" y="2209680"/>
            <a:ext cx="599724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m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ener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cumpleaños es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m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ag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505320"/>
            <a:ext cx="66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ate,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es fir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2240" y="4089240"/>
            <a:ext cx="4453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4 de julio de 19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/ 7 / 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 . 7 .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350080" y="380880"/>
            <a:ext cx="4470840" cy="6172200"/>
            <a:chOff x="2350080" y="380880"/>
            <a:chExt cx="4470840" cy="6172200"/>
          </a:xfrm>
        </p:grpSpPr>
        <p:sp>
          <p:nvSpPr>
            <p:cNvPr id="152" name=""/>
            <p:cNvSpPr/>
            <p:nvPr/>
          </p:nvSpPr>
          <p:spPr>
            <a:xfrm>
              <a:off x="2350080" y="380880"/>
              <a:ext cx="4470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La fecha (cont’d)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3095640" y="5089680"/>
              <a:ext cx="3000240" cy="1463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  <p:sndAc>
      <p:stSnd>
        <p:snd r:embed="rId2" name="projctor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0:41:34Z</dcterms:created>
  <dc:creator>Saint John's Hgh School</dc:creator>
  <dc:description/>
  <dc:language>en-US</dc:language>
  <cp:lastModifiedBy>CSeccombe</cp:lastModifiedBy>
  <dcterms:modified xsi:type="dcterms:W3CDTF">2005-04-05T20:06:43Z</dcterms:modified>
  <cp:revision>68</cp:revision>
  <dc:subject/>
  <dc:title>PowerPoint Presentation</dc:title>
</cp:coreProperties>
</file>