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jpeg" ContentType="image/jpeg"/>
  <Override PartName="/ppt/media/image5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1.wmf" ContentType="image/x-wmf"/>
  <Override PartName="/ppt/media/projctor.wav" ContentType="audio/x-wav"/>
  <Override PartName="/ppt/media/image8.wmf" ContentType="image/x-wmf"/>
  <Override PartName="/ppt/media/image12.wmf" ContentType="image/x-wmf"/>
  <Override PartName="/ppt/media/image2.wmf" ContentType="image/x-wmf"/>
  <Override PartName="/ppt/media/clap.wav" ContentType="audio/x-wav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825A-3FA7-43AE-AB66-A2D29ACB0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C770-5E3D-4595-9C76-CE3B0933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4F8E-DE76-448F-AF8D-DD9CF4FB0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3639-EA14-4D37-97D0-E2EB4A40E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8228-5FB1-467F-BEBE-E823D6DB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28D8-9AED-4842-82BD-4BA7C890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810C-49FD-4AC3-92B9-48C943FA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6F0B-AFD1-48E0-B8C6-EC5CF879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F6D7-5D29-4729-B64C-E4D4901E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10D0-8BDD-4D51-B2D9-521049BE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FC19-1722-4291-8B82-32AEBFD0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D18C-0C57-4E87-B445-656A8218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228600"/>
            <a:ext cx="8534160" cy="64008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5e0000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721 Ex B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721 Ex B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721 Ex B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721 Ex B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Swis721 Ex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721 Ex B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Swis721 Ex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721 Ex B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Swis721 Ex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721 Ex B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5DAB-1C09-4A9F-B448-56568D46A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audio" Target="../media/projctor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35120" y="533520"/>
            <a:ext cx="2236680" cy="2286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105520" y="638280"/>
            <a:ext cx="3289320" cy="2028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57280" y="3846600"/>
            <a:ext cx="2262240" cy="2401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58480" y="4295880"/>
            <a:ext cx="4073040" cy="15562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El Calendari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Españo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4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1371600" y="304920"/>
            <a:ext cx="6397560" cy="1241280"/>
            <a:chOff x="1371600" y="304920"/>
            <a:chExt cx="6397560" cy="1241280"/>
          </a:xfrm>
        </p:grpSpPr>
        <p:sp>
          <p:nvSpPr>
            <p:cNvPr id="155" name=""/>
            <p:cNvSpPr/>
            <p:nvPr/>
          </p:nvSpPr>
          <p:spPr>
            <a:xfrm>
              <a:off x="3110760" y="380880"/>
              <a:ext cx="2971080" cy="947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Un repaso brev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e </a:t>
              </a:r>
              <a:r>
                <a:rPr b="0" i="1" lang="en-US" sz="2800" spc="-1" strike="noStrike" u="sng">
                  <a:solidFill>
                    <a:srgbClr val="ffffff"/>
                  </a:solidFill>
                  <a:uFillTx/>
                  <a:latin typeface="Arial"/>
                </a:rPr>
                <a:t>los números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1371600" y="304920"/>
              <a:ext cx="1368360" cy="12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6400800" y="304920"/>
              <a:ext cx="1368360" cy="124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"/>
          <p:cNvGrpSpPr/>
          <p:nvPr/>
        </p:nvGrpSpPr>
        <p:grpSpPr>
          <a:xfrm>
            <a:off x="1374840" y="1814400"/>
            <a:ext cx="6597000" cy="1922760"/>
            <a:chOff x="1374840" y="1814400"/>
            <a:chExt cx="6597000" cy="1922760"/>
          </a:xfrm>
        </p:grpSpPr>
        <p:sp>
          <p:nvSpPr>
            <p:cNvPr id="159" name=""/>
            <p:cNvSpPr/>
            <p:nvPr/>
          </p:nvSpPr>
          <p:spPr>
            <a:xfrm>
              <a:off x="1374840" y="1814400"/>
              <a:ext cx="1483920" cy="1922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ie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vei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rei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uare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incue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33440" y="1814400"/>
              <a:ext cx="1264320" cy="1922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ese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ete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oche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ove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i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57680" y="1816200"/>
              <a:ext cx="3314160" cy="1557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iento u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iento treinta y cuat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iento noventa y nue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11280" y="4191120"/>
            <a:ext cx="1788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osc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45160" y="5029200"/>
            <a:ext cx="1806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resc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5320" y="5867280"/>
            <a:ext cx="2178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uatroc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10520" y="4038480"/>
            <a:ext cx="1721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quin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40640" y="5029200"/>
            <a:ext cx="1840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isc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42480" y="5867280"/>
            <a:ext cx="185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tec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16760" y="3962520"/>
            <a:ext cx="197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choc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74320" y="4876920"/>
            <a:ext cx="1957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ovec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25160" y="5867280"/>
            <a:ext cx="622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3" name="projctor.wav"/>
      </p:stSnd>
    </p:sndAc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350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6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80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95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609480" y="304920"/>
            <a:ext cx="8001000" cy="1523880"/>
            <a:chOff x="609480" y="304920"/>
            <a:chExt cx="8001000" cy="1523880"/>
          </a:xfrm>
        </p:grpSpPr>
        <p:sp>
          <p:nvSpPr>
            <p:cNvPr id="172" name=""/>
            <p:cNvSpPr/>
            <p:nvPr/>
          </p:nvSpPr>
          <p:spPr>
            <a:xfrm>
              <a:off x="2480400" y="669960"/>
              <a:ext cx="467028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Los días de fiesta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1"/>
            <a:stretch/>
          </p:blipFill>
          <p:spPr>
            <a:xfrm>
              <a:off x="7358040" y="304920"/>
              <a:ext cx="1252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2"/>
            <a:stretch/>
          </p:blipFill>
          <p:spPr>
            <a:xfrm>
              <a:off x="609480" y="380880"/>
              <a:ext cx="1676520" cy="136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"/>
          <p:cNvSpPr txBox="1"/>
          <p:nvPr/>
        </p:nvSpPr>
        <p:spPr>
          <a:xfrm>
            <a:off x="1447920" y="3276720"/>
            <a:ext cx="279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a Navida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286000" y="5867280"/>
            <a:ext cx="32767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El cumpleaño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029200" y="3276720"/>
            <a:ext cx="332424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El Año Nuev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486400" y="2209680"/>
            <a:ext cx="272880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rial Black"/>
              </a:rPr>
              <a:t>La Noche Vieja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33520" y="2286000"/>
            <a:ext cx="3276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a Nochebuen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838080" y="4800600"/>
            <a:ext cx="653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El Día de los Reyes Mag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>
    <p:pull dir="ru"/>
    <p:sndAc>
      <p:stSnd>
        <p:snd r:embed="rId5" name="projctor.wav"/>
      </p:stSnd>
    </p:sndAc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609480" y="380880"/>
            <a:ext cx="6307920" cy="5791320"/>
            <a:chOff x="609480" y="380880"/>
            <a:chExt cx="6307920" cy="5791320"/>
          </a:xfrm>
        </p:grpSpPr>
        <p:sp>
          <p:nvSpPr>
            <p:cNvPr id="182" name=""/>
            <p:cNvSpPr/>
            <p:nvPr/>
          </p:nvSpPr>
          <p:spPr>
            <a:xfrm>
              <a:off x="2275560" y="380880"/>
              <a:ext cx="464184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El día de </a:t>
              </a:r>
              <a:r>
                <a:rPr b="0" i="1" lang="en-US" sz="4000" spc="-1" strike="noStrike" u="sng">
                  <a:solidFill>
                    <a:srgbClr val="ffffff"/>
                  </a:solidFill>
                  <a:uFillTx/>
                  <a:latin typeface="Arial"/>
                </a:rPr>
                <a:t>tu santo</a:t>
              </a: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609480" y="1905120"/>
              <a:ext cx="3562560" cy="426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"/>
          <p:cNvSpPr/>
          <p:nvPr/>
        </p:nvSpPr>
        <p:spPr>
          <a:xfrm>
            <a:off x="4572000" y="2352600"/>
            <a:ext cx="419112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panic people are ofte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d after a Catholic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often celebrate 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birthday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 cumple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¡Feliz cumpleañ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día de su sa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¡Feliz día de tu sant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2" name="projctor.wav"/>
      </p:stSnd>
    </p:sndAc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7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7500"/>
                            </p:stCondLst>
                            <p:childTnLst>
                              <p:par>
                                <p:cTn id="582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7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4500"/>
                            </p:stCondLst>
                            <p:childTnLst>
                              <p:par>
                                <p:cTn id="592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7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11280" y="533520"/>
            <a:ext cx="3010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Qué día es ho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84840" y="990720"/>
            <a:ext cx="3722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Qué día es mañan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21520" y="1752480"/>
            <a:ext cx="394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Qué día fue anteay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32560" y="2438280"/>
            <a:ext cx="4318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uál es la fecha de ho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4120" y="3276720"/>
            <a:ext cx="5029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uál es la fecha de mañan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53200" y="3976560"/>
            <a:ext cx="4732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uándo es tu cumpleañ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40240" y="4586400"/>
            <a:ext cx="4060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uál es tu día favori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43400" y="5195880"/>
            <a:ext cx="4990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Qué día es pasado mañan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56440" y="5958000"/>
            <a:ext cx="4237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uál es tu mes favori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1" name="projctor.wav"/>
      </p:stSnd>
    </p:sndAc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380880" y="380880"/>
            <a:ext cx="8382240" cy="2971800"/>
            <a:chOff x="380880" y="380880"/>
            <a:chExt cx="8382240" cy="2971800"/>
          </a:xfrm>
        </p:grpSpPr>
        <p:sp>
          <p:nvSpPr>
            <p:cNvPr id="47" name=""/>
            <p:cNvSpPr/>
            <p:nvPr/>
          </p:nvSpPr>
          <p:spPr>
            <a:xfrm>
              <a:off x="380880" y="380880"/>
              <a:ext cx="8382240" cy="2971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80880" y="380880"/>
              <a:ext cx="8382240" cy="1067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 u="sng">
                  <a:solidFill>
                    <a:srgbClr val="000000"/>
                  </a:solidFill>
                  <a:uFillTx/>
                  <a:latin typeface="Harrington"/>
                </a:rPr>
                <a:t>Los Días de la Semana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80880" y="2336760"/>
              <a:ext cx="838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77880" y="1440000"/>
              <a:ext cx="0" cy="19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43200" y="1440000"/>
              <a:ext cx="0" cy="19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38480" y="1440000"/>
              <a:ext cx="0" cy="19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170320" y="1440000"/>
              <a:ext cx="0" cy="19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367320" y="1440000"/>
              <a:ext cx="0" cy="19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566120" y="1440000"/>
              <a:ext cx="0" cy="19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39120" y="1600200"/>
            <a:ext cx="13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el lu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82040" y="259092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el m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98320" y="160020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el miérc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72880" y="2590920"/>
            <a:ext cx="15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el jue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978080" y="160020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el vier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68240" y="259092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el sáb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243560" y="160020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el domin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04920" y="3962520"/>
            <a:ext cx="2666880" cy="2160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933640" y="3732120"/>
            <a:ext cx="580680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ys of the week a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pit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days are mascu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“el” or “los” to say “on…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áb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oming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ve plu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os sáb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os domin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ispanic calendar begin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l lu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3" name="projctor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5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4500"/>
                            </p:stCondLst>
                            <p:childTnLst>
                              <p:par>
                                <p:cTn id="51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8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15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0"/>
                            </p:stCondLst>
                            <p:childTnLst>
                              <p:par>
                                <p:cTn id="66" nodeType="afterEffect" fill="hold" presetClass="entr" presetID="2" presetSubtype="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685800" y="380880"/>
            <a:ext cx="8037360" cy="6153120"/>
            <a:chOff x="685800" y="380880"/>
            <a:chExt cx="8037360" cy="6153120"/>
          </a:xfrm>
        </p:grpSpPr>
        <p:grpSp>
          <p:nvGrpSpPr>
            <p:cNvPr id="66" name=""/>
            <p:cNvGrpSpPr/>
            <p:nvPr/>
          </p:nvGrpSpPr>
          <p:grpSpPr>
            <a:xfrm>
              <a:off x="685800" y="380880"/>
              <a:ext cx="7737840" cy="1981440"/>
              <a:chOff x="685800" y="380880"/>
              <a:chExt cx="7737840" cy="1981440"/>
            </a:xfrm>
          </p:grpSpPr>
          <p:pic>
            <p:nvPicPr>
              <p:cNvPr id="6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85800" y="380880"/>
                <a:ext cx="16300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"/>
              <p:cNvSpPr/>
              <p:nvPr/>
            </p:nvSpPr>
            <p:spPr>
              <a:xfrm>
                <a:off x="2489760" y="604800"/>
                <a:ext cx="5933880" cy="1556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fffff"/>
                    </a:solidFill>
                    <a:latin typeface="Arial"/>
                  </a:rPr>
                  <a:t>Vocabulario 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fffff"/>
                    </a:solidFill>
                    <a:latin typeface="Arial"/>
                  </a:rPr>
                  <a:t>sobre el calendario…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6477120" y="4800600"/>
              <a:ext cx="2246040" cy="173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"/>
          <p:cNvSpPr/>
          <p:nvPr/>
        </p:nvSpPr>
        <p:spPr>
          <a:xfrm>
            <a:off x="2560680" y="4267080"/>
            <a:ext cx="755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6200" y="4876920"/>
            <a:ext cx="1467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ñ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70320" y="3627360"/>
            <a:ext cx="874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9040" y="5486400"/>
            <a:ext cx="2734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ado mañ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92800" y="3017880"/>
            <a:ext cx="1567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e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4840" y="4267080"/>
            <a:ext cx="1052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45200" y="4876920"/>
            <a:ext cx="1663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mo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54200" y="3627360"/>
            <a:ext cx="1726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44840" y="5486400"/>
            <a:ext cx="16668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y af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mo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53840" y="3017880"/>
            <a:ext cx="3509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y before yester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16560" y="4267080"/>
            <a:ext cx="388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3" name="projctor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7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685800" y="380880"/>
            <a:ext cx="8037360" cy="6153120"/>
            <a:chOff x="685800" y="380880"/>
            <a:chExt cx="8037360" cy="6153120"/>
          </a:xfrm>
        </p:grpSpPr>
        <p:grpSp>
          <p:nvGrpSpPr>
            <p:cNvPr id="82" name=""/>
            <p:cNvGrpSpPr/>
            <p:nvPr/>
          </p:nvGrpSpPr>
          <p:grpSpPr>
            <a:xfrm>
              <a:off x="685800" y="380880"/>
              <a:ext cx="7737840" cy="1981440"/>
              <a:chOff x="685800" y="380880"/>
              <a:chExt cx="7737840" cy="1981440"/>
            </a:xfrm>
          </p:grpSpPr>
          <p:pic>
            <p:nvPicPr>
              <p:cNvPr id="8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85800" y="380880"/>
                <a:ext cx="16300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"/>
              <p:cNvSpPr/>
              <p:nvPr/>
            </p:nvSpPr>
            <p:spPr>
              <a:xfrm>
                <a:off x="2489760" y="604800"/>
                <a:ext cx="5933880" cy="1556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8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Más</a:t>
                </a:r>
                <a:r>
                  <a:rPr b="0" lang="en-US" sz="4800" spc="-1" strike="noStrike">
                    <a:solidFill>
                      <a:srgbClr val="ffffff"/>
                    </a:solidFill>
                    <a:latin typeface="Arial"/>
                  </a:rPr>
                  <a:t> vocabulario 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fffff"/>
                    </a:solidFill>
                    <a:latin typeface="Arial"/>
                  </a:rPr>
                  <a:t>sobre el calendario…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6629400" y="4917960"/>
              <a:ext cx="2093760" cy="161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"/>
          <p:cNvSpPr/>
          <p:nvPr/>
        </p:nvSpPr>
        <p:spPr>
          <a:xfrm>
            <a:off x="345600" y="3687840"/>
            <a:ext cx="3467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semana que vi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8280" y="4297320"/>
            <a:ext cx="2379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dos los d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4160" y="3048120"/>
            <a:ext cx="3091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semana pas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37960" y="5486400"/>
            <a:ext cx="176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prim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08720" y="2438280"/>
            <a:ext cx="2794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fin de se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97720" y="3687840"/>
            <a:ext cx="1783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xt we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95560" y="4297320"/>
            <a:ext cx="1726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07080" y="3048120"/>
            <a:ext cx="1665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st we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98080" y="5486400"/>
            <a:ext cx="176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irst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n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07800" y="2438280"/>
            <a:ext cx="2199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eek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69080" y="4038480"/>
            <a:ext cx="388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32000" y="4890960"/>
            <a:ext cx="676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09240" y="4876920"/>
            <a:ext cx="813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3" name="projctor.wav"/>
      </p:stSnd>
    </p:sndAc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7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8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43400" y="403200"/>
            <a:ext cx="5882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s estaciones del año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838080" y="1295280"/>
            <a:ext cx="2971800" cy="2210760"/>
            <a:chOff x="838080" y="1295280"/>
            <a:chExt cx="2971800" cy="221076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838080" y="1295280"/>
              <a:ext cx="2971800" cy="16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506240" y="3046320"/>
              <a:ext cx="15674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l invier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791320" y="1066680"/>
            <a:ext cx="2057400" cy="2439360"/>
            <a:chOff x="5791320" y="1066680"/>
            <a:chExt cx="2057400" cy="2439360"/>
          </a:xfrm>
        </p:grpSpPr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5791320" y="1066680"/>
              <a:ext cx="2057400" cy="18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935680" y="3046320"/>
              <a:ext cx="18572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a primave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295280" y="3886200"/>
            <a:ext cx="2024280" cy="2591640"/>
            <a:chOff x="1295280" y="3886200"/>
            <a:chExt cx="2024280" cy="2591640"/>
          </a:xfrm>
        </p:grpSpPr>
        <p:pic>
          <p:nvPicPr>
            <p:cNvPr id="107" name="" descr=""/>
            <p:cNvPicPr/>
            <p:nvPr/>
          </p:nvPicPr>
          <p:blipFill>
            <a:blip r:embed="rId3"/>
            <a:stretch/>
          </p:blipFill>
          <p:spPr>
            <a:xfrm>
              <a:off x="1295280" y="3886200"/>
              <a:ext cx="202428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573200" y="6018120"/>
              <a:ext cx="14335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l vera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6141960" y="3886200"/>
            <a:ext cx="1478160" cy="2591640"/>
            <a:chOff x="6141960" y="3886200"/>
            <a:chExt cx="1478160" cy="2591640"/>
          </a:xfrm>
        </p:grpSpPr>
        <p:pic>
          <p:nvPicPr>
            <p:cNvPr id="110" name="" descr=""/>
            <p:cNvPicPr/>
            <p:nvPr/>
          </p:nvPicPr>
          <p:blipFill>
            <a:blip r:embed="rId4"/>
            <a:stretch/>
          </p:blipFill>
          <p:spPr>
            <a:xfrm>
              <a:off x="6141960" y="3886200"/>
              <a:ext cx="147816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229080" y="6018120"/>
              <a:ext cx="12643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l otoñ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ru"/>
    <p:sndAc>
      <p:stSnd>
        <p:snd r:embed="rId5" name="projctor.wav"/>
      </p:stSnd>
    </p:sndAc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85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1295280" y="487440"/>
            <a:ext cx="2210040" cy="2712960"/>
            <a:chOff x="1295280" y="487440"/>
            <a:chExt cx="2210040" cy="271296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1295280" y="1981080"/>
              <a:ext cx="22100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692720" y="487440"/>
              <a:ext cx="150048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iciemb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n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ebr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019920" y="380880"/>
            <a:ext cx="1600200" cy="2755080"/>
            <a:chOff x="6019920" y="380880"/>
            <a:chExt cx="1600200" cy="2755080"/>
          </a:xfrm>
        </p:grpSpPr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6019920" y="380880"/>
              <a:ext cx="1600200" cy="14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6285240" y="1944720"/>
              <a:ext cx="102816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arz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br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ay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676520" y="3544920"/>
            <a:ext cx="1498320" cy="3008160"/>
            <a:chOff x="1676520" y="3544920"/>
            <a:chExt cx="1498320" cy="3008160"/>
          </a:xfrm>
        </p:grpSpPr>
        <p:pic>
          <p:nvPicPr>
            <p:cNvPr id="119" name="" descr=""/>
            <p:cNvPicPr/>
            <p:nvPr/>
          </p:nvPicPr>
          <p:blipFill>
            <a:blip r:embed="rId3"/>
            <a:stretch/>
          </p:blipFill>
          <p:spPr>
            <a:xfrm>
              <a:off x="1676520" y="5029200"/>
              <a:ext cx="14983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1893240" y="3544920"/>
              <a:ext cx="109512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jun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jul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gos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941800" y="3657600"/>
            <a:ext cx="1688040" cy="2713680"/>
            <a:chOff x="5941800" y="3657600"/>
            <a:chExt cx="1688040" cy="2713680"/>
          </a:xfrm>
        </p:grpSpPr>
        <p:pic>
          <p:nvPicPr>
            <p:cNvPr id="122" name="" descr=""/>
            <p:cNvPicPr/>
            <p:nvPr/>
          </p:nvPicPr>
          <p:blipFill>
            <a:blip r:embed="rId4"/>
            <a:stretch/>
          </p:blipFill>
          <p:spPr>
            <a:xfrm>
              <a:off x="6248520" y="3657600"/>
              <a:ext cx="102384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5941800" y="5180040"/>
              <a:ext cx="168804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eptiemb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octub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oviemb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ru"/>
    <p:sndAc>
      <p:stSnd>
        <p:snd r:embed="rId5" name="projctor.wav"/>
      </p:stSnd>
    </p:sndAc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37600" y="380880"/>
            <a:ext cx="690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s estaciones y los mese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638680" y="2384280"/>
            <a:ext cx="2525760" cy="3407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33520" y="2381400"/>
            <a:ext cx="489240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sons and months ar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icles ar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sed wit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icles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sed wit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sons, except after “e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rimavera” is the onl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minine sea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ch spelling / pronun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78120" y="963720"/>
            <a:ext cx="11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seas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6240" y="96372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month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2" name="projctor.wav"/>
      </p:stSnd>
    </p:sndAc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000"/>
                            </p:stCondLst>
                            <p:childTnLst>
                              <p:par>
                                <p:cTn id="31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70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1545480" y="299880"/>
            <a:ext cx="6078600" cy="1702080"/>
            <a:chOff x="1545480" y="299880"/>
            <a:chExt cx="6078600" cy="170208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3505320" y="1066680"/>
              <a:ext cx="2057400" cy="9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545480" y="299880"/>
              <a:ext cx="607860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¿Cuál es </a:t>
              </a:r>
              <a:r>
                <a:rPr b="0" i="1" lang="en-US" sz="4000" spc="-1" strike="noStrike" u="sng">
                  <a:solidFill>
                    <a:srgbClr val="ffffff"/>
                  </a:solidFill>
                  <a:uFillTx/>
                  <a:latin typeface="Arial"/>
                </a:rPr>
                <a:t>la fecha</a:t>
              </a: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 de hoy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82680" y="2160720"/>
            <a:ext cx="794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8840" y="2158920"/>
            <a:ext cx="388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35680" y="2158920"/>
            <a:ext cx="695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59200" y="2158920"/>
            <a:ext cx="388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19200" y="2158920"/>
            <a:ext cx="1387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12040" y="2158920"/>
            <a:ext cx="388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16960" y="2158920"/>
            <a:ext cx="814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8720" y="2158920"/>
            <a:ext cx="388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84000" y="2158920"/>
            <a:ext cx="1169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6640" y="2158920"/>
            <a:ext cx="388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52080" y="2158920"/>
            <a:ext cx="814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469640" y="2158920"/>
            <a:ext cx="388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50520" y="2158920"/>
            <a:ext cx="874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05800" y="2895480"/>
            <a:ext cx="54212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y es el 15 de octubre de 198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ñana es el 23 de mayo de 199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eayer fue el 10 de abril de 199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07600" y="4876920"/>
            <a:ext cx="6288840" cy="149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Howeve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y es el 25 de enero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ado mañana es el 2 de julio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2" name="projctor.wav"/>
      </p:stSnd>
    </p:sndAc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40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5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5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60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65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7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7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8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8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90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9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10560" y="1676520"/>
            <a:ext cx="7735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“primero” (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º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the first day of any mon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39320" y="2209680"/>
            <a:ext cx="5997240" cy="88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y es 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imer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enero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 cumpleaños es 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imer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ag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3505320"/>
            <a:ext cx="6615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date,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a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mes fir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2240" y="4089240"/>
            <a:ext cx="44539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4 de julio de 199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/ 7 / 9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4 . 7 .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350080" y="380880"/>
            <a:ext cx="4470840" cy="6172200"/>
            <a:chOff x="2350080" y="380880"/>
            <a:chExt cx="4470840" cy="6172200"/>
          </a:xfrm>
        </p:grpSpPr>
        <p:sp>
          <p:nvSpPr>
            <p:cNvPr id="152" name=""/>
            <p:cNvSpPr/>
            <p:nvPr/>
          </p:nvSpPr>
          <p:spPr>
            <a:xfrm>
              <a:off x="2350080" y="380880"/>
              <a:ext cx="447084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La fecha (cont’d)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3095640" y="5089680"/>
              <a:ext cx="3000240" cy="1463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ll dir="ru"/>
    <p:sndAc>
      <p:stSnd>
        <p:snd r:embed="rId2" name="projctor.wav"/>
      </p:stSnd>
    </p:sndAc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6T00:41:34Z</dcterms:created>
  <dc:creator>Saint John's Hgh School</dc:creator>
  <dc:description/>
  <dc:language>en-US</dc:language>
  <cp:lastModifiedBy>CSeccombe</cp:lastModifiedBy>
  <dcterms:modified xsi:type="dcterms:W3CDTF">2005-04-05T20:06:43Z</dcterms:modified>
  <cp:revision>68</cp:revision>
  <dc:subject/>
  <dc:title>PowerPoint Presentation</dc:title>
</cp:coreProperties>
</file>