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type.wav" ContentType="audio/x-wav"/>
  <Override PartName="/ppt/media/image7.wmf" ContentType="image/x-wmf"/>
  <Override PartName="/ppt/media/chimes.wav" ContentType="audio/x-wav"/>
  <Override PartName="/ppt/media/ricochet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camera.wav" ContentType="audio/x-wav"/>
  <Override PartName="/ppt/media/image5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drumroll.wav" ContentType="audio/x-wav"/>
  <Override PartName="/ppt/media/image13.wmf" ContentType="image/x-wmf"/>
  <Override PartName="/ppt/media/whoosh.wav" ContentType="audio/x-wav"/>
  <Override PartName="/ppt/media/image12.wmf" ContentType="image/x-wmf"/>
  <Override PartName="/ppt/media/image1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  <p:custShowLst>
    <p:custShow name="Custom Show 1" id="0">
      <p:sldLst>
        <p:sld r:id="rId6"/>
      </p:sldLst>
    </p:custShow>
    <p:custShow name="Custom Show 2" id="1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76D-3531-4BB3-85C3-0642DC0F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4DB-65CF-4300-AA02-8ACD4E6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A7D-A80C-4AC7-9914-C3832DD7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507-8627-465C-86E0-BF28F798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A6E6-B0D3-4AE5-B315-14176CB8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74A-BA6F-49C2-A4D9-D40149A8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9A7-3648-404A-BF5B-B8CCE19D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0624-5832-49A3-9FD0-10232F1B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FE96-E0BC-42BB-A113-FD6E7724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D1F-E161-4442-AD0F-FF95F8D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F030-B843-4F96-8196-AC6191C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104-9951-4625-A987-84078F3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1333-EB82-4B82-8669-703ABBD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D26-EA6B-4646-9C69-087C4AF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5F6-33D5-4913-AD19-37FDF1D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C35A-A91D-4A90-88E3-1B30D674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919D-1812-413B-ACC2-90B58C1A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A09-2E36-4887-90C0-2747BE20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5DA-5937-4860-81E2-F574D56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FF2-1EE0-4F83-B217-C605CF9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B11-C140-4020-B0B8-B64C218C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753-46ED-4855-9541-077EFCB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322-3650-461F-9666-C85F9D3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00A-0CD3-4716-AA2F-255E9D6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4DC-E9AC-469D-9D0E-4D525103B4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55AA-282C-4A8C-B1F6-BAFDFEF4E6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1752480"/>
            <a:ext cx="3276720" cy="1827360"/>
            <a:chOff x="1219320" y="1752480"/>
            <a:chExt cx="3276720" cy="1827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130644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31800" y="1828800"/>
              <a:ext cx="206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14800" y="4876920"/>
            <a:ext cx="2162160" cy="1643040"/>
            <a:chOff x="4114800" y="4876920"/>
            <a:chExt cx="2162160" cy="16430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114800" y="5334120"/>
              <a:ext cx="21621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326120" y="48769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" y="4038480"/>
            <a:ext cx="1676520" cy="1983960"/>
            <a:chOff x="457200" y="4038480"/>
            <a:chExt cx="1676520" cy="19839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57200" y="403848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3120" y="55627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2080" y="2057400"/>
            <a:ext cx="3355200" cy="1752480"/>
            <a:chOff x="5392080" y="2057400"/>
            <a:chExt cx="3355200" cy="175248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7023240" y="2057400"/>
              <a:ext cx="1724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92080" y="3200400"/>
              <a:ext cx="15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54520" y="1703520"/>
            <a:ext cx="2301840" cy="703440"/>
            <a:chOff x="2954520" y="1703520"/>
            <a:chExt cx="2301840" cy="703440"/>
          </a:xfrm>
        </p:grpSpPr>
        <p:sp>
          <p:nvSpPr>
            <p:cNvPr id="98" name=""/>
            <p:cNvSpPr/>
            <p:nvPr/>
          </p:nvSpPr>
          <p:spPr>
            <a:xfrm>
              <a:off x="2954520" y="1703520"/>
              <a:ext cx="143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6200" y="1703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0040" y="2895480"/>
            <a:ext cx="391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buen / mal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í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fre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4120" y="28954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8400" y="482904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Verdana"/>
              </a:rPr>
              <a:t>(much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9040" y="228600"/>
            <a:ext cx="700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buen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3413160" cy="346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34560" y="228600"/>
            <a:ext cx="656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mal tiemp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511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98960" y="228600"/>
            <a:ext cx="26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Hace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371600" cy="135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74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14464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1752840" cy="95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905120" y="4724280"/>
            <a:ext cx="1752480" cy="138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8800" y="3384720"/>
            <a:ext cx="84816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1600" y="2851200"/>
            <a:ext cx="116064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7400" y="3917880"/>
            <a:ext cx="94572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43200" y="6172200"/>
            <a:ext cx="13374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6172200"/>
            <a:ext cx="1317600" cy="459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1" i="1" lang="en-US" sz="2400" spc="-1" strike="noStrike">
                <a:solidFill>
                  <a:srgbClr val="ff6600"/>
                </a:solidFill>
                <a:latin typeface="Verdana"/>
              </a:rPr>
              <a:t>fr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6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13760" y="1752480"/>
            <a:ext cx="5014080" cy="1219320"/>
            <a:chOff x="1913760" y="1752480"/>
            <a:chExt cx="5014080" cy="1219320"/>
          </a:xfrm>
        </p:grpSpPr>
        <p:sp>
          <p:nvSpPr>
            <p:cNvPr id="121" name=""/>
            <p:cNvSpPr/>
            <p:nvPr/>
          </p:nvSpPr>
          <p:spPr>
            <a:xfrm>
              <a:off x="1913760" y="198108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sole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715000" y="1752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891800" y="5257800"/>
            <a:ext cx="5271120" cy="1243080"/>
            <a:chOff x="1891800" y="5257800"/>
            <a:chExt cx="5271120" cy="1243080"/>
          </a:xfrm>
        </p:grpSpPr>
        <p:sp>
          <p:nvSpPr>
            <p:cNvPr id="124" name=""/>
            <p:cNvSpPr/>
            <p:nvPr/>
          </p:nvSpPr>
          <p:spPr>
            <a:xfrm>
              <a:off x="1891800" y="5715000"/>
              <a:ext cx="258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Hay neblin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638680" y="5257800"/>
              <a:ext cx="1524240" cy="12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11240" y="3733920"/>
            <a:ext cx="5403960" cy="949320"/>
            <a:chOff x="1911240" y="3733920"/>
            <a:chExt cx="5403960" cy="949320"/>
          </a:xfrm>
        </p:grpSpPr>
        <p:sp>
          <p:nvSpPr>
            <p:cNvPr id="127" name=""/>
            <p:cNvSpPr/>
            <p:nvPr/>
          </p:nvSpPr>
          <p:spPr>
            <a:xfrm>
              <a:off x="1911240" y="3886200"/>
              <a:ext cx="27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Está nubla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5410080" y="3733920"/>
              <a:ext cx="190512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  <p:sndAc>
      <p:stSnd>
        <p:snd r:embed="rId4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4840" y="228600"/>
            <a:ext cx="629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1600200"/>
            <a:ext cx="2023920" cy="2971800"/>
            <a:chOff x="1295280" y="1600200"/>
            <a:chExt cx="2023920" cy="2971800"/>
          </a:xfrm>
        </p:grpSpPr>
        <p:sp>
          <p:nvSpPr>
            <p:cNvPr id="131" name=""/>
            <p:cNvSpPr/>
            <p:nvPr/>
          </p:nvSpPr>
          <p:spPr>
            <a:xfrm>
              <a:off x="1535400" y="16002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Lluev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295280" y="2514600"/>
              <a:ext cx="202392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715000" y="1600200"/>
            <a:ext cx="2106720" cy="3124080"/>
            <a:chOff x="5715000" y="1600200"/>
            <a:chExt cx="2106720" cy="3124080"/>
          </a:xfrm>
        </p:grpSpPr>
        <p:sp>
          <p:nvSpPr>
            <p:cNvPr id="134" name=""/>
            <p:cNvSpPr/>
            <p:nvPr/>
          </p:nvSpPr>
          <p:spPr>
            <a:xfrm>
              <a:off x="6052680" y="160020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50021"/>
                  </a:solidFill>
                  <a:latin typeface="Verdana"/>
                </a:rPr>
                <a:t>Niev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715000" y="2590920"/>
              <a:ext cx="210672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1094760" y="5518080"/>
            <a:ext cx="19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llove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2680" y="5486400"/>
            <a:ext cx="19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Va a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Verdana"/>
              </a:rPr>
              <a:t>nevar</a:t>
            </a: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(La n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3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84080" y="304920"/>
            <a:ext cx="668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¿Qué temperatura h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8080" y="1828800"/>
            <a:ext cx="7975080" cy="703440"/>
            <a:chOff x="568080" y="1828800"/>
            <a:chExt cx="7975080" cy="703440"/>
          </a:xfrm>
        </p:grpSpPr>
        <p:sp>
          <p:nvSpPr>
            <p:cNvPr id="140" name=""/>
            <p:cNvSpPr/>
            <p:nvPr/>
          </p:nvSpPr>
          <p:spPr>
            <a:xfrm>
              <a:off x="568080" y="1828800"/>
              <a:ext cx="16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“</a:t>
              </a: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H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200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5720" y="1828800"/>
              <a:ext cx="195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a50021"/>
                  </a:solidFill>
                  <a:latin typeface="Verdana"/>
                </a:rPr>
                <a:t>núme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90360" y="182880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grados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7840" y="182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03440" y="2774880"/>
            <a:ext cx="3489840" cy="2697840"/>
            <a:chOff x="5203440" y="2774880"/>
            <a:chExt cx="3489840" cy="26978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620120" y="2774880"/>
              <a:ext cx="107316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203440" y="342900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95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35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3886200"/>
            <a:ext cx="3503520" cy="2666880"/>
            <a:chOff x="457200" y="3886200"/>
            <a:chExt cx="3503520" cy="266688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9270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69520" y="4267080"/>
              <a:ext cx="2491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ce 32 gr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arenhe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(Hace 0 gr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Centígrado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  <p:sndAc>
      <p:stSnd>
        <p:snd r:embed="rId3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5680" y="2286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¿Qué tiempo hac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5640" y="2013120"/>
            <a:ext cx="70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otoñ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vera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el mes de diciem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 Chile en el mes de octub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eccombe</cp:lastModifiedBy>
  <dcterms:modified xsi:type="dcterms:W3CDTF">2005-04-05T20:08:50Z</dcterms:modified>
  <cp:revision>10</cp:revision>
  <dc:subject/>
  <dc:title>PowerPoint Presentation</dc:title>
</cp:coreProperties>
</file>