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7.wmf" ContentType="image/x-wmf"/>
  <Override PartName="/ppt/media/chimes.wav" ContentType="audio/x-wav"/>
  <Override PartName="/ppt/media/ricochet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image1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Custom Show 1" id="0">
      <p:sldLst>
        <p:sld r:id="rId6"/>
      </p:sldLst>
    </p:custShow>
    <p:custShow name="Custom Show 2" id="1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868-1068-47A3-8E0C-E237B417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D28-D151-4533-B0DB-C5C3B6C3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838-0FC6-48CB-93CB-441FA12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A2F-31DE-4D3B-B044-23D7521F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643-3CF1-4AC8-B007-B738490D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9DE-B8F2-43CC-8EFB-3906610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32B-9212-4C4D-8399-3168583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1D96-F5B2-4B66-B52E-4FA254C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59E-8EAC-4B15-BE74-4D46087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B6D-CA44-42F5-BF0D-D7CBE87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C68-77B3-4C97-AA9B-D6EF6DD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607-B2D8-4ACD-9EAC-6A4C3A8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0C25-C630-4B5C-9428-D5E9425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11C-E214-4422-8A51-D0D9C8F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062-3C2D-48A0-9A71-DC0CF9A5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670A-3EEF-4E46-B2F5-2D90AFF9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5E60-5E50-4BF0-8EE3-ED18A0D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39E-F58F-405B-BE61-9C16B17C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C19-39B7-443F-9E18-A2B6BECD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D3A-98AE-4421-A3FC-77BC20E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C7B-BD4D-4A01-A3F5-5D21255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A56-7D5A-41B4-ACA0-A9E468F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C74-AB40-4E57-A17C-0CEFEE3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CCF-3EC1-4C3D-BCEC-2011299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386C-5048-48D2-A034-82C88C015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EB76-6DE4-470C-9430-36134BDA6C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1752480"/>
            <a:ext cx="3276720" cy="1827360"/>
            <a:chOff x="1219320" y="1752480"/>
            <a:chExt cx="3276720" cy="1827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31800" y="18288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14800" y="4876920"/>
            <a:ext cx="2162160" cy="1643040"/>
            <a:chOff x="4114800" y="4876920"/>
            <a:chExt cx="2162160" cy="16430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114800" y="53341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26120" y="48769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" y="4038480"/>
            <a:ext cx="1676520" cy="1983960"/>
            <a:chOff x="457200" y="4038480"/>
            <a:chExt cx="1676520" cy="19839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3120" y="55627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2080" y="2057400"/>
            <a:ext cx="3355200" cy="1752480"/>
            <a:chOff x="5392080" y="2057400"/>
            <a:chExt cx="3355200" cy="175248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7023240" y="20574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92080" y="3200400"/>
              <a:ext cx="15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98" name="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98960" y="228600"/>
            <a:ext cx="26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74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4464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1752840" cy="95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905120" y="4724280"/>
            <a:ext cx="1752480" cy="138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8800" y="3384720"/>
            <a:ext cx="84816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1600" y="2851200"/>
            <a:ext cx="116064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7400" y="3917880"/>
            <a:ext cx="94572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200" y="6172200"/>
            <a:ext cx="13374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61722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13760" y="1752480"/>
            <a:ext cx="5014080" cy="1219320"/>
            <a:chOff x="1913760" y="1752480"/>
            <a:chExt cx="5014080" cy="1219320"/>
          </a:xfrm>
        </p:grpSpPr>
        <p:sp>
          <p:nvSpPr>
            <p:cNvPr id="121" name=""/>
            <p:cNvSpPr/>
            <p:nvPr/>
          </p:nvSpPr>
          <p:spPr>
            <a:xfrm>
              <a:off x="1913760" y="198108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sole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715000" y="1752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891800" y="5257800"/>
            <a:ext cx="5271120" cy="1243080"/>
            <a:chOff x="1891800" y="5257800"/>
            <a:chExt cx="5271120" cy="1243080"/>
          </a:xfrm>
        </p:grpSpPr>
        <p:sp>
          <p:nvSpPr>
            <p:cNvPr id="124" name=""/>
            <p:cNvSpPr/>
            <p:nvPr/>
          </p:nvSpPr>
          <p:spPr>
            <a:xfrm>
              <a:off x="1891800" y="5715000"/>
              <a:ext cx="258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Hay neblin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638680" y="5257800"/>
              <a:ext cx="1524240" cy="12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11240" y="3733920"/>
            <a:ext cx="5403960" cy="949320"/>
            <a:chOff x="1911240" y="3733920"/>
            <a:chExt cx="5403960" cy="949320"/>
          </a:xfrm>
        </p:grpSpPr>
        <p:sp>
          <p:nvSpPr>
            <p:cNvPr id="127" name=""/>
            <p:cNvSpPr/>
            <p:nvPr/>
          </p:nvSpPr>
          <p:spPr>
            <a:xfrm>
              <a:off x="1911240" y="3886200"/>
              <a:ext cx="27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nubl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5410080" y="3733920"/>
              <a:ext cx="190512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  <p:sndAc>
      <p:stSnd>
        <p:snd r:embed="rId4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1600200"/>
            <a:ext cx="2023920" cy="2971800"/>
            <a:chOff x="1295280" y="1600200"/>
            <a:chExt cx="2023920" cy="2971800"/>
          </a:xfrm>
        </p:grpSpPr>
        <p:sp>
          <p:nvSpPr>
            <p:cNvPr id="131" name=""/>
            <p:cNvSpPr/>
            <p:nvPr/>
          </p:nvSpPr>
          <p:spPr>
            <a:xfrm>
              <a:off x="1535400" y="16002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715000" y="1600200"/>
            <a:ext cx="2106720" cy="3124080"/>
            <a:chOff x="5715000" y="1600200"/>
            <a:chExt cx="2106720" cy="3124080"/>
          </a:xfrm>
        </p:grpSpPr>
        <p:sp>
          <p:nvSpPr>
            <p:cNvPr id="134" name=""/>
            <p:cNvSpPr/>
            <p:nvPr/>
          </p:nvSpPr>
          <p:spPr>
            <a:xfrm>
              <a:off x="6052680" y="160020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1094760" y="5518080"/>
            <a:ext cx="19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2680" y="5486400"/>
            <a:ext cx="19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0" name="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03440" y="2774880"/>
            <a:ext cx="3489840" cy="2697840"/>
            <a:chOff x="5203440" y="2774880"/>
            <a:chExt cx="3489840" cy="26978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620120" y="2774880"/>
              <a:ext cx="107316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203440" y="342900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886200"/>
            <a:ext cx="3503520" cy="2666880"/>
            <a:chOff x="457200" y="3886200"/>
            <a:chExt cx="3503520" cy="266688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9270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69520" y="426708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5640" y="2013120"/>
            <a:ext cx="70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eccombe</cp:lastModifiedBy>
  <dcterms:modified xsi:type="dcterms:W3CDTF">2005-04-05T20:08:50Z</dcterms:modified>
  <cp:revision>10</cp:revision>
  <dc:subject/>
  <dc:title>PowerPoint Presentation</dc:title>
</cp:coreProperties>
</file>