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type.wav" ContentType="audio/x-wav"/>
  <Override PartName="/ppt/media/whoosh.wav" ContentType="audio/x-wav"/>
  <Override PartName="/ppt/media/DRUMROLL.WAV" ContentType="audio/x-wav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  <p:custShowLst>
    <p:custShow name="Custom Show 1" id="0">
      <p:sldLst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9BB-6652-4926-890A-C550B999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FDA-BA33-408E-AA3E-296AFF39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1F4-1E87-4674-B1B0-E0E16FFF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568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556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568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556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5B2-452D-4638-9C3C-E73E8D79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567-E6B7-4145-9907-E9F42E20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112-0D12-4156-8235-73208E9B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1E7-EC63-4DF7-90ED-A9089DAA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D57-0330-4499-981F-29400CD7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35C-220E-4897-8070-49AE69E9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5C4-6A08-4ED3-B8FE-037E888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03D-641E-4A80-B5D6-D1E4A978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3E3-F649-4BB7-BE33-A93FC9A4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bith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0287-449F-40A7-BB75-B21189D1C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21080" y="2514600"/>
          <a:ext cx="411768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1080" y="2514600"/>
                    <a:ext cx="41176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879560" y="784080"/>
            <a:ext cx="539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95680" y="4419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325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och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cuar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54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55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rot="5405400">
              <a:off x="5046480" y="283680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4618400">
              <a:off x="3979800" y="31824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tres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medi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75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76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 rot="10805400">
              <a:off x="4419000" y="350532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425200">
              <a:off x="4893120" y="3029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la una 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n pun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96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97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V="1" rot="10794600">
              <a:off x="4419000" y="22082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1400400">
              <a:off x="46062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54100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veinte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17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18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 rot="3613200">
              <a:off x="3903480" y="3106800"/>
              <a:ext cx="422280" cy="12186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7599800">
              <a:off x="3979080" y="28018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5410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siete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cuarto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38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39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 rot="5379600">
              <a:off x="3751200" y="28771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1991600">
              <a:off x="4224960" y="3429000"/>
              <a:ext cx="422280" cy="91404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58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59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V="1" rot="10779600">
              <a:off x="4419360" y="220896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rot="40800">
              <a:off x="44190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09480" y="5410080"/>
            <a:ext cx="8077320" cy="1108800"/>
            <a:chOff x="609480" y="5410080"/>
            <a:chExt cx="8077320" cy="1108800"/>
          </a:xfrm>
        </p:grpSpPr>
        <p:sp>
          <p:nvSpPr>
            <p:cNvPr id="278" name=""/>
            <p:cNvSpPr/>
            <p:nvPr/>
          </p:nvSpPr>
          <p:spPr>
            <a:xfrm>
              <a:off x="609480" y="5410080"/>
              <a:ext cx="807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omic Sans MS"/>
                </a:rPr>
                <a:t>Es medianoche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98840" y="6089760"/>
              <a:ext cx="215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Comic Sans MS"/>
                </a:rPr>
                <a:t>(Son las doce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447920" y="2362320"/>
            <a:ext cx="617220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A ti te toca!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8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8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 flipV="1" rot="107796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rot="16174800">
              <a:off x="1997640" y="22266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933440" y="240660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nue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0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0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V="1" rot="107802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10794000">
              <a:off x="2513520" y="27428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976640" y="2133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en punto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2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2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 rot="10819800">
              <a:off x="2513880" y="2742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3463200">
              <a:off x="2912040" y="2039040"/>
              <a:ext cx="422280" cy="9147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999320" y="2085840"/>
            <a:ext cx="28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med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720" y="600120"/>
            <a:ext cx="8497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omic Sans MS"/>
              </a:rPr>
              <a:t>¿Cómo decimos la hora en español?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1805040"/>
            <a:ext cx="7315200" cy="4431240"/>
            <a:chOff x="838080" y="1805040"/>
            <a:chExt cx="7315200" cy="4431240"/>
          </a:xfrm>
        </p:grpSpPr>
        <p:sp>
          <p:nvSpPr>
            <p:cNvPr id="47" name=""/>
            <p:cNvSpPr/>
            <p:nvPr/>
          </p:nvSpPr>
          <p:spPr>
            <a:xfrm>
              <a:off x="838080" y="3048120"/>
              <a:ext cx="7315200" cy="31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 2" charset="2"/>
                <a:buChar char="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Son las 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" charset="2"/>
                <a:buChar char="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Es la _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98640" y="1805040"/>
              <a:ext cx="569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Para decir la hora…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4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4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5419800">
              <a:off x="3141000" y="21160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2227800">
              <a:off x="2742840" y="1904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251320" y="208584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 la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6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6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rot="3524400">
              <a:off x="2989080" y="18111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5430000">
              <a:off x="2912760" y="22680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007600" y="208584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di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8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 rot="9028200">
              <a:off x="2777400" y="25905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rot="20432400">
              <a:off x="2362320" y="18284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812120" y="2085840"/>
            <a:ext cx="319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o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veinticin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0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0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 flipH="1" flipV="1" rot="9028200">
              <a:off x="2208240" y="1599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12399000">
              <a:off x="2284560" y="26665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897080" y="208584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i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i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2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2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 flipH="1" flipV="1" rot="5428800">
              <a:off x="1846080" y="211608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3280800">
              <a:off x="2912760" y="19630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680360" y="20858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990720" y="2133720"/>
            <a:ext cx="7232400" cy="3581280"/>
            <a:chOff x="990720" y="2133720"/>
            <a:chExt cx="7232400" cy="3581280"/>
          </a:xfrm>
        </p:grpSpPr>
        <p:grpSp>
          <p:nvGrpSpPr>
            <p:cNvPr id="442" name=""/>
            <p:cNvGrpSpPr/>
            <p:nvPr/>
          </p:nvGrpSpPr>
          <p:grpSpPr>
            <a:xfrm>
              <a:off x="990720" y="2133720"/>
              <a:ext cx="2971800" cy="838080"/>
              <a:chOff x="990720" y="2133720"/>
              <a:chExt cx="2971800" cy="838080"/>
            </a:xfrm>
          </p:grpSpPr>
          <p:sp>
            <p:nvSpPr>
              <p:cNvPr id="443" name=""/>
              <p:cNvSpPr/>
              <p:nvPr/>
            </p:nvSpPr>
            <p:spPr>
              <a:xfrm>
                <a:off x="1447920" y="21337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5:3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90720" y="22096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998280" y="3505320"/>
              <a:ext cx="2963880" cy="838080"/>
              <a:chOff x="998280" y="3505320"/>
              <a:chExt cx="2963880" cy="838080"/>
            </a:xfrm>
          </p:grpSpPr>
          <p:sp>
            <p:nvSpPr>
              <p:cNvPr id="446" name=""/>
              <p:cNvSpPr/>
              <p:nvPr/>
            </p:nvSpPr>
            <p:spPr>
              <a:xfrm>
                <a:off x="1447560" y="35053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6:1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99828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998280" y="4876920"/>
              <a:ext cx="2963880" cy="838080"/>
              <a:chOff x="998280" y="4876920"/>
              <a:chExt cx="2963880" cy="838080"/>
            </a:xfrm>
          </p:grpSpPr>
          <p:sp>
            <p:nvSpPr>
              <p:cNvPr id="449" name=""/>
              <p:cNvSpPr/>
              <p:nvPr/>
            </p:nvSpPr>
            <p:spPr>
              <a:xfrm>
                <a:off x="1447560" y="48769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8:4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99828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4954320" y="2133720"/>
              <a:ext cx="3268800" cy="838080"/>
              <a:chOff x="4954320" y="2133720"/>
              <a:chExt cx="3268800" cy="838080"/>
            </a:xfrm>
          </p:grpSpPr>
          <p:sp>
            <p:nvSpPr>
              <p:cNvPr id="452" name=""/>
              <p:cNvSpPr/>
              <p:nvPr/>
            </p:nvSpPr>
            <p:spPr>
              <a:xfrm>
                <a:off x="5403600" y="2133720"/>
                <a:ext cx="28195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2:00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54320" y="22096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954320" y="3505320"/>
              <a:ext cx="3040200" cy="838080"/>
              <a:chOff x="4954320" y="3505320"/>
              <a:chExt cx="3040200" cy="838080"/>
            </a:xfrm>
          </p:grpSpPr>
          <p:sp>
            <p:nvSpPr>
              <p:cNvPr id="455" name=""/>
              <p:cNvSpPr/>
              <p:nvPr/>
            </p:nvSpPr>
            <p:spPr>
              <a:xfrm>
                <a:off x="5403600" y="35053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9:4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5432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4954320" y="4876920"/>
              <a:ext cx="3040200" cy="838080"/>
              <a:chOff x="4954320" y="4876920"/>
              <a:chExt cx="3040200" cy="838080"/>
            </a:xfrm>
          </p:grpSpPr>
          <p:sp>
            <p:nvSpPr>
              <p:cNvPr id="458" name=""/>
              <p:cNvSpPr/>
              <p:nvPr/>
            </p:nvSpPr>
            <p:spPr>
              <a:xfrm>
                <a:off x="5403600" y="48769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:25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5432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2114280" y="593640"/>
            <a:ext cx="492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5720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661040" y="593640"/>
            <a:ext cx="584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Las Respuesta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990720" y="2133720"/>
            <a:ext cx="2967120" cy="825480"/>
            <a:chOff x="990720" y="2133720"/>
            <a:chExt cx="2967120" cy="825480"/>
          </a:xfrm>
        </p:grpSpPr>
        <p:sp>
          <p:nvSpPr>
            <p:cNvPr id="464" name=""/>
            <p:cNvSpPr/>
            <p:nvPr/>
          </p:nvSpPr>
          <p:spPr>
            <a:xfrm>
              <a:off x="99072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37840" y="2133720"/>
              <a:ext cx="252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cinco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ia de la 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998280" y="4892760"/>
            <a:ext cx="3243240" cy="825480"/>
            <a:chOff x="998280" y="4892760"/>
            <a:chExt cx="3243240" cy="825480"/>
          </a:xfrm>
        </p:grpSpPr>
        <p:sp>
          <p:nvSpPr>
            <p:cNvPr id="467" name=""/>
            <p:cNvSpPr/>
            <p:nvPr/>
          </p:nvSpPr>
          <p:spPr>
            <a:xfrm>
              <a:off x="99828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92120" y="4892760"/>
              <a:ext cx="284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nueve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e de la noch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998280" y="3505320"/>
            <a:ext cx="3304440" cy="825480"/>
            <a:chOff x="998280" y="3505320"/>
            <a:chExt cx="3304440" cy="825480"/>
          </a:xfrm>
        </p:grpSpPr>
        <p:sp>
          <p:nvSpPr>
            <p:cNvPr id="470" name=""/>
            <p:cNvSpPr/>
            <p:nvPr/>
          </p:nvSpPr>
          <p:spPr>
            <a:xfrm>
              <a:off x="99828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7736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seis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954320" y="1936800"/>
            <a:ext cx="2952360" cy="1191240"/>
            <a:chOff x="4954320" y="1936800"/>
            <a:chExt cx="2952360" cy="1191240"/>
          </a:xfrm>
        </p:grpSpPr>
        <p:sp>
          <p:nvSpPr>
            <p:cNvPr id="473" name=""/>
            <p:cNvSpPr/>
            <p:nvPr/>
          </p:nvSpPr>
          <p:spPr>
            <a:xfrm>
              <a:off x="4954320" y="22096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64880" y="1936800"/>
              <a:ext cx="234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oc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Es medianoch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954320" y="4648320"/>
            <a:ext cx="3084480" cy="1191240"/>
            <a:chOff x="4954320" y="4648320"/>
            <a:chExt cx="3084480" cy="1191240"/>
          </a:xfrm>
        </p:grpSpPr>
        <p:sp>
          <p:nvSpPr>
            <p:cNvPr id="476" name=""/>
            <p:cNvSpPr/>
            <p:nvPr/>
          </p:nvSpPr>
          <p:spPr>
            <a:xfrm>
              <a:off x="495432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78640" y="4648320"/>
              <a:ext cx="236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 la una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icinco de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954320" y="3505320"/>
            <a:ext cx="3386880" cy="825480"/>
            <a:chOff x="4954320" y="3505320"/>
            <a:chExt cx="3386880" cy="825480"/>
          </a:xfrm>
        </p:grpSpPr>
        <p:sp>
          <p:nvSpPr>
            <p:cNvPr id="479" name=""/>
            <p:cNvSpPr/>
            <p:nvPr/>
          </p:nvSpPr>
          <p:spPr>
            <a:xfrm>
              <a:off x="495432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1584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iez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49568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medi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5176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spués de l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498760"/>
            <a:ext cx="5791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cuart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cuart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24160" y="461880"/>
            <a:ext cx="81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ro,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despué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de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0" y="2057400"/>
            <a:ext cx="4191120" cy="3809880"/>
            <a:chOff x="2286000" y="2057400"/>
            <a:chExt cx="4191120" cy="3809880"/>
          </a:xfrm>
        </p:grpSpPr>
        <p:sp>
          <p:nvSpPr>
            <p:cNvPr id="54" name=""/>
            <p:cNvSpPr/>
            <p:nvPr/>
          </p:nvSpPr>
          <p:spPr>
            <a:xfrm>
              <a:off x="2286000" y="2057400"/>
              <a:ext cx="3886200" cy="38098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7080" y="205740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356544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…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y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72428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73392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13560" y="2419200"/>
              <a:ext cx="6091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64400" y="685800"/>
            <a:ext cx="8205480" cy="5494680"/>
            <a:chOff x="464400" y="685800"/>
            <a:chExt cx="8205480" cy="5494680"/>
          </a:xfrm>
        </p:grpSpPr>
        <p:sp>
          <p:nvSpPr>
            <p:cNvPr id="61" name=""/>
            <p:cNvSpPr/>
            <p:nvPr/>
          </p:nvSpPr>
          <p:spPr>
            <a:xfrm>
              <a:off x="1660680" y="685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8880" y="725400"/>
              <a:ext cx="301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on the do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04400" y="720720"/>
              <a:ext cx="270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n punto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5400" y="72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960" y="2595600"/>
              <a:ext cx="271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nigh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69960" y="2590920"/>
              <a:ext cx="349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anoche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5400" y="2590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400" y="1604880"/>
              <a:ext cx="401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day / noon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05120" y="1600200"/>
              <a:ext cx="27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odía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15400" y="1600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2680" y="558324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p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8800" y="4500720"/>
              <a:ext cx="130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a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02080" y="5599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02080" y="4516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3080" y="5599080"/>
              <a:ext cx="50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tarde / de la noch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69600" y="4516560"/>
              <a:ext cx="306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mañana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682640" y="685800"/>
            <a:ext cx="6048720" cy="1582920"/>
            <a:chOff x="1682640" y="685800"/>
            <a:chExt cx="6048720" cy="1582920"/>
          </a:xfrm>
        </p:grpSpPr>
        <p:sp>
          <p:nvSpPr>
            <p:cNvPr id="78" name=""/>
            <p:cNvSpPr/>
            <p:nvPr/>
          </p:nvSpPr>
          <p:spPr>
            <a:xfrm>
              <a:off x="1682640" y="1092240"/>
              <a:ext cx="180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It i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92560" y="685800"/>
              <a:ext cx="263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Son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1120" y="1087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6680" y="1565280"/>
              <a:ext cx="202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s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1960" y="3828960"/>
            <a:ext cx="5551200" cy="1582920"/>
            <a:chOff x="1641960" y="3828960"/>
            <a:chExt cx="5551200" cy="1582920"/>
          </a:xfrm>
        </p:grpSpPr>
        <p:sp>
          <p:nvSpPr>
            <p:cNvPr id="83" name=""/>
            <p:cNvSpPr/>
            <p:nvPr/>
          </p:nvSpPr>
          <p:spPr>
            <a:xfrm>
              <a:off x="1641960" y="4235400"/>
              <a:ext cx="145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At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28920" y="3828960"/>
              <a:ext cx="206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7600" y="423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26760" y="4708440"/>
              <a:ext cx="182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374920" y="2435400"/>
            <a:ext cx="44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1840" y="5546880"/>
            <a:ext cx="66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go clase a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91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92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8023400">
              <a:off x="3941640" y="27982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12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13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diez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33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3771600">
              <a:off x="4893840" y="25315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34Z</dcterms:created>
  <dc:creator>Craig Tillmann</dc:creator>
  <dc:description/>
  <dc:language>en-US</dc:language>
  <cp:lastModifiedBy>CSeccombe</cp:lastModifiedBy>
  <dcterms:modified xsi:type="dcterms:W3CDTF">2005-04-05T20:10:58Z</dcterms:modified>
  <cp:revision>26</cp:revision>
  <dc:subject/>
  <dc:title>No Slide Title</dc:title>
</cp:coreProperties>
</file>