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DRUMROLL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0D9-F666-4EC4-859C-00065FDF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135-C683-46DA-B101-8C1C7504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D93-021D-4271-9AB1-76D2FE7C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080-FCF7-468D-9BDB-A82037A2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E0D-67AC-4A12-A800-C452B574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ADD-A769-4C7D-8C1C-37ECF81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9CC-95DF-48EF-B017-F83540E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EA2-DDDE-40E1-B1EF-C27077E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1B5-D160-4815-A86C-591194B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C4A-4EE3-4D19-89CF-4FFF24D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5E3-07F1-4EF7-B122-F9FA19C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A8E-45B6-4208-AABE-B25167A6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6D91-885A-4544-BEC1-686E79BA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54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5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5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la una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 pun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6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7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 rot="10794600">
              <a:off x="4419000" y="22082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400400">
              <a:off x="46062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17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18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3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3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5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5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 rot="10779600">
              <a:off x="4419360" y="220896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40800">
              <a:off x="44190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09480" y="5410080"/>
            <a:ext cx="8077320" cy="1108800"/>
            <a:chOff x="609480" y="5410080"/>
            <a:chExt cx="8077320" cy="1108800"/>
          </a:xfrm>
        </p:grpSpPr>
        <p:sp>
          <p:nvSpPr>
            <p:cNvPr id="278" name=""/>
            <p:cNvSpPr/>
            <p:nvPr/>
          </p:nvSpPr>
          <p:spPr>
            <a:xfrm>
              <a:off x="609480" y="54100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omic Sans MS"/>
                </a:rPr>
                <a:t>Es medianoche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8840" y="6089760"/>
              <a:ext cx="215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Comic Sans MS"/>
                </a:rPr>
                <a:t>(Son las doce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4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4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6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6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442" name="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443" name="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446" name="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449" name="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452" name="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455" name="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458" name="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464" name="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467" name="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70" name="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73" name="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76" name="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79" name="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64400" y="685800"/>
            <a:ext cx="8205480" cy="5494680"/>
            <a:chOff x="464400" y="685800"/>
            <a:chExt cx="8205480" cy="5494680"/>
          </a:xfrm>
        </p:grpSpPr>
        <p:sp>
          <p:nvSpPr>
            <p:cNvPr id="61" name=""/>
            <p:cNvSpPr/>
            <p:nvPr/>
          </p:nvSpPr>
          <p:spPr>
            <a:xfrm>
              <a:off x="1660680" y="685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8880" y="725400"/>
              <a:ext cx="30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on the do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04400" y="720720"/>
              <a:ext cx="27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n punto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5400" y="72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960" y="2595600"/>
              <a:ext cx="27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nigh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9960" y="2590920"/>
              <a:ext cx="349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anoche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5400" y="259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00" y="1604880"/>
              <a:ext cx="40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day / noo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5120" y="1600200"/>
              <a:ext cx="27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odía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5400" y="160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2680" y="55832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8800" y="4500720"/>
              <a:ext cx="13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02080" y="559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2080" y="451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3080" y="5599080"/>
              <a:ext cx="50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tarde / de la noch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9600" y="451656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mañana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78" name="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83" name="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91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92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12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33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CSeccombe</cp:lastModifiedBy>
  <dcterms:modified xsi:type="dcterms:W3CDTF">2005-04-05T20:10:58Z</dcterms:modified>
  <cp:revision>26</cp:revision>
  <dc:subject/>
  <dc:title>No Slide Title</dc:title>
</cp:coreProperties>
</file>