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media/image4.wmf" ContentType="image/x-wmf"/>
  <Override PartName="/ppt/media/image5.png" ContentType="image/png"/>
  <Override PartName="/ppt/media/image6.wmf" ContentType="image/x-wmf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  <p:custShowLst>
    <p:custShow name="Custom Show 1" id="0">
      <p:sldLst>
        <p:sld r:id="rId46"/>
        <p:sld r:id="rId47"/>
        <p:sld r:id="rId48"/>
        <p:sld r:id="rId4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5B4-31D5-4B97-BB7A-2A414A3B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2A9-F9BB-4AF3-A189-E91583CF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A39-21F3-4B83-86CB-CF85AFBF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549-D7F7-481D-9249-2E5511C0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413-6D1B-4AE6-B84C-91EDF01F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B3D-003B-480A-B872-02BC9815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2DB-57BF-45EF-AE25-122DB417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C96-BBDC-492C-B85A-5BEA8884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F50-ACA4-4E14-96CC-82D1F2E0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E20-2604-415D-83BA-20830F53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08B-7D86-4FD3-9029-A6CC796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398-C898-432F-B16B-16F678C7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3796-B5BE-41F6-AEB7-55CBA8807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audio" Target="file:///tmp/home/.config/libreoffice/4/user/gallery/APPLAUS.WAV" TargetMode="External"/><Relationship Id="rId4" Type="http://schemas.microsoft.com/office/2007/relationships/media" Target="file:///tmp/home/.config/libreoffice/4/user/gallery/APPLAUS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0.xml"/><Relationship Id="rId3" Type="http://schemas.openxmlformats.org/officeDocument/2006/relationships/slide" Target="slide39.xml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21120" y="304920"/>
            <a:ext cx="4056120" cy="6172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3429000" cy="28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08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Ay, n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85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87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0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raz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01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In which of these South American count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is the official language </a:t>
              </a:r>
              <a:r>
                <a:rPr b="0" lang="en-US" sz="2400" spc="-1" strike="noStrike" u="sng">
                  <a:solidFill>
                    <a:srgbClr val="c0c0c0"/>
                  </a:solidFill>
                  <a:uFillTx/>
                  <a:latin typeface="Arial"/>
                </a:rPr>
                <a:t>not</a:t>
              </a: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 Spanish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05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07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0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Fenomenal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172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Qué problema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2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31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33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36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p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um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47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at season do the citizens of Ch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experience in Jul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51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53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56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Autum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i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Muy bien, amig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172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Te equivocas, seño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77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79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2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Dominican Re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93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Pedro Martinez is from whi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Latin American countr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97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99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2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Brav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172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Que n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200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7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9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2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uenos 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arcel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3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at city has the largest number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Spanish-speakers in the worl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7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9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ev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exico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3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25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39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ere was Christopher Columbus fro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3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45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Qué bie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172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Pobrecit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69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1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4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Gr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ebr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85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The Spanish language has evolved fr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at ancient languag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89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1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4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6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La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hine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Sobresalient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172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No lo e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200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5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7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20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illi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a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31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In Texas in 1998, what was the most comm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name given to new babi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5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7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40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J.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Jos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Qué buen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172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Cometiste un erro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61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63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66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They already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efo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77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According to U.S. Census estimate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en will Hispanics become the larg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minority group in the U.S.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81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3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6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etween 2010 and 2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After 2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Fantástic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17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Chever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172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Perdón, señor, per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5200" fill="hold"/>
                                        <p:tgtEl>
                                          <p:spTgt spid="5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07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9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12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4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23 m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44 m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23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As of the end of the year 2000, how m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Hispanics are projected to be li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In the U.S.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27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29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4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39 m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97 m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Bie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6172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Mala idea, hombr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53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55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58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0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69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According to the 1999 Census, w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0c0c0"/>
                  </a:solidFill>
                  <a:uFillTx/>
                  <a:latin typeface="Arial"/>
                </a:rPr>
                <a:t>percentage</a:t>
              </a: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 of the U.S. population is Hispanic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73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75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78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Valient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6172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Respuesta incorrecta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5200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99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01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5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9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15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at percentage of pages on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Internet worldwide are in Spanish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19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21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14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1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4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Genial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6172" fill="hold"/>
                                        <p:tgtEl>
                                          <p:spTgt spid="6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Lo siento, amig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Mala decisión, chic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45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47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50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2" name=""/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5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3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61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Among the countries of the world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does the U.S. rank in terms of 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number of Spanish speaker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65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67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70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7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9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Magnífic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6172" fill="hold"/>
                                        <p:tgtEl>
                                          <p:spTgt spid="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Qué mal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5200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91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93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96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707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How many letters are there in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Spanish alphabe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711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13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Fabulos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6172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Has escogido mal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531880" cy="213984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1220760" y="557280"/>
            <a:ext cx="672624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¡Muchas gracias por juga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ashreg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25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93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95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Los Ange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adrid, 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09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at city has the </a:t>
              </a:r>
              <a:r>
                <a:rPr b="0" lang="en-US" sz="2400" spc="-1" strike="noStrike" u="sng">
                  <a:solidFill>
                    <a:srgbClr val="c0c0c0"/>
                  </a:solidFill>
                  <a:uFillTx/>
                  <a:latin typeface="Arial"/>
                </a:rPr>
                <a:t>second</a:t>
              </a: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 larges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of Spanish speakers in the worl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13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an Di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Quito, 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Excelent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17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Qué pena, seño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2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39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41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Los Angeles, 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Paris,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55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In the summer of 1999, the World Track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Field Championships were held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at cit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59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61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eville, 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Rome, 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Maravillos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172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STANLEY</dc:creator>
  <dc:description/>
  <dc:language>en-US</dc:language>
  <cp:lastModifiedBy>CSeccombe</cp:lastModifiedBy>
  <cp:lastPrinted>2000-05-03T23:45:17Z</cp:lastPrinted>
  <dcterms:modified xsi:type="dcterms:W3CDTF">2005-04-05T20:14:05Z</dcterms:modified>
  <cp:revision>23</cp:revision>
  <dc:subject/>
  <dc:title>No Slide Title</dc:title>
</cp:coreProperties>
</file>