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10A-A465-47E9-9F3B-EFCB3C7F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20B-92CE-4562-96F5-19E835E0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44B-1E66-40B8-AF98-4C8EAA0F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954-1B3D-4D56-8F86-61259898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C17-1E6B-46F5-BA72-C2B9462B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386A-194B-4533-9BA1-E8448576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266-49D8-4FC0-A732-1118BF7A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F33-A177-4D3C-8600-953AA553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9B1-02EC-423C-9DCB-B82581C0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F82-1141-4E15-A9CA-A548AD5E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313E-F999-45F1-877A-1463293D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E16-6969-4CD1-8B92-0C40D14C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6D28-42EA-41F3-8288-083DBCAE08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apples+clipart&amp;source=images&amp;cd=&amp;cad=rja&amp;docid=_03z1k_vGLxayM&amp;tbnid=tJv5UCKvG6d1wM:&amp;ved=0CAUQjRw&amp;url=http%3A%2F%2Fawhitewashedcottage.blogspot.com%2F2010_10_01_archive.html&amp;ei=bvo4UeL_EoaM0AWxv4HgCA&amp;bvm=bv.43287494,d.ZWU&amp;psig=AFQjCNGqK0VKjdL3V2tjJoN2pKNGOuRPRA&amp;ust=1362774934830470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.uk/url?sa=i&amp;rct=j&amp;q=banana+clipart&amp;source=images&amp;cd=&amp;cad=rja&amp;docid=bgdHMxRE0wLvcM&amp;tbnid=K1cBeUBKU-04iM:&amp;ved=0CAUQjRw&amp;url=http%3A%2F%2Fsweetclipart.com%2Fcolorable-bunch-bananas-147&amp;ei=mPo4Uf7tFsKM0AWMk4GACw&amp;bvm=bv.43287494,d.ZWU&amp;psig=AFQjCNH-fy4pt7_ii5_d87gE62UGS78poA&amp;ust=1362775059811166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google.co.uk/url?sa=i&amp;source=images&amp;cd=&amp;cad=rja&amp;docid=cYxeVgYTX3V3vM&amp;tbnid=czBuuU27uCjpGM:&amp;ved=0CAgQjRwwAA&amp;url=http%3A%2F%2Fbestclipartblog.com%2F14-grapes-clip-art.html%2Fgrapes-clip-art-8&amp;ei=2fo4UZHACMfLPfbggZAC&amp;psig=AFQjCNHtfc5RCqdI_hf7SI8-HB2OzAgCyA&amp;ust=1362775129174332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www.google.co.uk/url?sa=i&amp;rct=j&amp;q=potatoes+clipart&amp;source=images&amp;cd=&amp;cad=rja&amp;docid=aJsfYkRCVgxktM&amp;tbnid=ynjF4LvhCRW8bM:&amp;ved=0CAUQjRw&amp;url=http%3A%2F%2Fwww.clker.com%2Fclipart-potato-outline.html&amp;ei=Tvs4UZHRO8ed0QWJmoDACA&amp;bvm=bv.43287494,d.ZWU&amp;psig=AFQjCNE0DN8f5ybkz9VNjc3BXSV7TK565A&amp;ust=1362775237040223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TALLA NAVAL – EN EL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55640" y="1341360"/>
          <a:ext cx="7848720" cy="496908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  <a:gridCol w="1307880"/>
                <a:gridCol w="1308240"/>
                <a:gridCol w="13082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¼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½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Box 11"/>
          <p:cNvSpPr/>
          <p:nvPr/>
        </p:nvSpPr>
        <p:spPr>
          <a:xfrm>
            <a:off x="395280" y="6453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zanas, plátanos, uvas, patatas, naran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755640" y="836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en gramos de, un cuarto de, medio kilo de, un kilo de, un kilo y medi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2" descr="http://1.bp.blogspot.com/_O3uxCajQbOY/TMEY4Kd5ATI/AAAAAAAAAoE/gRUYESLANKo/s1600/apple+clipa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276640"/>
            <a:ext cx="1295280" cy="77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4" descr="http://sweetclipart.com/multisite/sweetclipart/files/imagecache/middle/bananas_bunch_lineart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068640"/>
            <a:ext cx="1295280" cy="814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6" descr="http://bestclipartblog.com/clipart-pics/grapes-clip-art-8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3933720"/>
            <a:ext cx="1295280" cy="75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8" descr="http://www.clker.com/cliparts/p/1/s/C/3/W/potato-outline-md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6920" y="4724280"/>
            <a:ext cx="1224000" cy="735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0" descr="http://www.arthursclipart.org/fruits/fruit/orange%202.gif"/>
          <p:cNvPicPr/>
          <p:nvPr/>
        </p:nvPicPr>
        <p:blipFill>
          <a:blip r:embed="rId9"/>
          <a:stretch/>
        </p:blipFill>
        <p:spPr>
          <a:xfrm>
            <a:off x="755640" y="5516640"/>
            <a:ext cx="1295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1:16:38Z</dcterms:created>
  <dc:creator>mmullen</dc:creator>
  <dc:description/>
  <dc:language>en-US</dc:language>
  <cp:lastModifiedBy>Clare</cp:lastModifiedBy>
  <dcterms:modified xsi:type="dcterms:W3CDTF">2013-05-14T09:13:23Z</dcterms:modified>
  <cp:revision>30</cp:revision>
  <dc:subject/>
  <dc:title>Slide 1</dc:title>
</cp:coreProperties>
</file>