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357-FE58-4652-9725-002D42A7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6C1-F0EC-428B-B6A8-F88252D2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602-4DA5-4C4C-822D-0BF112D8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73A-717D-4B27-B682-04631941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FC4-FF3D-410B-B491-70BAD26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28E-7FA0-4AE8-A28D-ECD41056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CE4-02DF-44E7-AA76-18052014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684-06E2-411C-BB73-0FCA3C3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DE0-7553-49EF-854E-223FA0C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63E-6D8D-4479-8C7A-A5EF296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344-FC8C-4D71-B3E6-0CDF3DD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E81-E441-446A-B78A-2DEA1FC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353-385B-4C7A-8F68-19A1C15EFE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apples+clipart&amp;source=images&amp;cd=&amp;cad=rja&amp;docid=_03z1k_vGLxayM&amp;tbnid=tJv5UCKvG6d1wM:&amp;ved=0CAUQjRw&amp;url=http%3A%2F%2Fawhitewashedcottage.blogspot.com%2F2010_10_01_archive.html&amp;ei=bvo4UeL_EoaM0AWxv4HgCA&amp;bvm=bv.43287494,d.ZWU&amp;psig=AFQjCNGqK0VKjdL3V2tjJoN2pKNGOuRPRA&amp;ust=1362774934830470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.uk/url?sa=i&amp;rct=j&amp;q=banana+clipart&amp;source=images&amp;cd=&amp;cad=rja&amp;docid=bgdHMxRE0wLvcM&amp;tbnid=K1cBeUBKU-04iM:&amp;ved=0CAUQjRw&amp;url=http%3A%2F%2Fsweetclipart.com%2Fcolorable-bunch-bananas-147&amp;ei=mPo4Uf7tFsKM0AWMk4GACw&amp;bvm=bv.43287494,d.ZWU&amp;psig=AFQjCNH-fy4pt7_ii5_d87gE62UGS78poA&amp;ust=1362775059811166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google.co.uk/url?sa=i&amp;source=images&amp;cd=&amp;cad=rja&amp;docid=cYxeVgYTX3V3vM&amp;tbnid=czBuuU27uCjpGM:&amp;ved=0CAgQjRwwAA&amp;url=http%3A%2F%2Fbestclipartblog.com%2F14-grapes-clip-art.html%2Fgrapes-clip-art-8&amp;ei=2fo4UZHACMfLPfbggZAC&amp;psig=AFQjCNHtfc5RCqdI_hf7SI8-HB2OzAgCyA&amp;ust=136277512917433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google.co.uk/url?sa=i&amp;rct=j&amp;q=potatoes+clipart&amp;source=images&amp;cd=&amp;cad=rja&amp;docid=aJsfYkRCVgxktM&amp;tbnid=ynjF4LvhCRW8bM:&amp;ved=0CAUQjRw&amp;url=http%3A%2F%2Fwww.clker.com%2Fclipart-potato-outline.html&amp;ei=Tvs4UZHRO8ed0QWJmoDACA&amp;bvm=bv.43287494,d.ZWU&amp;psig=AFQjCNE0DN8f5ybkz9VNjc3BXSV7TK565A&amp;ust=1362775237040223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ALLA NAVAL – EN 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341360"/>
          <a:ext cx="7848720" cy="496908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¼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½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11"/>
          <p:cNvSpPr/>
          <p:nvPr/>
        </p:nvSpPr>
        <p:spPr>
          <a:xfrm>
            <a:off x="395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zanas, plátanos, uvas, patatas, naran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755640" y="83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en gramos de, un cuarto de, medio kilo de, un kilo de, un kilo y medi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2" descr="http://1.bp.blogspot.com/_O3uxCajQbOY/TMEY4Kd5ATI/AAAAAAAAAoE/gRUYESLANKo/s1600/apple+clipa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76640"/>
            <a:ext cx="1295280" cy="77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http://sweetclipart.com/multisite/sweetclipart/files/imagecache/middle/bananas_bunch_linear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068640"/>
            <a:ext cx="129528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http://bestclipartblog.com/clipart-pics/grapes-clip-art-8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3933720"/>
            <a:ext cx="129528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8" descr="http://www.clker.com/cliparts/p/1/s/C/3/W/potato-outline-md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724280"/>
            <a:ext cx="1224000" cy="73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0" descr="http://www.arthursclipart.org/fruits/fruit/orange%202.gif"/>
          <p:cNvPicPr/>
          <p:nvPr/>
        </p:nvPicPr>
        <p:blipFill>
          <a:blip r:embed="rId9"/>
          <a:stretch/>
        </p:blipFill>
        <p:spPr>
          <a:xfrm>
            <a:off x="755640" y="5516640"/>
            <a:ext cx="1295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16:38Z</dcterms:created>
  <dc:creator>mmullen</dc:creator>
  <dc:description/>
  <dc:language>en-US</dc:language>
  <cp:lastModifiedBy>Clare</cp:lastModifiedBy>
  <dcterms:modified xsi:type="dcterms:W3CDTF">2013-05-14T09:13:23Z</dcterms:modified>
  <cp:revision>30</cp:revision>
  <dc:subject/>
  <dc:title>Slide 1</dc:title>
</cp:coreProperties>
</file>