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51F-FEBE-462F-893F-76DEAF0C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A98-7969-42F4-B4A5-C0907D8E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DFA-37A5-4B3C-8428-10F78749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594-B529-406F-AB79-0009D105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434-4D5C-4723-B194-B39933A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565-6B0E-49D0-9B06-AECFF99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C2E-8801-42CB-BF8B-DDB6BE3B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7FA-9336-41AD-8838-1D2D968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D43-DCB4-4898-A4A6-68BF2A24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0A6-15C4-44B5-849C-BFEFE6D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8BF-81EB-42C0-9B38-41894B92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EE2-2BE8-4987-AC46-3C2B18C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B95C-6D96-4264-B23F-38379F5F31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source=images&amp;cd=&amp;cad=rja&amp;docid=czhBmjQCI7gkGM&amp;tbnid=YPYh9ds8EoWJuM:&amp;ved=0CAgQjRwwAA&amp;url=http%3A%2F%2Fwww.clker.com%2Fclipart-10390.html&amp;ei=NGg2UbrCPISUOPH1gegP&amp;psig=AFQjCNFfOiskFhRwi7MH2RAFfUz-NK-iSg&amp;ust=1362606517028201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google.co.uk/url?sa=i&amp;rct=j&amp;q=wash+the+dishes+clipart&amp;source=images&amp;cd=&amp;cad=rja&amp;docid=QWYexSIAr2LTwM&amp;tbnid=ZpbynXixP7HSCM:&amp;ved=0CAUQjRw&amp;url=http%3A%2F%2Fwww.gograph.com%2Fstock-illustration%2Fdish.html&amp;ei=cWg2UbOmIcjYPIvOgPAE&amp;bvm=bv.43148975,d.ZWU&amp;psig=AFQjCNGtTTNo4BtRZW1JjMhd7ABEkXynPQ&amp;ust=136260656048879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.uk/url?sa=i&amp;rct=j&amp;q=iron+clipart&amp;source=images&amp;cd=&amp;cad=rja&amp;docid=GAsG2dSR-BQzVM&amp;tbnid=HXgir2FRtSzqqM:&amp;ved=0CAUQjRw&amp;url=http%3A%2F%2Fwww.freepik.com%2Ffree-vector%2Firon-clip-art_381948.htm&amp;ei=qmg2UadLxes6ho-A2Ac&amp;bvm=bv.43148975,d.ZWU&amp;psig=AFQjCNE9JKc_tmnqfgLL5AY3kOe-qRVqug&amp;ust=136260662880727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.uk/url?sa=i&amp;rct=j&amp;q=trash+can+clipart&amp;source=images&amp;cd=&amp;cad=rja&amp;docid=ZGa3a3FNWnP5MM&amp;tbnid=-M2rTva3NB6QKM:&amp;ved=0CAUQjRw&amp;url=http%3A%2F%2Fwaterstreetbooks.blogspot.com%2F2010_11_01_archive.html&amp;ei=3Gg2UYq4MMPWPJyPgIgG&amp;bvm=bv.43148975,d.ZWU&amp;psig=AFQjCNEq2hnUkPL8C7_bspykYyRLpgObOg&amp;ust=1362606671524540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ALLA NAVAL – LAS T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341360"/>
          <a:ext cx="7848720" cy="496908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11"/>
          <p:cNvSpPr/>
          <p:nvPr/>
        </p:nvSpPr>
        <p:spPr>
          <a:xfrm>
            <a:off x="395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go la compra, lavo los platos, plancho la ropa, saco la basura, paseo al per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755640" y="83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 lunes, los martes, los miércoles, los jueves, los fines de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1" descr="http://www.clker.com/cliparts/8/4/2/d/11954275791751619642cart_pommi_02.svg.hi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335320"/>
            <a:ext cx="115272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3" descr="http://thumbs.gograph.com/gg622486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141720"/>
            <a:ext cx="1295280" cy="71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http://static.freepik.com/free-photo/iron-clip-art_41955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4005360"/>
            <a:ext cx="863640" cy="52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http://2.bp.blogspot.com/_hM6wPbYqTOI/TOGq4XHRvdI/AAAAAAAAAVs/VtT7cOkml3M/s1600/trash%2Bca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4724280"/>
            <a:ext cx="792000" cy="73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9" descr="http://t2.gstatic.com/images?q=tbn:ANd9GcQlLz2TOfzT00V-0hTf4LIgGkIvQaKOjOWH8JQjVoy34gmFC2Ze0w"/>
          <p:cNvPicPr/>
          <p:nvPr/>
        </p:nvPicPr>
        <p:blipFill>
          <a:blip r:embed="rId9"/>
          <a:stretch/>
        </p:blipFill>
        <p:spPr>
          <a:xfrm>
            <a:off x="900000" y="5516640"/>
            <a:ext cx="10209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16:38Z</dcterms:created>
  <dc:creator>mmullen</dc:creator>
  <dc:description/>
  <dc:language>en-US</dc:language>
  <cp:lastModifiedBy>Clare</cp:lastModifiedBy>
  <dcterms:modified xsi:type="dcterms:W3CDTF">2013-05-14T09:14:17Z</dcterms:modified>
  <cp:revision>29</cp:revision>
  <dc:subject/>
  <dc:title>Slide 1</dc:title>
</cp:coreProperties>
</file>