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B79-B2CC-44E1-9198-F3C8295E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5DC-05D0-4C93-8712-C9787FD3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AE1-D6F2-4041-AEF6-B1E96888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B60-1335-43D0-B43E-9CA6A571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245-C68C-4EE7-9346-357384F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D86-EEA2-4471-994C-3BF86F1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5DA-0BEC-46D7-8EAB-2C4A9B0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FF0-8481-4CE0-88AD-C6443AA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6E2-4797-4FAA-BEC5-18AC589E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10-6A32-4ACF-8179-8C0BFBE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DA0-B58E-4182-929D-499950EA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2BA-DB1E-4532-B1C9-C437259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D30-5DA7-4EB8-B6AA-3B69880256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source=images&amp;cd=&amp;cad=rja&amp;docid=czhBmjQCI7gkGM&amp;tbnid=YPYh9ds8EoWJuM:&amp;ved=0CAgQjRwwAA&amp;url=http%3A%2F%2Fwww.clker.com%2Fclipart-10390.html&amp;ei=NGg2UbrCPISUOPH1gegP&amp;psig=AFQjCNFfOiskFhRwi7MH2RAFfUz-NK-iSg&amp;ust=1362606517028201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google.co.uk/url?sa=i&amp;rct=j&amp;q=wash+the+dishes+clipart&amp;source=images&amp;cd=&amp;cad=rja&amp;docid=QWYexSIAr2LTwM&amp;tbnid=ZpbynXixP7HSCM:&amp;ved=0CAUQjRw&amp;url=http%3A%2F%2Fwww.gograph.com%2Fstock-illustration%2Fdish.html&amp;ei=cWg2UbOmIcjYPIvOgPAE&amp;bvm=bv.43148975,d.ZWU&amp;psig=AFQjCNGtTTNo4BtRZW1JjMhd7ABEkXynPQ&amp;ust=136260656048879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.uk/url?sa=i&amp;rct=j&amp;q=iron+clipart&amp;source=images&amp;cd=&amp;cad=rja&amp;docid=GAsG2dSR-BQzVM&amp;tbnid=HXgir2FRtSzqqM:&amp;ved=0CAUQjRw&amp;url=http%3A%2F%2Fwww.freepik.com%2Ffree-vector%2Firon-clip-art_381948.htm&amp;ei=qmg2UadLxes6ho-A2Ac&amp;bvm=bv.43148975,d.ZWU&amp;psig=AFQjCNE9JKc_tmnqfgLL5AY3kOe-qRVqug&amp;ust=136260662880727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.uk/url?sa=i&amp;rct=j&amp;q=trash+can+clipart&amp;source=images&amp;cd=&amp;cad=rja&amp;docid=ZGa3a3FNWnP5MM&amp;tbnid=-M2rTva3NB6QKM:&amp;ved=0CAUQjRw&amp;url=http%3A%2F%2Fwaterstreetbooks.blogspot.com%2F2010_11_01_archive.html&amp;ei=3Gg2UYq4MMPWPJyPgIgG&amp;bvm=bv.43148975,d.ZWU&amp;psig=AFQjCNEq2hnUkPL8C7_bspykYyRLpgObOg&amp;ust=1362606671524540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ALLA NAVAL – LAS 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341360"/>
          <a:ext cx="7848720" cy="496908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1"/>
          <p:cNvSpPr/>
          <p:nvPr/>
        </p:nvSpPr>
        <p:spPr>
          <a:xfrm>
            <a:off x="395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o la compra, lavo los platos, plancho la ropa, saco la basura, paseo al per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755640" y="83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 lunes, los martes, los miércoles, los jueves, los fines de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1" descr="http://www.clker.com/cliparts/8/4/2/d/11954275791751619642cart_pommi_02.svg.hi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335320"/>
            <a:ext cx="115272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3" descr="http://thumbs.gograph.com/gg622486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141720"/>
            <a:ext cx="129528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http://static.freepik.com/free-photo/iron-clip-art_41955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4005360"/>
            <a:ext cx="863640" cy="52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http://2.bp.blogspot.com/_hM6wPbYqTOI/TOGq4XHRvdI/AAAAAAAAAVs/VtT7cOkml3M/s1600/trash%2Bca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4724280"/>
            <a:ext cx="792000" cy="73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9" descr="http://t2.gstatic.com/images?q=tbn:ANd9GcQlLz2TOfzT00V-0hTf4LIgGkIvQaKOjOWH8JQjVoy34gmFC2Ze0w"/>
          <p:cNvPicPr/>
          <p:nvPr/>
        </p:nvPicPr>
        <p:blipFill>
          <a:blip r:embed="rId9"/>
          <a:stretch/>
        </p:blipFill>
        <p:spPr>
          <a:xfrm>
            <a:off x="900000" y="5516640"/>
            <a:ext cx="10209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16:38Z</dcterms:created>
  <dc:creator>mmullen</dc:creator>
  <dc:description/>
  <dc:language>en-US</dc:language>
  <cp:lastModifiedBy>Clare</cp:lastModifiedBy>
  <dcterms:modified xsi:type="dcterms:W3CDTF">2013-05-14T09:14:17Z</dcterms:modified>
  <cp:revision>29</cp:revision>
  <dc:subject/>
  <dc:title>Slide 1</dc:title>
</cp:coreProperties>
</file>