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1310-8A94-4648-98A0-EE31F77C3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AAEB-2BD0-4A52-97AF-F857114F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90D1-CEB8-4898-AC53-FAFE07DF0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1B7B-DA6F-4E4D-86D2-3E6FD69F9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5041-E5E8-4791-A572-2BBC1634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A196-A85B-486A-8EA4-ADF905DA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5373-2ABA-4313-960B-653EDD9A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E8CD-9956-4528-A2B2-87E066B2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8C0F-E714-48D1-AFCD-01E6FEFF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A230-4C3F-40EF-9ADD-48B98E1D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12A9-BF16-4E08-8436-091DE7E8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307E-EC8B-4B87-B785-646299C8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CAF4-288B-464D-88B0-B7B32BF0C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5280" y="333360"/>
            <a:ext cx="8497800" cy="297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Impact"/>
              </a:rPr>
              <a:t>Vocabulario Clave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422100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Tienes que elegir </a:t>
            </a: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a</a:t>
            </a: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, </a:t>
            </a: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b</a:t>
            </a: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 o </a:t>
            </a: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3213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¿Cuán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¿Dón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¿Quié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2360" y="1844640"/>
            <a:ext cx="60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Who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a perso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a g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os ch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79640" y="191628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The people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3573360"/>
            <a:ext cx="8964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as cuatro menos cuar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as cuatro y cuar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as cinco menos cuar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2920" y="184464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4.45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00360" y="170028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a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me gusta com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me gusta co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me gusta comien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9280" y="1557360"/>
            <a:ext cx="59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I like eating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1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a trece jul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el tres de jul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el trece de jul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42920" y="170028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13</a:t>
            </a:r>
            <a:r>
              <a:rPr b="0" lang="en-GB" sz="5400" spc="-1" strike="noStrike" baseline="30000">
                <a:solidFill>
                  <a:srgbClr val="ffff00"/>
                </a:solidFill>
                <a:latin typeface="Arial Rounded MT Bold"/>
              </a:rPr>
              <a:t>th</a:t>
            </a: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 July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68360" y="2060640"/>
            <a:ext cx="8424720" cy="263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7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IN</a:t>
            </a:r>
            <a:endParaRPr b="0" lang="en-US" sz="1800" spc="1" strike="noStrike">
              <a:ln w="12708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p:transition advTm="10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Est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Tie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162864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Arial Rounded MT Bold"/>
              </a:rPr>
              <a:t>________ dieciséis añ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573360"/>
            <a:ext cx="9144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3600" spc="-1" strike="noStrike">
                <a:solidFill>
                  <a:srgbClr val="ffffff"/>
                </a:solidFill>
                <a:latin typeface="Arial Rounded MT Bold"/>
              </a:rPr>
              <a:t>le gu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3600" spc="-1" strike="noStrike">
                <a:solidFill>
                  <a:srgbClr val="ffffff"/>
                </a:solidFill>
                <a:latin typeface="Arial Rounded MT Bold"/>
              </a:rPr>
              <a:t>se gu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3600" spc="-1" strike="noStrike">
                <a:solidFill>
                  <a:srgbClr val="ffffff"/>
                </a:solidFill>
                <a:latin typeface="Arial Rounded MT Bold"/>
              </a:rPr>
              <a:t>ella gu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1484280"/>
            <a:ext cx="53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Arial Rounded MT Bold"/>
              </a:rPr>
              <a:t>She likes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3573360"/>
            <a:ext cx="8964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cien sesenta y sie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ciento sesenta y sie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ciento setenta y sie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47640" y="1628640"/>
            <a:ext cx="61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167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a antigua ca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a casa antigu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 piso antigu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08000" y="162864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An old flat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cada tar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cada d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cada sem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63640" y="177336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Every day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es roj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está roj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tiene roj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35280" y="1844640"/>
            <a:ext cx="55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It is red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jue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vier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sáb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4000" y="1844640"/>
            <a:ext cx="49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Thursday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jug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jugu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jug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32000" y="170028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I played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09:34:31Z</dcterms:created>
  <dc:creator>CSeccombe</dc:creator>
  <dc:description/>
  <dc:language>en-US</dc:language>
  <cp:lastModifiedBy>CSeccombe</cp:lastModifiedBy>
  <dcterms:modified xsi:type="dcterms:W3CDTF">2005-04-05T12:26:43Z</dcterms:modified>
  <cp:revision>8</cp:revision>
  <dc:subject/>
  <dc:title>Slide 1</dc:title>
</cp:coreProperties>
</file>