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3904-A197-47C4-9A3A-7A6138F89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F890-9275-467F-85D0-AC090136F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3BAD-F26B-4434-962E-092155C8E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3B27-EDCB-4DE4-AE0D-6E979EC6A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9540-581A-489B-BC86-52496FB49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9402-2561-436D-AC5B-518C464CC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8CB5-7338-46D8-82EB-CCCE78170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CE7C-1E45-4F85-A6B1-A4699F37A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5FC8-AD8F-48AA-9481-762663233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4CE7-BA56-49DE-B00F-10E4FD4A3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2039-997E-4FF4-8509-7E7B4B2C5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961D-87BD-4C06-9ADA-2540C7257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F0A2C-329B-4908-84A2-68E0271FFA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95280" y="333360"/>
            <a:ext cx="8497800" cy="297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Impact"/>
              </a:rPr>
              <a:t>Vocabulario Clave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4221000"/>
            <a:ext cx="849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Tienes que elegir </a:t>
            </a:r>
            <a:r>
              <a:rPr b="0" lang="en-GB" sz="5400" spc="-1" strike="noStrike">
                <a:solidFill>
                  <a:srgbClr val="ffff00"/>
                </a:solidFill>
                <a:latin typeface="Arial Rounded MT Bold"/>
              </a:rPr>
              <a:t>a</a:t>
            </a: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, </a:t>
            </a:r>
            <a:r>
              <a:rPr b="0" lang="en-GB" sz="5400" spc="-1" strike="noStrike">
                <a:solidFill>
                  <a:srgbClr val="ffff00"/>
                </a:solidFill>
                <a:latin typeface="Arial Rounded MT Bold"/>
              </a:rPr>
              <a:t>b</a:t>
            </a: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 o </a:t>
            </a:r>
            <a:r>
              <a:rPr b="0" lang="en-GB" sz="5400" spc="-1" strike="noStrike">
                <a:solidFill>
                  <a:srgbClr val="ffff00"/>
                </a:solidFill>
                <a:latin typeface="Arial Rounded MT Bold"/>
              </a:rPr>
              <a:t>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419720" y="3213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 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00000" y="3573360"/>
            <a:ext cx="741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¿Cuán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¿Dónd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¿Quié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92360" y="1844640"/>
            <a:ext cx="60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Arial Rounded MT Bold"/>
              </a:rPr>
              <a:t>Who 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00000" y="3573360"/>
            <a:ext cx="741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la perso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la ge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los ch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79640" y="1916280"/>
            <a:ext cx="525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Arial Rounded MT Bold"/>
              </a:rPr>
              <a:t>The people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 1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3573360"/>
            <a:ext cx="89647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las cuatro menos cuar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las cuatro y cuar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las cinco menos cuar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42920" y="1844640"/>
            <a:ext cx="720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Arial Rounded MT Bold"/>
              </a:rPr>
              <a:t>4.45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00000" y="3573360"/>
            <a:ext cx="741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00360" y="1700280"/>
            <a:ext cx="38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Arial Rounded MT Bold"/>
              </a:rPr>
              <a:t>a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1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00000" y="3573360"/>
            <a:ext cx="741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me gusta com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me gusta com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me gusta comien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19280" y="1557360"/>
            <a:ext cx="59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Arial Rounded MT Bold"/>
              </a:rPr>
              <a:t>I like eating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1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00000" y="3573360"/>
            <a:ext cx="741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a trece jul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el tres de jul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el trece de jul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42920" y="1700280"/>
            <a:ext cx="720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Arial Rounded MT Bold"/>
              </a:rPr>
              <a:t>13</a:t>
            </a:r>
            <a:r>
              <a:rPr b="0" lang="en-GB" sz="5400" spc="-1" strike="noStrike" baseline="30000">
                <a:solidFill>
                  <a:srgbClr val="ffff00"/>
                </a:solidFill>
                <a:latin typeface="Arial Rounded MT Bold"/>
              </a:rPr>
              <a:t>th</a:t>
            </a:r>
            <a:r>
              <a:rPr b="0" lang="en-GB" sz="5400" spc="-1" strike="noStrike">
                <a:solidFill>
                  <a:srgbClr val="ffff00"/>
                </a:solidFill>
                <a:latin typeface="Arial Rounded MT Bold"/>
              </a:rPr>
              <a:t> July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68360" y="2060640"/>
            <a:ext cx="8424720" cy="263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7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FIN</a:t>
            </a:r>
            <a:endParaRPr b="0" lang="en-US" sz="1800" spc="1" strike="noStrike">
              <a:ln w="127080">
                <a:solidFill>
                  <a:srgbClr val="ff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</p:spTree>
  </p:cSld>
  <p:transition advTm="10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00000" y="3573360"/>
            <a:ext cx="741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Est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Tie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1628640"/>
            <a:ext cx="799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Arial Rounded MT Bold"/>
              </a:rPr>
              <a:t>________ dieciséis añ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573360"/>
            <a:ext cx="9144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3600" spc="-1" strike="noStrike">
                <a:solidFill>
                  <a:srgbClr val="ffffff"/>
                </a:solidFill>
                <a:latin typeface="Arial Rounded MT Bold"/>
              </a:rPr>
              <a:t>le gus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3600" spc="-1" strike="noStrike">
                <a:solidFill>
                  <a:srgbClr val="ffffff"/>
                </a:solidFill>
                <a:latin typeface="Arial Rounded MT Bold"/>
              </a:rPr>
              <a:t>se gus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3600" spc="-1" strike="noStrike">
                <a:solidFill>
                  <a:srgbClr val="ffffff"/>
                </a:solidFill>
                <a:latin typeface="Arial Rounded MT Bold"/>
              </a:rPr>
              <a:t>ella gus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1484280"/>
            <a:ext cx="532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00"/>
                </a:solidFill>
                <a:latin typeface="Arial Rounded MT Bold"/>
              </a:rPr>
              <a:t>She likes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 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3573360"/>
            <a:ext cx="89647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cien sesenta y sie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ciento sesenta y sie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ciento setenta y sie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47640" y="1628640"/>
            <a:ext cx="61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Arial Rounded MT Bold"/>
              </a:rPr>
              <a:t>167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 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00000" y="3573360"/>
            <a:ext cx="741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una antigua ca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una casa antigu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un piso antigu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08000" y="1628640"/>
            <a:ext cx="54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Arial Rounded MT Bold"/>
              </a:rPr>
              <a:t>An old flat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 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3573360"/>
            <a:ext cx="741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cada tar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cada dí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cada sema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63640" y="1773360"/>
            <a:ext cx="57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Arial Rounded MT Bold"/>
              </a:rPr>
              <a:t>Every day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 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00000" y="3573360"/>
            <a:ext cx="741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es roj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está roj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tiene roj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35280" y="1844640"/>
            <a:ext cx="554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Arial Rounded MT Bold"/>
              </a:rPr>
              <a:t>It is red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 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00000" y="3573360"/>
            <a:ext cx="741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jue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vier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sába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24000" y="1844640"/>
            <a:ext cx="49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Arial Rounded MT Bold"/>
              </a:rPr>
              <a:t>Thursday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 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00000" y="3573360"/>
            <a:ext cx="741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jug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jugu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jug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332000" y="1700280"/>
            <a:ext cx="64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Arial Rounded MT Bold"/>
              </a:rPr>
              <a:t>I played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7T09:34:31Z</dcterms:created>
  <dc:creator>CSeccombe</dc:creator>
  <dc:description/>
  <dc:language>en-US</dc:language>
  <cp:lastModifiedBy>CSeccombe</cp:lastModifiedBy>
  <dcterms:modified xsi:type="dcterms:W3CDTF">2005-04-05T12:26:43Z</dcterms:modified>
  <cp:revision>8</cp:revision>
  <dc:subject/>
  <dc:title>Slide 1</dc:title>
</cp:coreProperties>
</file>