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AED-D6C5-450B-980B-EB2894A19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 pupils a list of numbers to put together sentences,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 4, 12 = En mi habitación había una cama, un minibar y un cuarto de b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633-E080-40CF-BB1F-466E70A1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57D-B79A-4656-9B85-F0101421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771-BE00-4FD8-AAED-A716141E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B92-E3E7-4561-B351-56898C44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900-C966-4BED-88AC-0782C62B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FE8-C255-4A1F-9637-0B571353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323-77D8-49CB-BA2B-14F0BE55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CCF-35FE-413F-B66C-CE55E3C9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63A-3027-430F-97BB-E17141D9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747-8A0E-4896-A37E-A9294B28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1D7-9569-4F43-A905-C62A1D9B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150-C6CF-4249-90EB-E89D9CF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183F-7131-4FF1-9FD9-A202256D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206064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205000"/>
            <a:ext cx="43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422100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5877000"/>
            <a:ext cx="43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450864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486900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14172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3141720"/>
            <a:ext cx="43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4869000"/>
            <a:ext cx="43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869000"/>
            <a:ext cx="7189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3213000"/>
            <a:ext cx="7207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6021360"/>
            <a:ext cx="7207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1:47:53Z</dcterms:created>
  <dc:creator>CSeccombe</dc:creator>
  <dc:description/>
  <dc:language>en-US</dc:language>
  <cp:lastModifiedBy>CSeccombe</cp:lastModifiedBy>
  <dcterms:modified xsi:type="dcterms:W3CDTF">2008-01-11T12:05:48Z</dcterms:modified>
  <cp:revision>10</cp:revision>
  <dc:subject/>
  <dc:title>Slide 1</dc:title>
</cp:coreProperties>
</file>