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FA64-185A-4992-8AB3-3B152F77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 pupils a list of numbers to put together sentences,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 4, 12 = En mi habitación había una cama, un minibar y un cuarto de b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FA5-AAA6-4B52-8C97-9DE7215E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72B-4DC4-49B0-B09E-848F8FD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494-EDDC-42D5-A316-0D1EB096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751-E0A2-46B7-85D0-C735519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886-522E-405F-97CC-E1592E8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005-D705-495D-A414-B9B54C46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24B-BE4D-4D1F-8021-83133D69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B13-B5A0-453C-8C29-E593435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778-C0E6-41C0-9092-7DAC843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211-85E2-4FC8-9C1C-184E382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B2D-360A-4F34-B402-1D85907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5A2-C640-4D53-958F-E4DEFA8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835-7729-4D88-9A8C-E30E7A99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206064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2205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22100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5877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450864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86900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141720"/>
            <a:ext cx="4320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314172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869000"/>
            <a:ext cx="431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869000"/>
            <a:ext cx="7189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213000"/>
            <a:ext cx="7207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021360"/>
            <a:ext cx="7207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1:47:53Z</dcterms:created>
  <dc:creator>CSeccombe</dc:creator>
  <dc:description/>
  <dc:language>en-US</dc:language>
  <cp:lastModifiedBy>CSeccombe</cp:lastModifiedBy>
  <dcterms:modified xsi:type="dcterms:W3CDTF">2008-01-11T12:05:48Z</dcterms:modified>
  <cp:revision>10</cp:revision>
  <dc:subject/>
  <dc:title>Slide 1</dc:title>
</cp:coreProperties>
</file>