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009A-0F08-41EF-85AC-6DAB43E31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E85D-5F6F-48E0-AA91-D7ED7772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03B9-F30A-4016-B794-ED7EEABC5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70FD-3D5D-4ABC-A708-214BA884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3E80-899E-4139-86AF-65AD061A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7938-09A9-4F8F-9D04-0351A575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44AB-9355-4A2F-B481-B65C223B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3BB7-4B11-4A4B-9002-6510E0B8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C4BB-FB8A-4868-BF22-7C0B555E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2987-A734-47BC-B945-50692914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1C21-C48B-400D-B338-20F45A57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1BDB-879F-4AB5-98A0-2E39DF16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F8B9-B12C-4973-939A-8743BD46C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5280" y="907920"/>
            <a:ext cx="849780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Comic Sans MS"/>
              </a:rPr>
              <a:t>En mi habitació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Comic Sans MS"/>
              </a:rPr>
              <a:t>había.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8000" y="692280"/>
            <a:ext cx="5185080" cy="5184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659640" y="62064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00720" y="270828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59640" y="270828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620640"/>
            <a:ext cx="215928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40000" y="270828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00720" y="62064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2708280"/>
            <a:ext cx="215928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40000" y="62064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59640" y="477036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00720" y="477036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40000" y="477036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4770360"/>
            <a:ext cx="215928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32720" y="0"/>
            <a:ext cx="2411280" cy="476280"/>
          </a:xfrm>
          <a:custGeom>
            <a:avLst/>
            <a:gdLst>
              <a:gd name="textAreaLeft" fmla="*/ 30600 w 2411280"/>
              <a:gd name="textAreaRight" fmla="*/ 2380680 w 24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109289" h="21600">
                <a:moveTo>
                  <a:pt x="0" y="0"/>
                </a:moveTo>
                <a:lnTo>
                  <a:pt x="109289" y="0"/>
                </a:lnTo>
                <a:lnTo>
                  <a:pt x="109289" y="21600"/>
                </a:lnTo>
                <a:lnTo>
                  <a:pt x="0" y="21600"/>
                </a:lnTo>
                <a:close/>
              </a:path>
              <a:path fill="lightenLess" w="109289" h="21600">
                <a:moveTo>
                  <a:pt x="0" y="0"/>
                </a:moveTo>
                <a:lnTo>
                  <a:pt x="109289" y="0"/>
                </a:lnTo>
                <a:lnTo>
                  <a:pt x="107889" y="1400"/>
                </a:lnTo>
                <a:lnTo>
                  <a:pt x="1400" y="1400"/>
                </a:lnTo>
                <a:close/>
              </a:path>
              <a:path fill="darken" w="109289" h="21600">
                <a:moveTo>
                  <a:pt x="109289" y="0"/>
                </a:moveTo>
                <a:lnTo>
                  <a:pt x="109289" y="21600"/>
                </a:lnTo>
                <a:lnTo>
                  <a:pt x="107889" y="20200"/>
                </a:lnTo>
                <a:lnTo>
                  <a:pt x="107889" y="1400"/>
                </a:lnTo>
                <a:close/>
              </a:path>
              <a:path fill="darkenLess" w="109289" h="21600">
                <a:moveTo>
                  <a:pt x="109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7889" y="20200"/>
                </a:lnTo>
                <a:close/>
              </a:path>
              <a:path fill="lighten" w="109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HOW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0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6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0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6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2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4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0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716360" y="580536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una duc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908000" y="549360"/>
            <a:ext cx="5185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195640" y="692280"/>
            <a:ext cx="5329080" cy="5329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659640" y="62064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00720" y="270828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59640" y="270828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620640"/>
            <a:ext cx="215928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40000" y="270828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00720" y="62064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2708280"/>
            <a:ext cx="215928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62064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59640" y="477036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00720" y="477036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40000" y="477036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4770360"/>
            <a:ext cx="215928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32720" y="0"/>
            <a:ext cx="2411280" cy="476280"/>
          </a:xfrm>
          <a:custGeom>
            <a:avLst/>
            <a:gdLst>
              <a:gd name="textAreaLeft" fmla="*/ 30600 w 2411280"/>
              <a:gd name="textAreaRight" fmla="*/ 2380680 w 24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109289" h="21600">
                <a:moveTo>
                  <a:pt x="0" y="0"/>
                </a:moveTo>
                <a:lnTo>
                  <a:pt x="109289" y="0"/>
                </a:lnTo>
                <a:lnTo>
                  <a:pt x="109289" y="21600"/>
                </a:lnTo>
                <a:lnTo>
                  <a:pt x="0" y="21600"/>
                </a:lnTo>
                <a:close/>
              </a:path>
              <a:path fill="lightenLess" w="109289" h="21600">
                <a:moveTo>
                  <a:pt x="0" y="0"/>
                </a:moveTo>
                <a:lnTo>
                  <a:pt x="109289" y="0"/>
                </a:lnTo>
                <a:lnTo>
                  <a:pt x="107889" y="1400"/>
                </a:lnTo>
                <a:lnTo>
                  <a:pt x="1400" y="1400"/>
                </a:lnTo>
                <a:close/>
              </a:path>
              <a:path fill="darken" w="109289" h="21600">
                <a:moveTo>
                  <a:pt x="109289" y="0"/>
                </a:moveTo>
                <a:lnTo>
                  <a:pt x="109289" y="21600"/>
                </a:lnTo>
                <a:lnTo>
                  <a:pt x="107889" y="20200"/>
                </a:lnTo>
                <a:lnTo>
                  <a:pt x="107889" y="1400"/>
                </a:lnTo>
                <a:close/>
              </a:path>
              <a:path fill="darkenLess" w="109289" h="21600">
                <a:moveTo>
                  <a:pt x="109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7889" y="20200"/>
                </a:lnTo>
                <a:close/>
              </a:path>
              <a:path fill="lighten" w="109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HOW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2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3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3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4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4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5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5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6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6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7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7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8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716360" y="580536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una si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195640" y="692280"/>
            <a:ext cx="53290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47640" y="765000"/>
            <a:ext cx="6553440" cy="4905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659640" y="62064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00720" y="270828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59640" y="270828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620640"/>
            <a:ext cx="215928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40000" y="270828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00720" y="62064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9280" y="2708280"/>
            <a:ext cx="215928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40000" y="62064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59640" y="477036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00720" y="477036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340000" y="477036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9280" y="4770360"/>
            <a:ext cx="215928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32720" y="0"/>
            <a:ext cx="2411280" cy="476280"/>
          </a:xfrm>
          <a:custGeom>
            <a:avLst/>
            <a:gdLst>
              <a:gd name="textAreaLeft" fmla="*/ 30600 w 2411280"/>
              <a:gd name="textAreaRight" fmla="*/ 2380680 w 24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109289" h="21600">
                <a:moveTo>
                  <a:pt x="0" y="0"/>
                </a:moveTo>
                <a:lnTo>
                  <a:pt x="109289" y="0"/>
                </a:lnTo>
                <a:lnTo>
                  <a:pt x="109289" y="21600"/>
                </a:lnTo>
                <a:lnTo>
                  <a:pt x="0" y="21600"/>
                </a:lnTo>
                <a:close/>
              </a:path>
              <a:path fill="lightenLess" w="109289" h="21600">
                <a:moveTo>
                  <a:pt x="0" y="0"/>
                </a:moveTo>
                <a:lnTo>
                  <a:pt x="109289" y="0"/>
                </a:lnTo>
                <a:lnTo>
                  <a:pt x="107889" y="1400"/>
                </a:lnTo>
                <a:lnTo>
                  <a:pt x="1400" y="1400"/>
                </a:lnTo>
                <a:close/>
              </a:path>
              <a:path fill="darken" w="109289" h="21600">
                <a:moveTo>
                  <a:pt x="109289" y="0"/>
                </a:moveTo>
                <a:lnTo>
                  <a:pt x="109289" y="21600"/>
                </a:lnTo>
                <a:lnTo>
                  <a:pt x="107889" y="20200"/>
                </a:lnTo>
                <a:lnTo>
                  <a:pt x="107889" y="1400"/>
                </a:lnTo>
                <a:close/>
              </a:path>
              <a:path fill="darkenLess" w="109289" h="21600">
                <a:moveTo>
                  <a:pt x="109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7889" y="20200"/>
                </a:lnTo>
                <a:close/>
              </a:path>
              <a:path fill="lighten" w="109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HOW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716360" y="580536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una m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547640" y="765000"/>
            <a:ext cx="6553440" cy="49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987640" y="765000"/>
            <a:ext cx="3178080" cy="52563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659640" y="62064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00720" y="270828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659640" y="270828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620640"/>
            <a:ext cx="215928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40000" y="270828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00720" y="62064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9280" y="2708280"/>
            <a:ext cx="215928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40000" y="62064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59640" y="477036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00720" y="477036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40000" y="477036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9280" y="4770360"/>
            <a:ext cx="215928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32720" y="0"/>
            <a:ext cx="2411280" cy="476280"/>
          </a:xfrm>
          <a:custGeom>
            <a:avLst/>
            <a:gdLst>
              <a:gd name="textAreaLeft" fmla="*/ 30600 w 2411280"/>
              <a:gd name="textAreaRight" fmla="*/ 2380680 w 24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109289" h="21600">
                <a:moveTo>
                  <a:pt x="0" y="0"/>
                </a:moveTo>
                <a:lnTo>
                  <a:pt x="109289" y="0"/>
                </a:lnTo>
                <a:lnTo>
                  <a:pt x="109289" y="21600"/>
                </a:lnTo>
                <a:lnTo>
                  <a:pt x="0" y="21600"/>
                </a:lnTo>
                <a:close/>
              </a:path>
              <a:path fill="lightenLess" w="109289" h="21600">
                <a:moveTo>
                  <a:pt x="0" y="0"/>
                </a:moveTo>
                <a:lnTo>
                  <a:pt x="109289" y="0"/>
                </a:lnTo>
                <a:lnTo>
                  <a:pt x="107889" y="1400"/>
                </a:lnTo>
                <a:lnTo>
                  <a:pt x="1400" y="1400"/>
                </a:lnTo>
                <a:close/>
              </a:path>
              <a:path fill="darken" w="109289" h="21600">
                <a:moveTo>
                  <a:pt x="109289" y="0"/>
                </a:moveTo>
                <a:lnTo>
                  <a:pt x="109289" y="21600"/>
                </a:lnTo>
                <a:lnTo>
                  <a:pt x="107889" y="20200"/>
                </a:lnTo>
                <a:lnTo>
                  <a:pt x="107889" y="1400"/>
                </a:lnTo>
                <a:close/>
              </a:path>
              <a:path fill="darkenLess" w="109289" h="21600">
                <a:moveTo>
                  <a:pt x="109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7889" y="20200"/>
                </a:lnTo>
                <a:close/>
              </a:path>
              <a:path fill="lighten" w="109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HOW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4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4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5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5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6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6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7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7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8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8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9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9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716360" y="580536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un lavab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987640" y="765000"/>
            <a:ext cx="3178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6624720" cy="5386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659640" y="62064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00720" y="270828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59640" y="270828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620640"/>
            <a:ext cx="215928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62064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00720" y="62064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2708280"/>
            <a:ext cx="215928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70828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59640" y="477036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477036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0000" y="477036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4770360"/>
            <a:ext cx="215928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32720" y="0"/>
            <a:ext cx="2411280" cy="476280"/>
          </a:xfrm>
          <a:custGeom>
            <a:avLst/>
            <a:gdLst>
              <a:gd name="textAreaLeft" fmla="*/ 30600 w 2411280"/>
              <a:gd name="textAreaRight" fmla="*/ 2380680 w 24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109289" h="21600">
                <a:moveTo>
                  <a:pt x="0" y="0"/>
                </a:moveTo>
                <a:lnTo>
                  <a:pt x="109289" y="0"/>
                </a:lnTo>
                <a:lnTo>
                  <a:pt x="109289" y="21600"/>
                </a:lnTo>
                <a:lnTo>
                  <a:pt x="0" y="21600"/>
                </a:lnTo>
                <a:close/>
              </a:path>
              <a:path fill="lightenLess" w="109289" h="21600">
                <a:moveTo>
                  <a:pt x="0" y="0"/>
                </a:moveTo>
                <a:lnTo>
                  <a:pt x="109289" y="0"/>
                </a:lnTo>
                <a:lnTo>
                  <a:pt x="107889" y="1400"/>
                </a:lnTo>
                <a:lnTo>
                  <a:pt x="1400" y="1400"/>
                </a:lnTo>
                <a:close/>
              </a:path>
              <a:path fill="darken" w="109289" h="21600">
                <a:moveTo>
                  <a:pt x="109289" y="0"/>
                </a:moveTo>
                <a:lnTo>
                  <a:pt x="109289" y="21600"/>
                </a:lnTo>
                <a:lnTo>
                  <a:pt x="107889" y="20200"/>
                </a:lnTo>
                <a:lnTo>
                  <a:pt x="107889" y="1400"/>
                </a:lnTo>
                <a:close/>
              </a:path>
              <a:path fill="darkenLess" w="109289" h="21600">
                <a:moveTo>
                  <a:pt x="109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7889" y="20200"/>
                </a:lnTo>
                <a:close/>
              </a:path>
              <a:path fill="lighten" w="109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HOW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6624720" cy="5386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643280" y="522936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una c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03280" y="620640"/>
            <a:ext cx="6048360" cy="55389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659640" y="62064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00720" y="270828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659640" y="270828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620640"/>
            <a:ext cx="215928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40000" y="62064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00720" y="62064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2708280"/>
            <a:ext cx="215928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40000" y="270828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59640" y="477036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477036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40000" y="477036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4770360"/>
            <a:ext cx="215928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32720" y="0"/>
            <a:ext cx="2411280" cy="476280"/>
          </a:xfrm>
          <a:custGeom>
            <a:avLst/>
            <a:gdLst>
              <a:gd name="textAreaLeft" fmla="*/ 30600 w 2411280"/>
              <a:gd name="textAreaRight" fmla="*/ 2380680 w 24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109289" h="21600">
                <a:moveTo>
                  <a:pt x="0" y="0"/>
                </a:moveTo>
                <a:lnTo>
                  <a:pt x="109289" y="0"/>
                </a:lnTo>
                <a:lnTo>
                  <a:pt x="109289" y="21600"/>
                </a:lnTo>
                <a:lnTo>
                  <a:pt x="0" y="21600"/>
                </a:lnTo>
                <a:close/>
              </a:path>
              <a:path fill="lightenLess" w="109289" h="21600">
                <a:moveTo>
                  <a:pt x="0" y="0"/>
                </a:moveTo>
                <a:lnTo>
                  <a:pt x="109289" y="0"/>
                </a:lnTo>
                <a:lnTo>
                  <a:pt x="107889" y="1400"/>
                </a:lnTo>
                <a:lnTo>
                  <a:pt x="1400" y="1400"/>
                </a:lnTo>
                <a:close/>
              </a:path>
              <a:path fill="darken" w="109289" h="21600">
                <a:moveTo>
                  <a:pt x="109289" y="0"/>
                </a:moveTo>
                <a:lnTo>
                  <a:pt x="109289" y="21600"/>
                </a:lnTo>
                <a:lnTo>
                  <a:pt x="107889" y="20200"/>
                </a:lnTo>
                <a:lnTo>
                  <a:pt x="107889" y="1400"/>
                </a:lnTo>
                <a:close/>
              </a:path>
              <a:path fill="darkenLess" w="109289" h="21600">
                <a:moveTo>
                  <a:pt x="109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7889" y="20200"/>
                </a:lnTo>
                <a:close/>
              </a:path>
              <a:path fill="lighten" w="109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HOW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716360" y="580536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rt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03280" y="476280"/>
            <a:ext cx="6048360" cy="55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935440" y="907920"/>
            <a:ext cx="3225600" cy="5113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659640" y="62064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00720" y="270828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659640" y="270828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620640"/>
            <a:ext cx="215928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340000" y="62064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00720" y="62064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2708280"/>
            <a:ext cx="215928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40000" y="270828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659640" y="477036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00720" y="477036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40000" y="477036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4770360"/>
            <a:ext cx="215928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32720" y="0"/>
            <a:ext cx="2411280" cy="476280"/>
          </a:xfrm>
          <a:custGeom>
            <a:avLst/>
            <a:gdLst>
              <a:gd name="textAreaLeft" fmla="*/ 30600 w 2411280"/>
              <a:gd name="textAreaRight" fmla="*/ 2380680 w 24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109289" h="21600">
                <a:moveTo>
                  <a:pt x="0" y="0"/>
                </a:moveTo>
                <a:lnTo>
                  <a:pt x="109289" y="0"/>
                </a:lnTo>
                <a:lnTo>
                  <a:pt x="109289" y="21600"/>
                </a:lnTo>
                <a:lnTo>
                  <a:pt x="0" y="21600"/>
                </a:lnTo>
                <a:close/>
              </a:path>
              <a:path fill="lightenLess" w="109289" h="21600">
                <a:moveTo>
                  <a:pt x="0" y="0"/>
                </a:moveTo>
                <a:lnTo>
                  <a:pt x="109289" y="0"/>
                </a:lnTo>
                <a:lnTo>
                  <a:pt x="107889" y="1400"/>
                </a:lnTo>
                <a:lnTo>
                  <a:pt x="1400" y="1400"/>
                </a:lnTo>
                <a:close/>
              </a:path>
              <a:path fill="darken" w="109289" h="21600">
                <a:moveTo>
                  <a:pt x="109289" y="0"/>
                </a:moveTo>
                <a:lnTo>
                  <a:pt x="109289" y="21600"/>
                </a:lnTo>
                <a:lnTo>
                  <a:pt x="107889" y="20200"/>
                </a:lnTo>
                <a:lnTo>
                  <a:pt x="107889" y="1400"/>
                </a:lnTo>
                <a:close/>
              </a:path>
              <a:path fill="darkenLess" w="109289" h="21600">
                <a:moveTo>
                  <a:pt x="109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7889" y="20200"/>
                </a:lnTo>
                <a:close/>
              </a:path>
              <a:path fill="lighten" w="109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HOW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716360" y="580536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un as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935440" y="907920"/>
            <a:ext cx="32256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771640" y="836640"/>
            <a:ext cx="3484800" cy="5113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659640" y="62064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00720" y="270828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59640" y="270828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620640"/>
            <a:ext cx="215928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340000" y="62064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00720" y="62064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2708280"/>
            <a:ext cx="215928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40000" y="270828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59640" y="477036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0720" y="477036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477036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4770360"/>
            <a:ext cx="215928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32720" y="0"/>
            <a:ext cx="2411280" cy="476280"/>
          </a:xfrm>
          <a:custGeom>
            <a:avLst/>
            <a:gdLst>
              <a:gd name="textAreaLeft" fmla="*/ 30600 w 2411280"/>
              <a:gd name="textAreaRight" fmla="*/ 2380680 w 24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109289" h="21600">
                <a:moveTo>
                  <a:pt x="0" y="0"/>
                </a:moveTo>
                <a:lnTo>
                  <a:pt x="109289" y="0"/>
                </a:lnTo>
                <a:lnTo>
                  <a:pt x="109289" y="21600"/>
                </a:lnTo>
                <a:lnTo>
                  <a:pt x="0" y="21600"/>
                </a:lnTo>
                <a:close/>
              </a:path>
              <a:path fill="lightenLess" w="109289" h="21600">
                <a:moveTo>
                  <a:pt x="0" y="0"/>
                </a:moveTo>
                <a:lnTo>
                  <a:pt x="109289" y="0"/>
                </a:lnTo>
                <a:lnTo>
                  <a:pt x="107889" y="1400"/>
                </a:lnTo>
                <a:lnTo>
                  <a:pt x="1400" y="1400"/>
                </a:lnTo>
                <a:close/>
              </a:path>
              <a:path fill="darken" w="109289" h="21600">
                <a:moveTo>
                  <a:pt x="109289" y="0"/>
                </a:moveTo>
                <a:lnTo>
                  <a:pt x="109289" y="21600"/>
                </a:lnTo>
                <a:lnTo>
                  <a:pt x="107889" y="20200"/>
                </a:lnTo>
                <a:lnTo>
                  <a:pt x="107889" y="1400"/>
                </a:lnTo>
                <a:close/>
              </a:path>
              <a:path fill="darkenLess" w="109289" h="21600">
                <a:moveTo>
                  <a:pt x="109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7889" y="20200"/>
                </a:lnTo>
                <a:close/>
              </a:path>
              <a:path fill="lighten" w="109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HOW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716360" y="580536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un teléfo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805120" y="907920"/>
            <a:ext cx="34844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21:14:48Z</dcterms:created>
  <dc:creator>CSeccombe</dc:creator>
  <dc:description/>
  <dc:language>en-US</dc:language>
  <cp:lastModifiedBy>CSeccombe</cp:lastModifiedBy>
  <dcterms:modified xsi:type="dcterms:W3CDTF">2008-01-11T12:00:12Z</dcterms:modified>
  <cp:revision>10</cp:revision>
  <dc:subject/>
  <dc:title>Slide 1</dc:title>
</cp:coreProperties>
</file>