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93F2-FDA0-4DE6-9D5F-CB3B4D5F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A29E-2BD6-4E1B-A5A9-B1267DA5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C02E-8474-470D-87E6-AC1D7A6B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7CB4-C843-48D2-A965-625A34CA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141C-D5B2-4062-B5F8-EA1068E4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1B79-A95D-49CD-9457-BB8324C5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D92D-AFD2-4A6D-9AC8-B5F057E0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A506-61F1-4204-BDED-484287DC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AE4C-22D4-4131-A6EF-D82F9471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88A9-56CE-4D3A-9417-05064811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57A1-E119-4E59-B80A-3DD3AEF3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C71B-E76C-42F2-B5B6-A5BF6695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0669-749E-4A68-B9CD-A582792A2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907920"/>
            <a:ext cx="849780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Comic Sans MS"/>
              </a:rPr>
              <a:t>En mi habitació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Comic Sans MS"/>
              </a:rPr>
              <a:t>había.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8000" y="692280"/>
            <a:ext cx="5185080" cy="5184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65964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0072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5964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62064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4000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0072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270828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4000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5964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0072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477036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32720" y="0"/>
            <a:ext cx="2411280" cy="476280"/>
          </a:xfrm>
          <a:custGeom>
            <a:avLst/>
            <a:gdLst>
              <a:gd name="textAreaLeft" fmla="*/ 30600 w 2411280"/>
              <a:gd name="textAreaRight" fmla="*/ 2380680 w 24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109289" h="21600">
                <a:moveTo>
                  <a:pt x="0" y="0"/>
                </a:moveTo>
                <a:lnTo>
                  <a:pt x="109289" y="0"/>
                </a:lnTo>
                <a:lnTo>
                  <a:pt x="109289" y="21600"/>
                </a:lnTo>
                <a:lnTo>
                  <a:pt x="0" y="21600"/>
                </a:lnTo>
                <a:close/>
              </a:path>
              <a:path fill="lightenLess" w="109289" h="21600">
                <a:moveTo>
                  <a:pt x="0" y="0"/>
                </a:moveTo>
                <a:lnTo>
                  <a:pt x="109289" y="0"/>
                </a:lnTo>
                <a:lnTo>
                  <a:pt x="107889" y="1400"/>
                </a:lnTo>
                <a:lnTo>
                  <a:pt x="1400" y="1400"/>
                </a:lnTo>
                <a:close/>
              </a:path>
              <a:path fill="darken" w="109289" h="21600">
                <a:moveTo>
                  <a:pt x="109289" y="0"/>
                </a:moveTo>
                <a:lnTo>
                  <a:pt x="109289" y="21600"/>
                </a:lnTo>
                <a:lnTo>
                  <a:pt x="107889" y="20200"/>
                </a:lnTo>
                <a:lnTo>
                  <a:pt x="107889" y="1400"/>
                </a:lnTo>
                <a:close/>
              </a:path>
              <a:path fill="darkenLess" w="109289" h="21600">
                <a:moveTo>
                  <a:pt x="109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7889" y="20200"/>
                </a:lnTo>
                <a:close/>
              </a:path>
              <a:path fill="lighten" w="109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HOW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716360" y="5805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una duc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5185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195640" y="692280"/>
            <a:ext cx="5329080" cy="5329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65964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5964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62064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270828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5964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0072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4000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477036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32720" y="0"/>
            <a:ext cx="2411280" cy="476280"/>
          </a:xfrm>
          <a:custGeom>
            <a:avLst/>
            <a:gdLst>
              <a:gd name="textAreaLeft" fmla="*/ 30600 w 2411280"/>
              <a:gd name="textAreaRight" fmla="*/ 2380680 w 24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109289" h="21600">
                <a:moveTo>
                  <a:pt x="0" y="0"/>
                </a:moveTo>
                <a:lnTo>
                  <a:pt x="109289" y="0"/>
                </a:lnTo>
                <a:lnTo>
                  <a:pt x="109289" y="21600"/>
                </a:lnTo>
                <a:lnTo>
                  <a:pt x="0" y="21600"/>
                </a:lnTo>
                <a:close/>
              </a:path>
              <a:path fill="lightenLess" w="109289" h="21600">
                <a:moveTo>
                  <a:pt x="0" y="0"/>
                </a:moveTo>
                <a:lnTo>
                  <a:pt x="109289" y="0"/>
                </a:lnTo>
                <a:lnTo>
                  <a:pt x="107889" y="1400"/>
                </a:lnTo>
                <a:lnTo>
                  <a:pt x="1400" y="1400"/>
                </a:lnTo>
                <a:close/>
              </a:path>
              <a:path fill="darken" w="109289" h="21600">
                <a:moveTo>
                  <a:pt x="109289" y="0"/>
                </a:moveTo>
                <a:lnTo>
                  <a:pt x="109289" y="21600"/>
                </a:lnTo>
                <a:lnTo>
                  <a:pt x="107889" y="20200"/>
                </a:lnTo>
                <a:lnTo>
                  <a:pt x="107889" y="1400"/>
                </a:lnTo>
                <a:close/>
              </a:path>
              <a:path fill="darkenLess" w="109289" h="21600">
                <a:moveTo>
                  <a:pt x="109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7889" y="20200"/>
                </a:lnTo>
                <a:close/>
              </a:path>
              <a:path fill="lighten" w="109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HOW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2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3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3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4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4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5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5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6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6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7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8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716360" y="5805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una s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195640" y="692280"/>
            <a:ext cx="53290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6553440" cy="4905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65964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0072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5964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62064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4000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270828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4000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5964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0072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4000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477036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32720" y="0"/>
            <a:ext cx="2411280" cy="476280"/>
          </a:xfrm>
          <a:custGeom>
            <a:avLst/>
            <a:gdLst>
              <a:gd name="textAreaLeft" fmla="*/ 30600 w 2411280"/>
              <a:gd name="textAreaRight" fmla="*/ 2380680 w 24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109289" h="21600">
                <a:moveTo>
                  <a:pt x="0" y="0"/>
                </a:moveTo>
                <a:lnTo>
                  <a:pt x="109289" y="0"/>
                </a:lnTo>
                <a:lnTo>
                  <a:pt x="109289" y="21600"/>
                </a:lnTo>
                <a:lnTo>
                  <a:pt x="0" y="21600"/>
                </a:lnTo>
                <a:close/>
              </a:path>
              <a:path fill="lightenLess" w="109289" h="21600">
                <a:moveTo>
                  <a:pt x="0" y="0"/>
                </a:moveTo>
                <a:lnTo>
                  <a:pt x="109289" y="0"/>
                </a:lnTo>
                <a:lnTo>
                  <a:pt x="107889" y="1400"/>
                </a:lnTo>
                <a:lnTo>
                  <a:pt x="1400" y="1400"/>
                </a:lnTo>
                <a:close/>
              </a:path>
              <a:path fill="darken" w="109289" h="21600">
                <a:moveTo>
                  <a:pt x="109289" y="0"/>
                </a:moveTo>
                <a:lnTo>
                  <a:pt x="109289" y="21600"/>
                </a:lnTo>
                <a:lnTo>
                  <a:pt x="107889" y="20200"/>
                </a:lnTo>
                <a:lnTo>
                  <a:pt x="107889" y="1400"/>
                </a:lnTo>
                <a:close/>
              </a:path>
              <a:path fill="darkenLess" w="109289" h="21600">
                <a:moveTo>
                  <a:pt x="109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7889" y="20200"/>
                </a:lnTo>
                <a:close/>
              </a:path>
              <a:path fill="lighten" w="109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HOW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716360" y="5805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una m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6553440" cy="49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987640" y="765000"/>
            <a:ext cx="3178080" cy="5256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65964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0072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5964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62064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270828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5964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0072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4000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477036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32720" y="0"/>
            <a:ext cx="2411280" cy="476280"/>
          </a:xfrm>
          <a:custGeom>
            <a:avLst/>
            <a:gdLst>
              <a:gd name="textAreaLeft" fmla="*/ 30600 w 2411280"/>
              <a:gd name="textAreaRight" fmla="*/ 2380680 w 24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109289" h="21600">
                <a:moveTo>
                  <a:pt x="0" y="0"/>
                </a:moveTo>
                <a:lnTo>
                  <a:pt x="109289" y="0"/>
                </a:lnTo>
                <a:lnTo>
                  <a:pt x="109289" y="21600"/>
                </a:lnTo>
                <a:lnTo>
                  <a:pt x="0" y="21600"/>
                </a:lnTo>
                <a:close/>
              </a:path>
              <a:path fill="lightenLess" w="109289" h="21600">
                <a:moveTo>
                  <a:pt x="0" y="0"/>
                </a:moveTo>
                <a:lnTo>
                  <a:pt x="109289" y="0"/>
                </a:lnTo>
                <a:lnTo>
                  <a:pt x="107889" y="1400"/>
                </a:lnTo>
                <a:lnTo>
                  <a:pt x="1400" y="1400"/>
                </a:lnTo>
                <a:close/>
              </a:path>
              <a:path fill="darken" w="109289" h="21600">
                <a:moveTo>
                  <a:pt x="109289" y="0"/>
                </a:moveTo>
                <a:lnTo>
                  <a:pt x="109289" y="21600"/>
                </a:lnTo>
                <a:lnTo>
                  <a:pt x="107889" y="20200"/>
                </a:lnTo>
                <a:lnTo>
                  <a:pt x="107889" y="1400"/>
                </a:lnTo>
                <a:close/>
              </a:path>
              <a:path fill="darkenLess" w="109289" h="21600">
                <a:moveTo>
                  <a:pt x="109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7889" y="20200"/>
                </a:lnTo>
                <a:close/>
              </a:path>
              <a:path fill="lighten" w="109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HOW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4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4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5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5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6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6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7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7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8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8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9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9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716360" y="5805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un lava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987640" y="765000"/>
            <a:ext cx="3178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624720" cy="5386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65964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5964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62064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270828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5964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000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477036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32720" y="0"/>
            <a:ext cx="2411280" cy="476280"/>
          </a:xfrm>
          <a:custGeom>
            <a:avLst/>
            <a:gdLst>
              <a:gd name="textAreaLeft" fmla="*/ 30600 w 2411280"/>
              <a:gd name="textAreaRight" fmla="*/ 2380680 w 24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109289" h="21600">
                <a:moveTo>
                  <a:pt x="0" y="0"/>
                </a:moveTo>
                <a:lnTo>
                  <a:pt x="109289" y="0"/>
                </a:lnTo>
                <a:lnTo>
                  <a:pt x="109289" y="21600"/>
                </a:lnTo>
                <a:lnTo>
                  <a:pt x="0" y="21600"/>
                </a:lnTo>
                <a:close/>
              </a:path>
              <a:path fill="lightenLess" w="109289" h="21600">
                <a:moveTo>
                  <a:pt x="0" y="0"/>
                </a:moveTo>
                <a:lnTo>
                  <a:pt x="109289" y="0"/>
                </a:lnTo>
                <a:lnTo>
                  <a:pt x="107889" y="1400"/>
                </a:lnTo>
                <a:lnTo>
                  <a:pt x="1400" y="1400"/>
                </a:lnTo>
                <a:close/>
              </a:path>
              <a:path fill="darken" w="109289" h="21600">
                <a:moveTo>
                  <a:pt x="109289" y="0"/>
                </a:moveTo>
                <a:lnTo>
                  <a:pt x="109289" y="21600"/>
                </a:lnTo>
                <a:lnTo>
                  <a:pt x="107889" y="20200"/>
                </a:lnTo>
                <a:lnTo>
                  <a:pt x="107889" y="1400"/>
                </a:lnTo>
                <a:close/>
              </a:path>
              <a:path fill="darkenLess" w="109289" h="21600">
                <a:moveTo>
                  <a:pt x="109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7889" y="20200"/>
                </a:lnTo>
                <a:close/>
              </a:path>
              <a:path fill="lighten" w="109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HOW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624720" cy="5386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43280" y="5229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una c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6048360" cy="5538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65964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0072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5964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62064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0072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270828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5964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4000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477036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32720" y="0"/>
            <a:ext cx="2411280" cy="476280"/>
          </a:xfrm>
          <a:custGeom>
            <a:avLst/>
            <a:gdLst>
              <a:gd name="textAreaLeft" fmla="*/ 30600 w 2411280"/>
              <a:gd name="textAreaRight" fmla="*/ 2380680 w 24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109289" h="21600">
                <a:moveTo>
                  <a:pt x="0" y="0"/>
                </a:moveTo>
                <a:lnTo>
                  <a:pt x="109289" y="0"/>
                </a:lnTo>
                <a:lnTo>
                  <a:pt x="109289" y="21600"/>
                </a:lnTo>
                <a:lnTo>
                  <a:pt x="0" y="21600"/>
                </a:lnTo>
                <a:close/>
              </a:path>
              <a:path fill="lightenLess" w="109289" h="21600">
                <a:moveTo>
                  <a:pt x="0" y="0"/>
                </a:moveTo>
                <a:lnTo>
                  <a:pt x="109289" y="0"/>
                </a:lnTo>
                <a:lnTo>
                  <a:pt x="107889" y="1400"/>
                </a:lnTo>
                <a:lnTo>
                  <a:pt x="1400" y="1400"/>
                </a:lnTo>
                <a:close/>
              </a:path>
              <a:path fill="darken" w="109289" h="21600">
                <a:moveTo>
                  <a:pt x="109289" y="0"/>
                </a:moveTo>
                <a:lnTo>
                  <a:pt x="109289" y="21600"/>
                </a:lnTo>
                <a:lnTo>
                  <a:pt x="107889" y="20200"/>
                </a:lnTo>
                <a:lnTo>
                  <a:pt x="107889" y="1400"/>
                </a:lnTo>
                <a:close/>
              </a:path>
              <a:path fill="darkenLess" w="109289" h="21600">
                <a:moveTo>
                  <a:pt x="109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7889" y="20200"/>
                </a:lnTo>
                <a:close/>
              </a:path>
              <a:path fill="lighten" w="109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HOW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716360" y="5805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rt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6048360" cy="55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935440" y="907920"/>
            <a:ext cx="3225600" cy="5113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65964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0072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5964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62064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4000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0072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270828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4000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5964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0072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4000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477036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32720" y="0"/>
            <a:ext cx="2411280" cy="476280"/>
          </a:xfrm>
          <a:custGeom>
            <a:avLst/>
            <a:gdLst>
              <a:gd name="textAreaLeft" fmla="*/ 30600 w 2411280"/>
              <a:gd name="textAreaRight" fmla="*/ 2380680 w 24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109289" h="21600">
                <a:moveTo>
                  <a:pt x="0" y="0"/>
                </a:moveTo>
                <a:lnTo>
                  <a:pt x="109289" y="0"/>
                </a:lnTo>
                <a:lnTo>
                  <a:pt x="109289" y="21600"/>
                </a:lnTo>
                <a:lnTo>
                  <a:pt x="0" y="21600"/>
                </a:lnTo>
                <a:close/>
              </a:path>
              <a:path fill="lightenLess" w="109289" h="21600">
                <a:moveTo>
                  <a:pt x="0" y="0"/>
                </a:moveTo>
                <a:lnTo>
                  <a:pt x="109289" y="0"/>
                </a:lnTo>
                <a:lnTo>
                  <a:pt x="107889" y="1400"/>
                </a:lnTo>
                <a:lnTo>
                  <a:pt x="1400" y="1400"/>
                </a:lnTo>
                <a:close/>
              </a:path>
              <a:path fill="darken" w="109289" h="21600">
                <a:moveTo>
                  <a:pt x="109289" y="0"/>
                </a:moveTo>
                <a:lnTo>
                  <a:pt x="109289" y="21600"/>
                </a:lnTo>
                <a:lnTo>
                  <a:pt x="107889" y="20200"/>
                </a:lnTo>
                <a:lnTo>
                  <a:pt x="107889" y="1400"/>
                </a:lnTo>
                <a:close/>
              </a:path>
              <a:path fill="darkenLess" w="109289" h="21600">
                <a:moveTo>
                  <a:pt x="109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7889" y="20200"/>
                </a:lnTo>
                <a:close/>
              </a:path>
              <a:path fill="lighten" w="109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HOW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716360" y="5805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un as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935440" y="907920"/>
            <a:ext cx="32256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771640" y="836640"/>
            <a:ext cx="3484800" cy="5113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65964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0072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5964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62064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4000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00720" y="62064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270828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40000" y="270828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5964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4770360"/>
            <a:ext cx="215892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4770360"/>
            <a:ext cx="2159280" cy="20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0"/>
            <a:ext cx="2411280" cy="476280"/>
          </a:xfrm>
          <a:custGeom>
            <a:avLst/>
            <a:gdLst>
              <a:gd name="textAreaLeft" fmla="*/ 30600 w 2411280"/>
              <a:gd name="textAreaRight" fmla="*/ 2380680 w 24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109289" h="21600">
                <a:moveTo>
                  <a:pt x="0" y="0"/>
                </a:moveTo>
                <a:lnTo>
                  <a:pt x="109289" y="0"/>
                </a:lnTo>
                <a:lnTo>
                  <a:pt x="109289" y="21600"/>
                </a:lnTo>
                <a:lnTo>
                  <a:pt x="0" y="21600"/>
                </a:lnTo>
                <a:close/>
              </a:path>
              <a:path fill="lightenLess" w="109289" h="21600">
                <a:moveTo>
                  <a:pt x="0" y="0"/>
                </a:moveTo>
                <a:lnTo>
                  <a:pt x="109289" y="0"/>
                </a:lnTo>
                <a:lnTo>
                  <a:pt x="107889" y="1400"/>
                </a:lnTo>
                <a:lnTo>
                  <a:pt x="1400" y="1400"/>
                </a:lnTo>
                <a:close/>
              </a:path>
              <a:path fill="darken" w="109289" h="21600">
                <a:moveTo>
                  <a:pt x="109289" y="0"/>
                </a:moveTo>
                <a:lnTo>
                  <a:pt x="109289" y="21600"/>
                </a:lnTo>
                <a:lnTo>
                  <a:pt x="107889" y="20200"/>
                </a:lnTo>
                <a:lnTo>
                  <a:pt x="107889" y="1400"/>
                </a:lnTo>
                <a:close/>
              </a:path>
              <a:path fill="darkenLess" w="109289" h="21600">
                <a:moveTo>
                  <a:pt x="109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7889" y="20200"/>
                </a:lnTo>
                <a:close/>
              </a:path>
              <a:path fill="lighten" w="109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HOW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716360" y="5805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un teléfo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805120" y="907920"/>
            <a:ext cx="3484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21:14:48Z</dcterms:created>
  <dc:creator>CSeccombe</dc:creator>
  <dc:description/>
  <dc:language>en-US</dc:language>
  <cp:lastModifiedBy>CSeccombe</cp:lastModifiedBy>
  <dcterms:modified xsi:type="dcterms:W3CDTF">2008-01-11T12:00:12Z</dcterms:modified>
  <cp:revision>10</cp:revision>
  <dc:subject/>
  <dc:title>Slide 1</dc:title>
</cp:coreProperties>
</file>