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F74-DCF1-4D93-8C5E-48D5B104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C99-F397-4CE8-88A9-48FB2463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FAC-8F99-4092-8E5C-4E64B388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679-F782-4CE2-9C67-556DC381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38B-C6E6-49EC-A64A-1535ACBC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8DE-9DCB-4B94-8DD6-ED46F2F1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AF2-3CE0-42FC-AED4-AE410F7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10D-984D-43D8-9188-627BCFCB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A4E-92A4-4F0B-B6A7-1B50AE85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D29-D324-43D9-ACF1-3E01D20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660-2D7F-415B-8AAF-7DD01C0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6AA-B83C-40D9-9CB0-A4114E8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9356-1093-45E4-989C-3890697AA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3214" r="35729" b="10999"/>
          <a:stretch/>
        </p:blipFill>
        <p:spPr>
          <a:xfrm>
            <a:off x="755640" y="-20520"/>
            <a:ext cx="77770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Provinces of Spain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727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1916280"/>
            <a:ext cx="647640" cy="649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42129" t="30930" r="37943" b="49390"/>
          <a:stretch/>
        </p:blipFill>
        <p:spPr>
          <a:xfrm>
            <a:off x="6156360" y="4365720"/>
            <a:ext cx="1942920" cy="144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La Rio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42863" t="30930" r="37947" b="50374"/>
          <a:stretch/>
        </p:blipFill>
        <p:spPr>
          <a:xfrm>
            <a:off x="6012000" y="4292640"/>
            <a:ext cx="1871640" cy="13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Valen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42129" t="30930" r="37943" b="49390"/>
          <a:stretch/>
        </p:blipFill>
        <p:spPr>
          <a:xfrm>
            <a:off x="6156360" y="4365720"/>
            <a:ext cx="1942920" cy="144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Lu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42129" t="30930" r="37943" b="49390"/>
          <a:stretch/>
        </p:blipFill>
        <p:spPr>
          <a:xfrm>
            <a:off x="6156360" y="4365720"/>
            <a:ext cx="1942920" cy="144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Burg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42863" t="30930" r="37947" b="50374"/>
          <a:stretch/>
        </p:blipFill>
        <p:spPr>
          <a:xfrm>
            <a:off x="6012000" y="4292640"/>
            <a:ext cx="1871640" cy="13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uadalaja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2863" t="30930" r="37947" b="50374"/>
          <a:stretch/>
        </p:blipFill>
        <p:spPr>
          <a:xfrm>
            <a:off x="6012000" y="4292640"/>
            <a:ext cx="1871640" cy="13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órdo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42129" t="30930" r="37943" b="49390"/>
          <a:stretch/>
        </p:blipFill>
        <p:spPr>
          <a:xfrm>
            <a:off x="6156360" y="4365720"/>
            <a:ext cx="1942920" cy="144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Zarago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42863" t="30930" r="37947" b="50374"/>
          <a:stretch/>
        </p:blipFill>
        <p:spPr>
          <a:xfrm>
            <a:off x="6012000" y="4292640"/>
            <a:ext cx="1871640" cy="13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484280"/>
            <a:ext cx="8207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Vitoria está en el nor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35485" t="23056" r="35729" b="47421"/>
          <a:stretch/>
        </p:blipFill>
        <p:spPr>
          <a:xfrm>
            <a:off x="5508720" y="4076640"/>
            <a:ext cx="2808360" cy="21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lbacete está en el nor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5485" t="22072" r="36467" b="46437"/>
          <a:stretch/>
        </p:blipFill>
        <p:spPr>
          <a:xfrm>
            <a:off x="5651640" y="4076640"/>
            <a:ext cx="2735280" cy="23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La Coruña está en el su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5485" t="22072" r="36467" b="46437"/>
          <a:stretch/>
        </p:blipFill>
        <p:spPr>
          <a:xfrm>
            <a:off x="5651640" y="4076640"/>
            <a:ext cx="2735280" cy="23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lmería está en el su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5485" t="23056" r="35729" b="47421"/>
          <a:stretch/>
        </p:blipFill>
        <p:spPr>
          <a:xfrm>
            <a:off x="5508720" y="4076640"/>
            <a:ext cx="2808360" cy="21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484280"/>
            <a:ext cx="87854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Guadalajara está en el centr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5485" t="23056" r="35729" b="47421"/>
          <a:stretch/>
        </p:blipFill>
        <p:spPr>
          <a:xfrm>
            <a:off x="5508720" y="4076640"/>
            <a:ext cx="2808360" cy="21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irona está en el nores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35485" t="23056" r="35729" b="47421"/>
          <a:stretch/>
        </p:blipFill>
        <p:spPr>
          <a:xfrm>
            <a:off x="5508720" y="4076640"/>
            <a:ext cx="2808360" cy="21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oria está en el sures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35485" t="22072" r="36467" b="46437"/>
          <a:stretch/>
        </p:blipFill>
        <p:spPr>
          <a:xfrm>
            <a:off x="5651640" y="4076640"/>
            <a:ext cx="2735280" cy="23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áceres está en el es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5485" t="22072" r="36467" b="46437"/>
          <a:stretch/>
        </p:blipFill>
        <p:spPr>
          <a:xfrm>
            <a:off x="5651640" y="4076640"/>
            <a:ext cx="2735280" cy="23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0:41:17Z</dcterms:created>
  <dc:creator>CSeccombe</dc:creator>
  <dc:description/>
  <dc:language>en-US</dc:language>
  <cp:lastModifiedBy>CSeccombe</cp:lastModifiedBy>
  <dcterms:modified xsi:type="dcterms:W3CDTF">2008-01-11T13:26:54Z</dcterms:modified>
  <cp:revision>5</cp:revision>
  <dc:subject/>
  <dc:title>Slide 1</dc:title>
</cp:coreProperties>
</file>