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311F-890F-4D1E-81C2-97C61BF3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40A0-CC72-4818-9D27-1530B3D8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1C28-97D6-42BC-84DB-10F3D79D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F59-B039-43C6-86BD-E00D3F03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B2C1-38F2-4183-961A-45AC594A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A519-DCAB-4098-B70F-06F6E759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0E4C-ED44-4E80-AE33-13C14A51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496-4190-4878-96A6-6C31D578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C2A-FF8A-4D40-A8C9-58BB9D40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68CF-FC24-488B-8D6C-1BB14E4C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76DC-9A6C-4306-AA4E-96FF8095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5322-47C2-4840-A8F4-97651DD2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B3B8-6D91-4876-AEB6-B580C54A4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13214" r="35729" b="10999"/>
          <a:stretch/>
        </p:blipFill>
        <p:spPr>
          <a:xfrm>
            <a:off x="755640" y="-20520"/>
            <a:ext cx="777708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Provinces of Spain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7277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716360" y="1916280"/>
            <a:ext cx="647640" cy="649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cerca o lejo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Barcelo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42129" t="30930" r="37943" b="49390"/>
          <a:stretch/>
        </p:blipFill>
        <p:spPr>
          <a:xfrm>
            <a:off x="6156360" y="4365720"/>
            <a:ext cx="1942920" cy="144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cerca o lejo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La Rioj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42863" t="30930" r="37947" b="50374"/>
          <a:stretch/>
        </p:blipFill>
        <p:spPr>
          <a:xfrm>
            <a:off x="6012000" y="4292640"/>
            <a:ext cx="1871640" cy="136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cerca o lejo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Valenc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42129" t="30930" r="37943" b="49390"/>
          <a:stretch/>
        </p:blipFill>
        <p:spPr>
          <a:xfrm>
            <a:off x="6156360" y="4365720"/>
            <a:ext cx="1942920" cy="144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cerca o lejo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Lug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42129" t="30930" r="37943" b="49390"/>
          <a:stretch/>
        </p:blipFill>
        <p:spPr>
          <a:xfrm>
            <a:off x="6156360" y="4365720"/>
            <a:ext cx="1942920" cy="144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cerca o lejo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Burg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42863" t="30930" r="37947" b="50374"/>
          <a:stretch/>
        </p:blipFill>
        <p:spPr>
          <a:xfrm>
            <a:off x="6012000" y="4292640"/>
            <a:ext cx="1871640" cy="136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cerca o lejo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uadalaja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42863" t="30930" r="37947" b="50374"/>
          <a:stretch/>
        </p:blipFill>
        <p:spPr>
          <a:xfrm>
            <a:off x="6012000" y="4292640"/>
            <a:ext cx="1871640" cy="136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cerca o lejo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órdob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42129" t="30930" r="37943" b="49390"/>
          <a:stretch/>
        </p:blipFill>
        <p:spPr>
          <a:xfrm>
            <a:off x="6156360" y="4365720"/>
            <a:ext cx="1942920" cy="144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cerca o lejo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Zarago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42863" t="30930" r="37947" b="50374"/>
          <a:stretch/>
        </p:blipFill>
        <p:spPr>
          <a:xfrm>
            <a:off x="6012000" y="4292640"/>
            <a:ext cx="1871640" cy="136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verdad o mentira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484280"/>
            <a:ext cx="8207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Vitoria está en el nort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35485" t="23056" r="35729" b="47421"/>
          <a:stretch/>
        </p:blipFill>
        <p:spPr>
          <a:xfrm>
            <a:off x="5508720" y="4076640"/>
            <a:ext cx="2808360" cy="216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verdad o mentira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Albacete está en el nort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35485" t="22072" r="36467" b="46437"/>
          <a:stretch/>
        </p:blipFill>
        <p:spPr>
          <a:xfrm>
            <a:off x="5651640" y="4076640"/>
            <a:ext cx="2735280" cy="2303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verdad o mentira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La Coruña está en el su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35485" t="22072" r="36467" b="46437"/>
          <a:stretch/>
        </p:blipFill>
        <p:spPr>
          <a:xfrm>
            <a:off x="5651640" y="4076640"/>
            <a:ext cx="2735280" cy="2303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verdad o mentira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Almería está en el su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35485" t="23056" r="35729" b="47421"/>
          <a:stretch/>
        </p:blipFill>
        <p:spPr>
          <a:xfrm>
            <a:off x="5508720" y="4076640"/>
            <a:ext cx="2808360" cy="216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verdad o mentira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1484280"/>
            <a:ext cx="878544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Guadalajara está en el centr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35485" t="23056" r="35729" b="47421"/>
          <a:stretch/>
        </p:blipFill>
        <p:spPr>
          <a:xfrm>
            <a:off x="5508720" y="4076640"/>
            <a:ext cx="2808360" cy="216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verdad o mentira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irona está en el norest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35485" t="23056" r="35729" b="47421"/>
          <a:stretch/>
        </p:blipFill>
        <p:spPr>
          <a:xfrm>
            <a:off x="5508720" y="4076640"/>
            <a:ext cx="2808360" cy="216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verdad o mentira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Soria está en el surest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35485" t="22072" r="36467" b="46437"/>
          <a:stretch/>
        </p:blipFill>
        <p:spPr>
          <a:xfrm>
            <a:off x="5651640" y="4076640"/>
            <a:ext cx="2735280" cy="2303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4360" y="26028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verdad o mentira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91628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1484280"/>
            <a:ext cx="878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.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áceres está en el est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35485" t="22072" r="36467" b="46437"/>
          <a:stretch/>
        </p:blipFill>
        <p:spPr>
          <a:xfrm>
            <a:off x="5651640" y="4076640"/>
            <a:ext cx="2735280" cy="2303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0:41:17Z</dcterms:created>
  <dc:creator>CSeccombe</dc:creator>
  <dc:description/>
  <dc:language>en-US</dc:language>
  <cp:lastModifiedBy>CSeccombe</cp:lastModifiedBy>
  <dcterms:modified xsi:type="dcterms:W3CDTF">2008-01-11T13:26:54Z</dcterms:modified>
  <cp:revision>5</cp:revision>
  <dc:subject/>
  <dc:title>Slide 1</dc:title>
</cp:coreProperties>
</file>