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964-0DB6-4606-A684-E58F97BE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F84-6D30-4069-9D1A-53491BA6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A35-8193-421D-9107-447D8E5B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7DC-012F-4C8D-9B9C-206B75AF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090-F7E0-4B2B-A081-20FD53BE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FDE-1621-4C73-A23F-EC37655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255-2F17-4418-BFCF-E117DFD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3C8-176C-41DC-8756-C4651C0C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448-2703-4497-9A0C-956CB064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1FB-B7E9-4BED-A652-D03D3350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EB1-66CC-4E8B-BAD2-68148AC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81F-375D-4004-BFD0-F5471E1E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AAC0-61FE-434E-8AA9-2C51C0218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hyperlink" Target="http://www.sunderlandschools.org/mfl-sunderland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42" name="flea_Full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1296720" cy="1039680"/>
          </a:xfrm>
          <a:prstGeom prst="rect">
            <a:avLst/>
          </a:prstGeom>
          <a:ln w="0">
            <a:noFill/>
          </a:ln>
        </p:spPr>
      </p:pic>
      <p:pic>
        <p:nvPicPr>
          <p:cNvPr id="43" name="flea_Full" descr=""/>
          <p:cNvPicPr/>
          <p:nvPr/>
        </p:nvPicPr>
        <p:blipFill>
          <a:blip r:embed="rId2"/>
          <a:stretch/>
        </p:blipFill>
        <p:spPr>
          <a:xfrm>
            <a:off x="3492360" y="1844640"/>
            <a:ext cx="1297080" cy="1039680"/>
          </a:xfrm>
          <a:prstGeom prst="rect">
            <a:avLst/>
          </a:prstGeom>
          <a:ln w="0">
            <a:noFill/>
          </a:ln>
        </p:spPr>
      </p:pic>
      <p:pic>
        <p:nvPicPr>
          <p:cNvPr id="44" name="flea_Full" descr=""/>
          <p:cNvPicPr/>
          <p:nvPr/>
        </p:nvPicPr>
        <p:blipFill>
          <a:blip r:embed="rId3"/>
          <a:stretch/>
        </p:blipFill>
        <p:spPr>
          <a:xfrm>
            <a:off x="2195640" y="1844640"/>
            <a:ext cx="1296720" cy="103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2862000" cy="232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1456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ul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51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548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a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6308640"/>
            <a:ext cx="50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©MFL Sunderland 2008 CS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ea typeface="Times New Roman"/>
                <a:hlinkClick r:id="rId5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330640" cy="244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3024000" cy="241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522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elev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522936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unciona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2330640" cy="244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1384200" cy="3311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uc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229360"/>
            <a:ext cx="45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unciona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844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2060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276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249228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92428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2349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2565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78136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3151080" cy="2562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sta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522936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uc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1844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2060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276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4920" y="249228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92428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349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565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78136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654200" cy="273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522936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va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sta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522936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uc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844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2060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227664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4920" y="2492280"/>
            <a:ext cx="36036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92428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2349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2565360"/>
            <a:ext cx="935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278136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4344840" cy="3203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522936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áb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sta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5229360"/>
            <a:ext cx="33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uc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87280" y="1773000"/>
            <a:ext cx="12970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1700280"/>
            <a:ext cx="158436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1833480" cy="1679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229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rtin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187280" y="1773000"/>
            <a:ext cx="12970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1700280"/>
            <a:ext cx="158436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2396880" cy="1839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0360" y="522936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rad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187280" y="1773000"/>
            <a:ext cx="12970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1700280"/>
            <a:ext cx="158436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76560" y="1704960"/>
            <a:ext cx="3475080" cy="2079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87640" y="5229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5229360"/>
            <a:ext cx="41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fomb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53" name="cockroach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2663640" cy="1738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138420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080" y="522936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5229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ucarac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5229360"/>
            <a:ext cx="7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88160" y="5229360"/>
            <a:ext cx="6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5229360"/>
            <a:ext cx="17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uch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3384720" cy="209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456000" cy="206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1456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51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0548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5229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fomb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69" name="051116_ants_hmed_11a.hmedium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016360" cy="149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33760" y="1693800"/>
            <a:ext cx="123192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9560" y="5229360"/>
            <a:ext cx="24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ormi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000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8500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48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s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77" name="flea_Full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1296720" cy="1039680"/>
          </a:xfrm>
          <a:prstGeom prst="rect">
            <a:avLst/>
          </a:prstGeom>
          <a:ln w="0">
            <a:noFill/>
          </a:ln>
        </p:spPr>
      </p:pic>
      <p:pic>
        <p:nvPicPr>
          <p:cNvPr id="78" name="flea_Full" descr=""/>
          <p:cNvPicPr/>
          <p:nvPr/>
        </p:nvPicPr>
        <p:blipFill>
          <a:blip r:embed="rId2"/>
          <a:stretch/>
        </p:blipFill>
        <p:spPr>
          <a:xfrm>
            <a:off x="3492360" y="1844640"/>
            <a:ext cx="1297080" cy="1039680"/>
          </a:xfrm>
          <a:prstGeom prst="rect">
            <a:avLst/>
          </a:prstGeom>
          <a:ln w="0">
            <a:noFill/>
          </a:ln>
        </p:spPr>
      </p:pic>
      <p:pic>
        <p:nvPicPr>
          <p:cNvPr id="79" name="flea_Full" descr=""/>
          <p:cNvPicPr/>
          <p:nvPr/>
        </p:nvPicPr>
        <p:blipFill>
          <a:blip r:embed="rId3"/>
          <a:stretch/>
        </p:blipFill>
        <p:spPr>
          <a:xfrm>
            <a:off x="2195640" y="1844640"/>
            <a:ext cx="1296720" cy="103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1833480" cy="1679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1456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ul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51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522936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522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rtin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87" name="051116_ants_hmed_11a.hmedium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016360" cy="149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2232000" cy="2119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30560" y="5229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ormi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09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692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5229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e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3384720" cy="209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2448000" cy="195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1456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512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0548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22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elevis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103" name="cockroach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808360" cy="183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1171440" cy="18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76720" y="1989000"/>
            <a:ext cx="1582920" cy="208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22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b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76480" y="522936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ucarac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420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27920" y="522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5229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inib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547640" y="189000"/>
            <a:ext cx="62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Problemas en el hot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233028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186372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s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5229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5229360"/>
            <a:ext cx="45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unciona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20:55:16Z</dcterms:created>
  <dc:creator>CSeccombe</dc:creator>
  <dc:description/>
  <dc:language>en-US</dc:language>
  <cp:lastModifiedBy>CSeccombe</cp:lastModifiedBy>
  <dcterms:modified xsi:type="dcterms:W3CDTF">2008-02-28T20:21:08Z</dcterms:modified>
  <cp:revision>7</cp:revision>
  <dc:subject/>
  <dc:title>Slide 1</dc:title>
</cp:coreProperties>
</file>