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432-4C61-46FE-9E74-B74E3626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7E4-810F-4CA0-ABF8-0EA06B6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5EE-26DC-4255-8965-E6894C6B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3D9-F5AB-4623-931E-51339912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565-6AE8-4589-A807-E5A02743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6C7-E3E2-424C-A0D3-AC2F0B2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D41-4A11-4963-9B3D-E0A84A1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86D-D900-4EB8-874F-174A6DC3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356-24A7-4865-9133-9C76F87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06F-4948-499F-8C89-CDE98E9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A85-9496-461A-86BE-688ED8A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78A-0C46-4F7B-A599-7354711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803-BE6B-4125-8A66-130849AD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42" name="flea_Full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43" name="flea_Full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129708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flea_Full" descr=""/>
          <p:cNvPicPr/>
          <p:nvPr/>
        </p:nvPicPr>
        <p:blipFill>
          <a:blip r:embed="rId3"/>
          <a:stretch/>
        </p:blipFill>
        <p:spPr>
          <a:xfrm>
            <a:off x="2195640" y="184464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2862000" cy="232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456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ul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a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630864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ea typeface="Times New Roman"/>
                <a:hlinkClick r:id="rId5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33064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3024000" cy="241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22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elev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522936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233064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1384200" cy="331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uc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229360"/>
            <a:ext cx="45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3151080" cy="2562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654200" cy="273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22936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a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4344840" cy="320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5229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á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1833480" cy="1679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229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rtin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2396880" cy="1839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0360" y="522936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rad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76560" y="1704960"/>
            <a:ext cx="3475080" cy="207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22936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fomb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53" name="cockroach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2663640" cy="1738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138420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080" y="522936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ucarac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229360"/>
            <a:ext cx="7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88160" y="522936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522936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uch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384720" cy="209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456000" cy="206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1456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fomb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69" name="051116_ants_hmed_11a.hmedium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016360" cy="149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33760" y="1693800"/>
            <a:ext cx="123192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5229360"/>
            <a:ext cx="24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or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000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8500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s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77" name="flea_Full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78" name="flea_Full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1297080" cy="1039680"/>
          </a:xfrm>
          <a:prstGeom prst="rect">
            <a:avLst/>
          </a:prstGeom>
          <a:ln w="0">
            <a:noFill/>
          </a:ln>
        </p:spPr>
      </p:pic>
      <p:pic>
        <p:nvPicPr>
          <p:cNvPr id="79" name="flea_Full" descr=""/>
          <p:cNvPicPr/>
          <p:nvPr/>
        </p:nvPicPr>
        <p:blipFill>
          <a:blip r:embed="rId3"/>
          <a:stretch/>
        </p:blipFill>
        <p:spPr>
          <a:xfrm>
            <a:off x="2195640" y="184464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1833480" cy="1679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1456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ul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522936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522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rtin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87" name="051116_ants_hmed_11a.hmedium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016360" cy="149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30560" y="5229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or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09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692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522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e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384720" cy="209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448000" cy="195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1456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elevis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03" name="cockroach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08360" cy="183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1171440" cy="18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1989000"/>
            <a:ext cx="1582920" cy="208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76480" y="522936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ucarac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420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792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5229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inib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33028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18637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s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229360"/>
            <a:ext cx="45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55:16Z</dcterms:created>
  <dc:creator>CSeccombe</dc:creator>
  <dc:description/>
  <dc:language>en-US</dc:language>
  <cp:lastModifiedBy>CSeccombe</cp:lastModifiedBy>
  <dcterms:modified xsi:type="dcterms:W3CDTF">2008-02-28T20:21:08Z</dcterms:modified>
  <cp:revision>7</cp:revision>
  <dc:subject/>
  <dc:title>Slide 1</dc:title>
</cp:coreProperties>
</file>