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D04-6B4F-4378-92ED-F4C8FC87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E32-44FC-4CD9-8147-92A8F661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76D-06BC-4FE5-9A70-9BFA5A79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7AF-CD4D-4490-AF3F-9CF546B5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DBC-C9B0-498B-9C8B-06421CD2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A1F-A734-4C8B-AF42-E76B0C5E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15D-8C77-4AA2-85CC-E898CC27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43F-D67C-48A9-B6AE-4712DE7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166-30E9-40E2-9FBD-4338EC9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CC1-8B64-404C-AB9E-CBBC4E37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F0F-A87E-448A-98CD-42EBF02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9CD-68AD-475D-9D3E-E762D20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578E-A70E-47F0-8D15-9616E63A9D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765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-458640"/>
            <a:ext cx="488484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381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úmer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-531720"/>
            <a:ext cx="49341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15:08Z</dcterms:created>
  <dc:creator>Clare</dc:creator>
  <dc:description/>
  <dc:language>en-US</dc:language>
  <cp:lastModifiedBy>Clare</cp:lastModifiedBy>
  <dcterms:modified xsi:type="dcterms:W3CDTF">2008-09-12T09:23:03Z</dcterms:modified>
  <cp:revision>2</cp:revision>
  <dc:subject/>
  <dc:title>Slide 1</dc:title>
</cp:coreProperties>
</file>