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8CE-F7B1-4F74-844E-24E40A56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D2F-52F7-41FA-8A16-4055CF54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ADB-E14C-4FDA-A62E-463E2AAA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428-77FA-46EB-8414-6F562C17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AB6-D35A-464C-B1D4-FD250235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A77-85E2-463F-89A8-41C3C21D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E53-5E78-42B3-8E5A-ECD14CBF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DCB-6F5A-4FCC-9D07-79DDD191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A1C-35A1-436D-BAB4-189961C6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AA7-BA17-453C-A739-5221BF07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A1C-5BD7-49BC-9F66-CBD75E2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13E-8280-4D43-8AE2-389E7DA6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FC0E-29B7-45DB-9BA4-37C788CC16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381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úmer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381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úmer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765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381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úmer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-458640"/>
            <a:ext cx="488484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381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úmer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-531720"/>
            <a:ext cx="49341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15:08Z</dcterms:created>
  <dc:creator>Clare</dc:creator>
  <dc:description/>
  <dc:language>en-US</dc:language>
  <cp:lastModifiedBy>Clare</cp:lastModifiedBy>
  <dcterms:modified xsi:type="dcterms:W3CDTF">2008-09-12T09:23:03Z</dcterms:modified>
  <cp:revision>2</cp:revision>
  <dc:subject/>
  <dc:title>Slide 1</dc:title>
</cp:coreProperties>
</file>