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C6F-73E6-41BA-9AB0-D0E3D23D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EB7-14F4-4676-A11F-D6CD74E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8E4-08D4-4C05-AD40-4297F9E8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1E1-29C3-4864-B2E1-FCA94419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CFF-DE25-468C-87DC-E9B440E6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98-20AC-485B-B85F-4871DEA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2B2-F930-4D6D-9B51-CC797FE5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12E-891C-4BA2-A6FC-397BFFA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522-386A-4B8A-A5E4-14139E6A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AFA-01FA-4DF1-B539-47BD69D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657-E6AB-435C-8CD5-E5C7697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F70-1D10-46C4-A3FA-2E30077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FEB0-143B-4CB3-A865-7792D676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28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260280"/>
            <a:ext cx="4248000" cy="2232000"/>
          </a:xfrm>
          <a:prstGeom prst="wedgeRoundRectCallout">
            <a:avLst>
              <a:gd name="adj1" fmla="val -54782"/>
              <a:gd name="adj2" fmla="val 86203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6643800"/>
            <a:ext cx="421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457200"/>
            <a:ext cx="42735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11640" y="476280"/>
            <a:ext cx="4248000" cy="2232000"/>
          </a:xfrm>
          <a:prstGeom prst="wedgeRoundRectCallout">
            <a:avLst>
              <a:gd name="adj1" fmla="val -68347"/>
              <a:gd name="adj2" fmla="val 43671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6718320" cy="537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04640"/>
            <a:ext cx="4248000" cy="2232360"/>
          </a:xfrm>
          <a:prstGeom prst="wedgeRoundRectCallout">
            <a:avLst>
              <a:gd name="adj1" fmla="val 52277"/>
              <a:gd name="adj2" fmla="val 112162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38:50Z</dcterms:created>
  <dc:creator>Clare</dc:creator>
  <dc:description/>
  <dc:language>en-US</dc:language>
  <cp:lastModifiedBy>Clare</cp:lastModifiedBy>
  <dcterms:modified xsi:type="dcterms:W3CDTF">2008-09-12T10:00:32Z</dcterms:modified>
  <cp:revision>2</cp:revision>
  <dc:subject/>
  <dc:title>Slide 1</dc:title>
</cp:coreProperties>
</file>