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4E3D-EF48-4DDD-AD7B-37FA005C7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4DED-137B-4CDB-ADBD-69C25028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1D0F-D8B8-42CA-8F69-78454E2E2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B80B-11A8-4307-B6BD-BDE4EC13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36C1-8671-4523-AC4B-17B4D438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E2BF-364D-4785-925A-6E9126A0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B3D2-8D17-44D9-847F-55048EC4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04C7-A3F9-45BE-AA01-6A058187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E850-568B-49A7-BABB-FF1C1A27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27D3-1DEF-4766-B8F9-1A88BEC5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2F0A-4F38-4B01-ADFC-32C0F247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4E31-4471-441E-BF7B-B3DE4FDB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D22D-0B67-4CC2-A1D2-8E112F797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280360" cy="4289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427640" y="260280"/>
            <a:ext cx="4248000" cy="2232000"/>
          </a:xfrm>
          <a:prstGeom prst="wedgeRoundRectCallout">
            <a:avLst>
              <a:gd name="adj1" fmla="val -54782"/>
              <a:gd name="adj2" fmla="val 86203"/>
              <a:gd name="adj3" fmla="val 16667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32360" y="6643800"/>
            <a:ext cx="42116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2008 CS </a:t>
            </a:r>
            <a:r>
              <a:rPr b="0" lang="en-GB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.sunderlandschools.org/mfl-sunderland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00000" y="457200"/>
            <a:ext cx="4273560" cy="6400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211640" y="476280"/>
            <a:ext cx="4248000" cy="2232000"/>
          </a:xfrm>
          <a:prstGeom prst="wedgeRoundRectCallout">
            <a:avLst>
              <a:gd name="adj1" fmla="val -68347"/>
              <a:gd name="adj2" fmla="val 43671"/>
              <a:gd name="adj3" fmla="val 16667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6718320" cy="5375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404640"/>
            <a:ext cx="4248000" cy="2232360"/>
          </a:xfrm>
          <a:prstGeom prst="wedgeRoundRectCallout">
            <a:avLst>
              <a:gd name="adj1" fmla="val 52277"/>
              <a:gd name="adj2" fmla="val 112162"/>
              <a:gd name="adj3" fmla="val 16667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20:38:50Z</dcterms:created>
  <dc:creator>Clare</dc:creator>
  <dc:description/>
  <dc:language>en-US</dc:language>
  <cp:lastModifiedBy>Clare</cp:lastModifiedBy>
  <dcterms:modified xsi:type="dcterms:W3CDTF">2008-09-12T10:00:32Z</dcterms:modified>
  <cp:revision>2</cp:revision>
  <dc:subject/>
  <dc:title>Slide 1</dc:title>
</cp:coreProperties>
</file>