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077-EBCB-4900-9E2B-81C3B497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2C4-C3C7-4C2D-86E4-665CE17A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3F7-90FC-4232-A9E5-F1564175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B23-CF2A-43D9-AE88-2CF8CC5F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66E-56F4-445B-ABEB-DB8F75D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9FF-8844-469F-8E84-1E3C582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A1B-6DD0-4A24-85F6-4E6CB849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77C-50FB-4973-BE0E-E7FF54B2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65B-EDBD-4262-9C93-CF703452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DCB-9A28-4A67-9106-AB68EA9D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3A4-E0F6-48D3-8CC4-B279FA80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132-1807-4D3B-B726-DCC8240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ACAA-7317-44BB-A9DA-0356341D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467160" cy="522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924360" y="0"/>
            <a:ext cx="521964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Kylie Ann Min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8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ay 1968, Melbou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stral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ster Dannii, brother Bren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es in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mall, 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d-length, blond, curly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een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581280" cy="466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140360" y="0"/>
            <a:ext cx="500364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therine Zeta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eptember 1969, Swan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usband Michael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n Dylan, daughter Ca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es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te tall, 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ng, brown, wavy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wn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0:43:36Z</dcterms:created>
  <dc:creator>Clare</dc:creator>
  <dc:description/>
  <dc:language>en-US</dc:language>
  <cp:lastModifiedBy>Clare</cp:lastModifiedBy>
  <dcterms:modified xsi:type="dcterms:W3CDTF">2008-11-03T11:18:01Z</dcterms:modified>
  <cp:revision>3</cp:revision>
  <dc:subject/>
  <dc:title>Slide 1</dc:title>
</cp:coreProperties>
</file>