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133-928B-442A-A289-8C753EEE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0C4-87FA-4EA1-849C-D4D1DAF3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1D4-84A9-4D2A-84B4-6FD8C6D0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65C-B124-4B3F-9A15-7B1A42B2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20B-5851-49E4-A7E3-9AC16476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FD0-4F32-49BE-B6DD-3B01D782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23C-D9C0-4149-8D19-DF9D598D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791-6FB1-4BD9-8A0C-0703299B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169-42FF-4372-A30E-C255D7F9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193-AB03-4D94-A170-89C375CA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F43-7B60-44A6-97DA-01EBA60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F6D-DC96-49C1-AE18-5ADCF38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F2A6-D6D0-4C97-879F-8AC96E30E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467160" cy="522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924360" y="0"/>
            <a:ext cx="521964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Kylie Ann Min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ay 1968, Melbou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ustral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ster Dannii, brother Bren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es in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mall, 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d-length, blond, curly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een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581280" cy="466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140360" y="0"/>
            <a:ext cx="500364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therine Zeta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eptember 1969, Swan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usband Michael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n Dylan, daughter Ca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es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ite tall, 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ng, brown, wavy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wn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0:43:36Z</dcterms:created>
  <dc:creator>Clare</dc:creator>
  <dc:description/>
  <dc:language>en-US</dc:language>
  <cp:lastModifiedBy>Clare</cp:lastModifiedBy>
  <dcterms:modified xsi:type="dcterms:W3CDTF">2008-11-03T11:18:01Z</dcterms:modified>
  <cp:revision>3</cp:revision>
  <dc:subject/>
  <dc:title>Slide 1</dc:title>
</cp:coreProperties>
</file>