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49F-8A1A-4D3A-8EA4-A83E5EE5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289B-FD32-4AA1-8088-4A05FD14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6682-03F5-438D-9FFF-DD3D690F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AE6-6D5D-4539-90C5-77784CD4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2BE7-A255-4FAA-8F0A-678CFF85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694-7FAD-4339-8AF1-3EB63075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A5B3-6053-45D9-BBBD-49D5EA0A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5A04-C30C-465C-9D75-7A200EB9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C480-DDBF-4E0F-BAC6-88F496C0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6D74-48C2-469C-8DF0-B910CD4D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F0D-5774-4888-BF87-743EFEA8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EE62-AFE0-4AE1-80AD-707A05DD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0E04-4234-4C06-9DC3-40FB9FE11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2492280"/>
            <a:ext cx="7993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Sunderland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340000" y="476280"/>
            <a:ext cx="4249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en 1908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35280" y="4581360"/>
            <a:ext cx="53305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y en 2008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390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067280" y="3049560"/>
            <a:ext cx="5076720" cy="3808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5940360" y="18900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awcett 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2000" y="11970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530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940360" y="18900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iver W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2000" y="11970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92360" y="530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00720" cy="3838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29000" y="3029040"/>
            <a:ext cx="5896080" cy="3949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940360" y="189000"/>
            <a:ext cx="32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romenade, Ro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1341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530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405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03640" y="2397240"/>
            <a:ext cx="5940360" cy="4460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940360" y="189000"/>
            <a:ext cx="320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Queen Alexandra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1773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530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3718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14920" y="3405240"/>
            <a:ext cx="5329080" cy="3452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3873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5940360" y="189000"/>
            <a:ext cx="32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earmouth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556000" y="3232080"/>
            <a:ext cx="6588000" cy="3805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258920" y="530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2000" y="1773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940360" y="18900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ylton F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58920" y="530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773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50381" t="0" r="0" b="0"/>
          <a:stretch/>
        </p:blipFill>
        <p:spPr>
          <a:xfrm>
            <a:off x="0" y="0"/>
            <a:ext cx="5940360" cy="3805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284720" y="3203640"/>
            <a:ext cx="4859280" cy="365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9:55:03Z</dcterms:created>
  <dc:creator>Clare</dc:creator>
  <dc:description/>
  <dc:language>en-US</dc:language>
  <cp:lastModifiedBy>Clare</cp:lastModifiedBy>
  <dcterms:modified xsi:type="dcterms:W3CDTF">2008-11-24T20:34:06Z</dcterms:modified>
  <cp:revision>5</cp:revision>
  <dc:subject/>
  <dc:title>Slide 1</dc:title>
</cp:coreProperties>
</file>