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997-33BB-4706-86DF-EB43FA72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7AF-08EA-4C4F-90F9-FFB6ED1F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728-A911-48B5-9FBB-F5DC9011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66A-A974-4FC2-88A7-5B4F4D46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17E-DE73-475D-84EF-0238DB52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0F8-1519-4775-A326-860960BE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1EA-6E67-42EB-84AE-D7772202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447-8CDE-472C-8B0B-63DEBBA6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FB0-58E3-418A-B1EE-0E66E0E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12B-D0D1-4A24-86B7-F100CCCB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9D5-C5AC-4163-85D0-83A54C4A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36F-C4C4-464B-8DED-23F1426F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F557-F984-423B-930E-8D85956B2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249228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Sunderland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476280"/>
            <a:ext cx="424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n 1908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4581360"/>
            <a:ext cx="53305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 en 2008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39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940360" y="189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wcett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2000" y="119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40360" y="189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ver 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119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00720" cy="38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3029040"/>
            <a:ext cx="5896080" cy="394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40360" y="1890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romenade, 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341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405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2397240"/>
            <a:ext cx="5940360" cy="446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40360" y="189000"/>
            <a:ext cx="32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en Alexandra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1773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371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14920" y="3405240"/>
            <a:ext cx="5329080" cy="345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387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940360" y="1890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earmouth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56000" y="3232080"/>
            <a:ext cx="6588000" cy="380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25892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2000" y="1773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940360" y="189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ylton F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773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50381" t="0" r="0" b="0"/>
          <a:stretch/>
        </p:blipFill>
        <p:spPr>
          <a:xfrm>
            <a:off x="0" y="0"/>
            <a:ext cx="5940360" cy="380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84720" y="3203640"/>
            <a:ext cx="4859280" cy="36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55:03Z</dcterms:created>
  <dc:creator>Clare</dc:creator>
  <dc:description/>
  <dc:language>en-US</dc:language>
  <cp:lastModifiedBy>Clare</cp:lastModifiedBy>
  <dcterms:modified xsi:type="dcterms:W3CDTF">2008-11-24T20:34:06Z</dcterms:modified>
  <cp:revision>5</cp:revision>
  <dc:subject/>
  <dc:title>Slide 1</dc:title>
</cp:coreProperties>
</file>