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12E5-5D50-4021-B379-2C413C866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54FD-528E-4CD6-BF70-55EB9179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0268-A6F8-44E7-94B2-BD014D0A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BA0F-9FE4-4EB3-A154-5F306680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D2D5-14C5-4433-A212-B2D8903A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50B1-F1E9-4584-BC69-3C50FB22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8384-F9E0-41B1-847B-41D5BE0C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E39D-4536-4A85-AC4C-CFACDBBB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A7BB-F67E-4185-ACC2-7E7D91BF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589B-3524-4376-BD61-DA47648B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78EA-590F-4D34-AEBF-0524ABBB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5917-C98B-4640-87AD-0A8F58EB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7B99-D077-4DBE-B775-22DF138EF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st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Tie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62864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Arial Rounded MT Bold"/>
              </a:rPr>
              <a:t>________ dieciséis añ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5805360"/>
            <a:ext cx="144000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 perso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 g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os ch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79640" y="191628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The people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4869000"/>
            <a:ext cx="143964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573360"/>
            <a:ext cx="896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s cuatro menos cuar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s cuatro y cuar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s cinco menos cuar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1844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4.45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805360"/>
            <a:ext cx="144000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00360" y="170028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a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95640" y="4869000"/>
            <a:ext cx="143964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me gusta com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me gusta co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me gusta comie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19280" y="155736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I like eating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4869000"/>
            <a:ext cx="143964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a trece jul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l tres de jul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l trece de jul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170028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13</a:t>
            </a:r>
            <a:r>
              <a:rPr b="0" lang="en-GB" sz="5400" spc="-1" strike="noStrike" baseline="30000">
                <a:solidFill>
                  <a:srgbClr val="ffff00"/>
                </a:solidFill>
                <a:latin typeface="Arial Rounded MT Bold"/>
              </a:rPr>
              <a:t>th</a:t>
            </a: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 July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5805360"/>
            <a:ext cx="143964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68360" y="2060640"/>
            <a:ext cx="8424720" cy="26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7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N</a:t>
            </a:r>
            <a:endParaRPr b="0" lang="en-US" sz="1800" spc="1" strike="noStrike">
              <a:ln w="12708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7336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le gu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se gu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ella gu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1484280"/>
            <a:ext cx="53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Arial Rounded MT Bold"/>
              </a:rPr>
              <a:t>She likes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47640" y="4005360"/>
            <a:ext cx="144000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3573360"/>
            <a:ext cx="896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ien sesenta y si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iento sesenta y si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iento setenta y si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47640" y="1628640"/>
            <a:ext cx="61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167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797360"/>
            <a:ext cx="144000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a antigua ca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a casa antig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piso antigu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8000" y="162864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An old flat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5805360"/>
            <a:ext cx="144000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ada tar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ada d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ada sem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63640" y="177336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Every day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4869000"/>
            <a:ext cx="143964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s ro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stá ro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tiene ro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184464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It is red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4005360"/>
            <a:ext cx="144000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jue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vier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sáb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1844640"/>
            <a:ext cx="49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Thursday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9280" y="4005360"/>
            <a:ext cx="144000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jug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jugu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jug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32000" y="170028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I played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4869000"/>
            <a:ext cx="143964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¿Cuán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¿Dón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¿Quié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92360" y="184464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Who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47640" y="5805360"/>
            <a:ext cx="144000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9:34:31Z</dcterms:created>
  <dc:creator>CSeccombe</dc:creator>
  <dc:description/>
  <dc:language>en-US</dc:language>
  <cp:lastModifiedBy>CSeccombe</cp:lastModifiedBy>
  <dcterms:modified xsi:type="dcterms:W3CDTF">2005-04-05T12:29:10Z</dcterms:modified>
  <cp:revision>10</cp:revision>
  <dc:subject/>
  <dc:title>Slide 1</dc:title>
</cp:coreProperties>
</file>