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5A7-7ADD-4EC6-8DDF-00C1563E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C40-6F22-40C5-8EC4-09F38461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08A-F05C-4E38-92FF-5428D8E3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613-77BD-46A9-A1C2-8CFF1E24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8E4-B575-4449-8633-981566FD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ED5-2EBF-44BA-9A07-7617677C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4B9-D839-41C2-ADA0-6C1EF108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91D-E286-4D10-A5EF-E90EA4A6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495-5FFC-4C1D-A432-144C2FB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959-8403-4D3E-8D0B-B387671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1CD-7F36-4F44-A295-CA25AE8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60D-F3DF-4751-98AB-36479EA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CCE4-A15F-4B1F-98B8-73B8CB49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628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 Rounded MT Bold"/>
              </a:rPr>
              <a:t>________ dieciséis añ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pers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os ch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1916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e people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uatro y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s cinco menos cua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844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4.45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170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e gusta comi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557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like eating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 trec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s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l trece de ju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700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3</a:t>
            </a:r>
            <a:r>
              <a:rPr b="0" lang="en-GB" sz="5400" spc="-1" strike="noStrike" baseline="30000">
                <a:solidFill>
                  <a:srgbClr val="ffff00"/>
                </a:solidFill>
                <a:latin typeface="Arial Rounded MT Bold"/>
              </a:rPr>
              <a:t>th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 Jul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80536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7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N</a:t>
            </a:r>
            <a:endParaRPr b="0" lang="en-US" sz="1800" spc="1" strike="noStrike">
              <a:ln w="127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l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se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lla 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48428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Arial Rounded MT Bold"/>
              </a:rPr>
              <a:t>She likes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0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s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iento setenta y si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1628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167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97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antigu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a casa anti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iso antig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628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n old flat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ta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d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ada se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1773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Every 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stá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iene ro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844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t is r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0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sáb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1844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Thursday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40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jug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1700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I played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4869000"/>
            <a:ext cx="143964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Cuá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Dó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¿Quié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1844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Who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5805360"/>
            <a:ext cx="14400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12:29:10Z</dcterms:modified>
  <cp:revision>10</cp:revision>
  <dc:subject/>
  <dc:title>Slide 1</dc:title>
</cp:coreProperties>
</file>