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883-CAFB-4015-823B-9E90A8DC0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br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bre la 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bajo de la 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bre la 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bajo de la 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bajo d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e la silla y la 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e la alfombra y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e la ventana y la pu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nte d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rás d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BE4-6F59-49BC-9783-1AFDC268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4B1-AC51-4218-987A-CB24E47F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0AB-171D-444C-AB1A-6846B948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7BB-B307-415D-A306-D4838208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F30-3E24-4285-A8C5-68F2BF9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334-84AF-437E-823E-47B074DF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406-352F-457E-83F4-42E50013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E22-D4DA-4EEC-8B01-B7E6F0E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973-2A8A-4DE3-A566-76F38DCE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BCF-721D-4D81-A495-CBE337A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1E4-9869-4D12-8465-64E534C5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B2A-BA08-49DD-8C0B-54552F6F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11F6-0800-4CEA-89DC-80345C99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utensils/mug/mug-vt.gif" TargetMode="External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utensils/mug/mug-vt.gif" TargetMode="External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cmc.uvic.ca/clipart/utensils/mug/mug-vt.gif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chair/chair-vt.gif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hcmc.uvic.ca/clipart/furniture/bed/bed-vt.gif" TargetMode="External"/><Relationship Id="rId10" Type="http://schemas.openxmlformats.org/officeDocument/2006/relationships/image" Target="../media/image4.png"/><Relationship Id="rId11" Type="http://schemas.openxmlformats.org/officeDocument/2006/relationships/hyperlink" Target="http://hcmc.uvic.ca/clipart/furniture/carpet/carpet-vt.gif" TargetMode="External"/><Relationship Id="rId12" Type="http://schemas.openxmlformats.org/officeDocument/2006/relationships/image" Target="../media/image5.png"/><Relationship Id="rId13" Type="http://schemas.openxmlformats.org/officeDocument/2006/relationships/hyperlink" Target="http://hcmc.uvic.ca/clipart/utensils/mug/mug-vt.gif" TargetMode="External"/><Relationship Id="rId14" Type="http://schemas.openxmlformats.org/officeDocument/2006/relationships/image" Target="../media/image7.png"/><Relationship Id="rId15" Type="http://schemas.openxmlformats.org/officeDocument/2006/relationships/hyperlink" Target="http://hcmc.uvic.ca/clipart/general/key/key-vt.gif" TargetMode="External"/><Relationship Id="rId16" Type="http://schemas.openxmlformats.org/officeDocument/2006/relationships/image" Target="../media/image8.png"/><Relationship Id="rId17" Type="http://schemas.openxmlformats.org/officeDocument/2006/relationships/hyperlink" Target="http://hcmc.uvic.ca/clipart/tools/knife/knife-vt.gif" TargetMode="External"/><Relationship Id="rId18" Type="http://schemas.openxmlformats.org/officeDocument/2006/relationships/image" Target="../media/image9.png"/><Relationship Id="rId19" Type="http://schemas.openxmlformats.org/officeDocument/2006/relationships/hyperlink" Target="http://hcmc.uvic.ca/clipart/utensils/frying-pan/frying-pan-vt.gif" TargetMode="External"/><Relationship Id="rId20" Type="http://schemas.openxmlformats.org/officeDocument/2006/relationships/image" Target="../media/image10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general/key/key-vt.gif" TargetMode="External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cmc.uvic.ca/clipart/general/key/key-vt.gif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general/key/key-vt.gif" TargetMode="External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cmc.uvic.ca/clipart/tools/knife/knife-vt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tools/knife/knife-vt.gif" TargetMode="External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utensils/frying-pan/frying-pan-vt.gif" TargetMode="External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door/door-vt.gif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hcmc.uvic.ca/clipart/utensils/wineglass/wineglass-vt.gif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hcmc.uvic.ca/clipart/furniture/window/window-vt.gif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cmc.uvic.ca/clipart/tools/knife/knife-vt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hyperlink" Target="http://hcmc.uvic.ca/clipart/utensils/wineglass/wineglass-vt.gif" TargetMode="External"/><Relationship Id="rId24" Type="http://schemas.openxmlformats.org/officeDocument/2006/relationships/image" Target="../media/image11.png"/><Relationship Id="rId25" Type="http://schemas.openxmlformats.org/officeDocument/2006/relationships/hyperlink" Target="http://hcmc.uvic.ca/clipart/utensils/frying-pan/frying-pan-vt.gif" TargetMode="External"/><Relationship Id="rId26" Type="http://schemas.openxmlformats.org/officeDocument/2006/relationships/image" Target="../media/image10.png"/><Relationship Id="rId27" Type="http://schemas.openxmlformats.org/officeDocument/2006/relationships/hyperlink" Target="http://hcmc.uvic.ca/clipart/general/key/key-vt.gif" TargetMode="External"/><Relationship Id="rId28" Type="http://schemas.openxmlformats.org/officeDocument/2006/relationships/image" Target="../media/image8.png"/><Relationship Id="rId29" Type="http://schemas.openxmlformats.org/officeDocument/2006/relationships/hyperlink" Target="http://hcmc.uvic.ca/clipart/utensils/mug/mug-vt.gif" TargetMode="External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chair/chair-vt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hcmc.uvic.ca/clipart/tools/knife/knife-vt.gif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hcmc.uvic.ca/clipart/furniture/carpet/carpet-vt.gif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hcmc.uvic.ca/clipart/furniture/window/window-vt.gif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hcmc.uvic.ca/clipart/furniture/door/door-vt.gif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hcmc.uvic.ca/clipart/furniture/bed/bed-vt.gif" TargetMode="External"/><Relationship Id="rId12" Type="http://schemas.openxmlformats.org/officeDocument/2006/relationships/image" Target="../media/image4.png"/><Relationship Id="rId13" Type="http://schemas.openxmlformats.org/officeDocument/2006/relationships/hyperlink" Target="http://hcmc.uvic.ca/clipart/utensils/mug/mug-vt.gif" TargetMode="External"/><Relationship Id="rId14" Type="http://schemas.openxmlformats.org/officeDocument/2006/relationships/image" Target="../media/image7.png"/><Relationship Id="rId15" Type="http://schemas.openxmlformats.org/officeDocument/2006/relationships/hyperlink" Target="http://hcmc.uvic.ca/clipart/general/key/key-vt.gif" TargetMode="External"/><Relationship Id="rId16" Type="http://schemas.openxmlformats.org/officeDocument/2006/relationships/image" Target="../media/image8.png"/><Relationship Id="rId17" Type="http://schemas.openxmlformats.org/officeDocument/2006/relationships/hyperlink" Target="http://hcmc.uvic.ca/clipart/tools/knife/knife-vt.gif" TargetMode="External"/><Relationship Id="rId18" Type="http://schemas.openxmlformats.org/officeDocument/2006/relationships/image" Target="../media/image9.png"/><Relationship Id="rId19" Type="http://schemas.openxmlformats.org/officeDocument/2006/relationships/hyperlink" Target="http://hcmc.uvic.ca/clipart/utensils/frying-pan/frying-pan-vt.gif" TargetMode="External"/><Relationship Id="rId20" Type="http://schemas.openxmlformats.org/officeDocument/2006/relationships/image" Target="../media/image10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8.png"/><Relationship Id="rId26" Type="http://schemas.openxmlformats.org/officeDocument/2006/relationships/image" Target="../media/image7.png"/><Relationship Id="rId2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30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n mi dormito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6524640"/>
            <a:ext cx="69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300720" y="3500280"/>
            <a:ext cx="357120" cy="3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116000" y="3789360"/>
            <a:ext cx="3571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221000"/>
            <a:ext cx="357120" cy="376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492360" y="4005360"/>
            <a:ext cx="3542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9871800">
            <a:off x="4066560" y="4436640"/>
            <a:ext cx="353880" cy="43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 rot="2046600">
            <a:off x="771120" y="1146240"/>
            <a:ext cx="48096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3337800">
            <a:off x="7190640" y="4410720"/>
            <a:ext cx="501480" cy="411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 rot="2265000">
            <a:off x="1979280" y="4076640"/>
            <a:ext cx="6476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643280" y="3933720"/>
            <a:ext cx="5763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1215400">
            <a:off x="468360" y="4076640"/>
            <a:ext cx="3241800" cy="936720"/>
          </a:xfrm>
          <a:prstGeom prst="rightArrow">
            <a:avLst>
              <a:gd name="adj1" fmla="val 50000"/>
              <a:gd name="adj2" fmla="val 865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alfom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46200">
            <a:off x="3419280" y="3860640"/>
            <a:ext cx="3241440" cy="936720"/>
          </a:xfrm>
          <a:prstGeom prst="rightArrow">
            <a:avLst>
              <a:gd name="adj1" fmla="val 50000"/>
              <a:gd name="adj2" fmla="val 86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1085800">
            <a:off x="1332000" y="3284640"/>
            <a:ext cx="2952720" cy="936360"/>
          </a:xfrm>
          <a:prstGeom prst="leftArrow">
            <a:avLst>
              <a:gd name="adj1" fmla="val 50000"/>
              <a:gd name="adj2" fmla="val 788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413200">
            <a:off x="2340000" y="2133360"/>
            <a:ext cx="3241800" cy="936360"/>
          </a:xfrm>
          <a:prstGeom prst="rightArrow">
            <a:avLst>
              <a:gd name="adj1" fmla="val 50000"/>
              <a:gd name="adj2" fmla="val 86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pu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188800">
            <a:off x="324000" y="1989000"/>
            <a:ext cx="3241440" cy="936720"/>
          </a:xfrm>
          <a:prstGeom prst="rightArrow">
            <a:avLst>
              <a:gd name="adj1" fmla="val 50000"/>
              <a:gd name="adj2" fmla="val 86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1085800">
            <a:off x="826920" y="620640"/>
            <a:ext cx="2953080" cy="936720"/>
          </a:xfrm>
          <a:prstGeom prst="leftArrow">
            <a:avLst>
              <a:gd name="adj1" fmla="val 50000"/>
              <a:gd name="adj2" fmla="val 7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84720" y="2924280"/>
            <a:ext cx="2984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631280" y="4221000"/>
            <a:ext cx="334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141720"/>
            <a:ext cx="298440" cy="574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3048000">
            <a:off x="970560" y="4150440"/>
            <a:ext cx="717480" cy="588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372360" y="3284640"/>
            <a:ext cx="334800" cy="6458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 rot="20178000">
            <a:off x="5148360" y="1483920"/>
            <a:ext cx="792000" cy="736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 rot="17931600">
            <a:off x="4394520" y="4542120"/>
            <a:ext cx="354240" cy="432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2195640" y="3213000"/>
            <a:ext cx="3571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048000">
            <a:off x="2994840" y="3637440"/>
            <a:ext cx="717480" cy="5889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3"/>
          <a:stretch/>
        </p:blipFill>
        <p:spPr>
          <a:xfrm>
            <a:off x="1187280" y="3573360"/>
            <a:ext cx="335160" cy="6462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4"/>
          <a:stretch/>
        </p:blipFill>
        <p:spPr>
          <a:xfrm rot="186600">
            <a:off x="1834920" y="3860640"/>
            <a:ext cx="792000" cy="7369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5"/>
          <a:stretch/>
        </p:blipFill>
        <p:spPr>
          <a:xfrm rot="18772800">
            <a:off x="3170880" y="2094480"/>
            <a:ext cx="353880" cy="432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6"/>
          <a:stretch/>
        </p:blipFill>
        <p:spPr>
          <a:xfrm>
            <a:off x="7308720" y="4365720"/>
            <a:ext cx="4255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1619280" y="0"/>
            <a:ext cx="6696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780000" y="-1179360"/>
            <a:ext cx="2493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83237E-006 C -0.00868 0.01642 -0.00451 0.01064 -0.01111 0.01896 C -0.01371 0.02613 -0.01493 0.0326 -0.01892 0.03815 C -0.02152 0.04856 -0.03124 0.06127 -0.03802 0.06775 C -0.0651 0.06659 -0.10104 0.06058 -0.12847 0.06983 C -0.13246 0.07307 -0.13715 0.07492 -0.14114 0.07815 C -0.15208 0.08717 -0.16197 0.10058 -0.16979 0.11422 C -0.1717 0.12393 -0.17482 0.13249 -0.17777 0.14174 C -0.18229 0.17781 -0.17881 0.19283 -0.16024 0.21341 C -0.15486 0.21942 -0.15486 0.22151 -0.14756 0.22405 C -0.12656 0.24208 -0.0927 0.23168 -0.07291 0.2326 C -0.0644 0.23538 -0.05746 0.24139 -0.04913 0.24532 C -0.0276 0.26775 -0.00729 0.29018 0.00487 0.32347 C 0.004 0.35838 0.01042 0.40809 -0.01579 0.43122 C -0.02638 0.43029 -0.03802 0.4333 -0.04756 0.42705 C -0.08072 0.40486 -0.04531 0.42428 -0.06822 0.41226 C -0.07812 0.39862 -0.0894 0.39029 -0.10156 0.38058 C -0.10416 0.3785 -0.10711 0.37688 -0.10937 0.37411 C -0.11093 0.37203 -0.11232 0.36948 -0.11423 0.36786 C -0.12899 0.35492 -0.15694 0.35122 -0.17447 0.3489 C -0.18732 0.35052 -0.19635 0.35006 -0.20468 0.3637 C -0.20624 0.36648 -0.20781 0.36902 -0.20937 0.37203 C -0.21163 0.37619 -0.21579 0.38474 -0.21579 0.38474 C -0.22343 0.42682 -0.21649 0.46266 -0.1967 0.49457 C -0.18177 0.51885 -0.16857 0.54012 -0.14913 0.55815 C -0.14218 0.5644 -0.13749 0.56463 -0.13003 0.56856 C -0.08993 0.58914 -0.14895 0.55977 -0.10781 0.58335 C -0.09461 0.59098 -0.08038 0.59468 -0.06666 0.60046 C -0.05052 0.6074 -0.03558 0.61457 -0.01892 0.61942 C 7.50000000000056E-006 0.62474 0.01719 0.63006 0.03664 0.63214 C 0.05417 0.63838 0.07084 0.64023 0.08889 0.64255 C 0.14671 0.63885 0.18629 0.63538 0.2382 0.60463 C 0.25834 0.59283 0.27952 0.58289 0.29688 0.5644 C 0.31355 0.54682 0.33317 0.52509 0.34289 0.49896 C 0.34653 0.48925 0.34931 0.47931 0.35244 0.46937 C 0.35556 0.45989 0.35886 0.43977 0.35886 0.43977 C 0.35834 0.41781 0.35869 0.39584 0.3573 0.37411 C 0.3566 0.36278 0.33803 0.34151 0.33507 0.33619 C 0.3231 0.31515 0.30591 0.3052 0.28889 0.29388 C 0.25573 0.27191 0.22275 0.25064 0.18872 0.23052 C 0.16181 0.21457 0.13178 0.20717 0.1033 0.19653 C 0.08299 0.18914 0.0606 0.19122 0.03976 0.18821 C 0.02344 0.1889 0.00695 0.18867 -0.00937 0.19029 C -0.02274 0.19145 -0.04913 0.19653 -0.04913 0.19653 C -0.07239 0.20463 -0.09583 0.21133 -0.11892 0.21989 C -0.12812 0.22335 -0.13871 0.22544 -0.14756 0.23052 C -0.15624 0.23538 -0.16388 0.24347 -0.17291 0.2474 C -0.18472 0.25272 -0.19739 0.25896 -0.20781 0.26844 C -0.21753 0.27723 -0.2276 0.28971 -0.23645 0.30012 C -0.24652 0.31214 -0.25052 0.32625 -0.25711 0.34035 C -0.26614 0.35954 -0.26545 0.35538 -0.27135 0.37411 C -0.27326 0.37989 -0.27638 0.38497 -0.27777 0.39098 C -0.27933 0.39746 -0.2809 0.4037 -0.28246 0.41018 C -0.28298 0.41226 -0.28402 0.41642 -0.28402 0.41642 C -0.28541 0.42775 -0.28593 0.43931 -0.28888 0.45018 C -0.29114 0.47838 -0.29253 0.53295 -0.27933 0.56023 C -0.27447 0.5859 -0.26614 0.61249 -0.24913 0.62775 C -0.24218 0.64046 -0.23524 0.64601 -0.22378 0.64902 C -0.20711 0.66335 -0.21944 0.65457 -0.17604 0.6511 C -0.16232 0.64994 -0.14826 0.64648 -0.13489 0.64255 C -0.1217 0.64324 -0.10833 0.64486 -0.09513 0.64486 L -0.08558 0.64486 E">
                                      <p:cBhvr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-1179360"/>
            <a:ext cx="249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5.03238E-006 C -0.0019 -0.00209 -0.00347 -0.00417 -0.00555 -0.00556 C -0.00729 -0.00672 -0.00954 -0.00602 -0.01111 -0.00718 C -0.01336 -0.00926 -0.01458 -0.0125 -0.01649 -0.01481 C -0.01927 -0.01805 -0.02291 -0.0199 -0.02604 -0.02198 C -0.03663 -0.02082 -0.04722 -0.02105 -0.05763 -0.01851 C -0.06093 -0.01759 -0.06267 -0.0125 -0.06579 -0.01111 C -0.07152 -0.00348 -0.07708 0.00693 -0.08367 0.01271 C -0.08906 0.02474 -0.09374 0.0363 -0.10277 0.0437 C -0.10329 0.04601 -0.10312 0.04879 -0.10416 0.05087 C -0.10624 0.05503 -0.11232 0.06197 -0.11232 0.06197 C -0.11423 0.06914 -0.11805 0.07353 -0.12065 0.08024 C -0.12291 0.08648 -0.12291 0.09227 -0.12604 0.09828 C -0.13767 0.16049 -0.13072 0.23588 -0.10555 0.29185 C -0.10312 0.3048 -0.09895 0.31382 -0.09322 0.32469 C -0.0927 0.327 -0.09288 0.32978 -0.09183 0.33186 C -0.0901 0.33533 -0.07812 0.35314 -0.07534 0.35568 C -0.07239 0.36192 -0.06232 0.37187 -0.05624 0.3721 C -0.01232 0.37395 0.03143 0.37464 0.07535 0.3758 C 0.08629 0.38436 0.0981 0.38713 0.10955 0.39407 C 0.12344 0.4024 0.10886 0.39777 0.12466 0.40124 C 0.14289 0.41535 0.16702 0.41951 0.18768 0.42136 C 0.22414 0.41928 0.25591 0.42043 0.29028 0.40864 C 0.31823 0.38736 0.32813 0.36956 0.34514 0.33556 C 0.34705 0.3203 0.35018 0.30503 0.3533 0.29 C 0.35157 0.25415 0.35035 0.21808 0.34792 0.18223 C 0.34497 0.13968 0.31042 0.11794 0.28351 0.11123 C 0.27067 0.11308 0.25782 0.11331 0.24514 0.11655 C 0.23542 0.11909 0.21563 0.13991 0.21094 0.14407 C 0.20035 0.15401 0.18698 0.16396 0.17796 0.17691 C 0.14827 0.21969 0.13386 0.27173 0.12049 0.32654 C 0.11789 0.35429 0.11511 0.37996 0.10955 0.40679 C 0.1066 0.45952 0.10001 0.51757 0.11094 0.56914 C 0.11476 0.58741 0.11633 0.58325 0.12327 0.59828 C 0.12969 0.61216 0.13803 0.62811 0.14931 0.63667 C 0.16216 0.64638 0.17726 0.65378 0.19167 0.65864 C 0.20712 0.65748 0.22275 0.65748 0.2382 0.65494 C 0.24167 0.65448 0.25487 0.64453 0.25747 0.64222 C 0.26407 0.63644 0.27171 0.63204 0.27657 0.62395 C 0.2948 0.59342 0.30573 0.55735 0.32188 0.52543 C 0.32622 0.50762 0.32935 0.49005 0.33421 0.47247 C 0.33542 0.45721 0.33768 0.44356 0.34098 0.42876 C 0.34202 0.40425 0.34514 0.38204 0.34653 0.35753 C 0.35521 0.37996 0.3481 0.35822 0.35192 0.39939 C 0.35365 0.41789 0.35869 0.43732 0.36424 0.4542 C 0.3658 0.47363 0.36789 0.48935 0.37396 0.50716 C 0.38143 0.55388 0.37153 0.49698 0.38073 0.5363 C 0.3816 0.53977 0.38108 0.5437 0.38212 0.54717 C 0.38334 0.55133 0.38612 0.55434 0.38768 0.55827 C 0.39185 0.56845 0.39549 0.57747 0.40001 0.58741 C 0.40521 0.59874 0.40851 0.60961 0.4191 0.61308 C 0.4283 0.62464 0.43542 0.62765 0.44792 0.6295 C 0.45383 0.62834 0.4599 0.62811 0.46563 0.6258 C 0.46841 0.62464 0.47692 0.61285 0.47796 0.61123 C 0.48924 0.59458 0.4974 0.57238 0.50539 0.55272 C 0.51442 0.53029 0.52223 0.50647 0.53004 0.48334 C 0.53577 0.46646 0.54341 0.45027 0.54653 0.43223 C 0.55139 0.40471 0.56042 0.38089 0.56563 0.35383 C 0.57448 0.30827 0.56129 0.35938 0.57396 0.31359 C 0.57587 0.29023 0.58056 0.26757 0.58351 0.24444 C 0.58542 0.19148 0.58594 0.20536 0.58212 0.14222 C 0.5816 0.13459 0.57396 0.1221 0.57396 0.1221 C 0.57171 0.11331 0.56771 0.11192 0.56303 0.10568 C 0.56146 0.10337 0.56077 0.10013 0.55886 0.09828 C 0.55678 0.0962 0.54948 0.09389 0.54653 0.09296 C 0.53837 0.09481 0.52935 0.09342 0.52188 0.09828 C 0.51494 0.1029 0.51094 0.11285 0.50539 0.12025 C 0.49497 0.13413 0.48751 0.14615 0.47935 0.16234 C 0.48021 0.20698 0.47032 0.24352 0.50001 0.26618 C 0.5066 0.27751 0.51008 0.28029 0.52049 0.2826 C 0.53455 0.29717 0.5165 0.28029 0.53282 0.29 C 0.5349 0.29116 0.53629 0.29416 0.5382 0.29555 C 0.54185 0.29833 0.54671 0.29948 0.5507 0.30087 C 0.55886 0.3085 0.57119 0.30711 0.58073 0.30827 C 0.59133 0.31174 0.60139 0.31498 0.61233 0.31729 C 0.63004 0.32723 0.6231 0.324 0.63282 0.32839 C 0.63646 0.33533 0.64462 0.34389 0.6507 0.34666 C 0.65678 0.35892 0.66407 0.37002 0.67119 0.38112 C 0.67535 0.38783 0.67935 0.40494 0.67935 0.40494 C 0.68108 0.44264 0.68282 0.47594 0.66841 0.50901 C 0.66442 0.51803 0.6632 0.52705 0.65747 0.53445 C 0.65556 0.54509 0.65122 0.55642 0.64653 0.56544 C 0.64601 0.56729 0.64601 0.5696 0.64514 0.57099 C 0.64254 0.57515 0.62501 0.58995 0.62049 0.59296 E">
                                      <p:cBhvr>
                                        <p:cTn id="5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6877080" y="-1539720"/>
            <a:ext cx="249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37743E-006 C -0.0033 0.01156 -0.00955 0.02105 -0.01233 0.03307 C -0.01424 0.04117 -0.01771 0.05828 -0.01771 0.05828 C -0.01719 0.07354 -0.01823 0.08881 -0.01632 0.10384 C -0.01597 0.10685 -0.0125 0.10731 -0.01094 0.10939 C -0.00503 0.11725 0.00087 0.12512 0.00694 0.13321 C 0.0092 0.14223 0.01649 0.14686 0.02066 0.15495 C 0.02274 0.16304 0.02465 0.17044 0.02604 0.17877 C 0.02448 0.21069 0.02865 0.22849 0.01649 0.25162 C 0.01389 0.26203 0.01059 0.26503 0.00278 0.26804 C -0.0066 0.27683 -0.00799 0.2729 -0.02187 0.26989 C -0.0309 0.26411 -0.03872 0.25578 -0.04792 0.25 C -0.06111 0.25046 -0.07431 0.25046 -0.0875 0.25162 C -0.09132 0.25185 -0.09271 0.25486 -0.09583 0.25717 C -0.10156 0.2611 -0.1158 0.26827 -0.12187 0.27544 C -0.13559 0.29163 -0.14028 0.31291 -0.14514 0.33557 C -0.14427 0.34829 -0.14531 0.3617 -0.14236 0.37396 C -0.13924 0.38668 -0.11406 0.39917 -0.10677 0.40495 C -0.10035 0.41004 -0.08958 0.42114 -0.0849 0.42877 C -0.07934 0.43756 -0.07639 0.44866 -0.07118 0.45791 C -0.06788 0.48844 -0.06719 0.49607 -0.07118 0.53631 C -0.07552 0.58118 -0.12187 0.60199 -0.14931 0.60569 C -0.16198 0.60453 -0.17483 0.6043 -0.1875 0.60199 C -0.20642 0.59852 -0.21632 0.57886 -0.23142 0.56753 C -0.23403 0.56267 -0.25104 0.52845 -0.25608 0.52174 C -0.25799 0.5192 -0.26076 0.51873 -0.26285 0.51642 C -0.27274 0.50555 -0.28351 0.49098 -0.29028 0.47618 C -0.30191 0.4512 -0.30642 0.42114 -0.31493 0.39408 C -0.31372 0.37558 -0.31076 0.37165 -0.32326 0.36679 C -0.32535 0.35569 -0.34896 0.31637 -0.34931 0.31568 C -0.36875 0.27752 -0.35052 0.30759 -0.37396 0.27914 C -0.38559 0.26503 -0.39253 0.24954 -0.40816 0.24445 C -0.41597 0.23797 -0.4224 0.23543 -0.43142 0.23358 C -0.44115 0.22919 -0.44705 0.22572 -0.45885 0.22618 C -0.48802 0.22711 -0.52708 0.23312 -0.54931 0.26272 C -0.5559 0.27151 -0.55955 0.28284 -0.56562 0.29186 C -0.58125 0.31522 -0.56354 0.27914 -0.57934 0.31198 C -0.58854 0.33094 -0.59323 0.35315 -0.6026 0.37211 C -0.60434 0.38529 -0.60642 0.39847 -0.61094 0.4105 C -0.6099 0.44311 -0.61424 0.46647 -0.59306 0.4852 C -0.575 0.4815 -0.54392 0.47502 -0.52587 0.46346 C -0.51424 0.45606 -0.50295 0.44797 -0.49167 0.43964 C -0.4776 0.42923 -0.48715 0.43155 -0.47257 0.42507 C -0.45955 0.41929 -0.44601 0.41674 -0.43281 0.41235 C -0.43056 0.4105 -0.4283 0.40819 -0.42587 0.4068 C -0.42413 0.40587 -0.42205 0.40634 -0.42049 0.40495 C -0.41215 0.39662 -0.40642 0.38552 -0.40122 0.37396 C -0.39653 0.34783 -0.39809 0.35939 -0.39583 0.33927 C -0.3967 0.31129 -0.39635 0.28307 -0.39861 0.25532 C -0.39931 0.24699 -0.40781 0.22757 -0.41094 0.22063 C -0.42656 0.18594 -0.44167 0.18201 -0.46979 0.17507 C -0.5092 0.17715 -0.49653 0.17322 -0.5191 0.18779 C -0.52708 0.19889 -0.53455 0.20537 -0.54514 0.21161 C -0.55191 0.22294 -0.55885 0.22942 -0.56701 0.2389 C -0.57674 0.25023 -0.58524 0.26735 -0.59583 0.27729 C -0.60833 0.28908 -0.6184 0.30273 -0.62865 0.31753 C -0.63576 0.32771 -0.64219 0.33719 -0.64931 0.34667 C -0.66319 0.36517 -0.6467 0.34598 -0.65885 0.36494 C -0.6625 0.37049 -0.67118 0.37951 -0.67118 0.37951 C -0.6717 0.38182 -0.67187 0.38437 -0.67257 0.38668 C -0.67326 0.38876 -0.67465 0.39015 -0.67517 0.39223 C -0.68212 0.4179 -0.67083 0.38599 -0.67934 0.40865 C -0.68108 0.4216 -0.68333 0.43525 -0.6875 0.44704 C -0.69062 0.46531 -0.69236 0.4734 -0.69306 0.49445 C -0.69462 0.54302 -0.69583 0.64038 -0.69583 0.64038 E">
                                      <p:cBhvr>
                                        <p:cTn id="5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79280" y="-1179360"/>
            <a:ext cx="249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6105E-006 C -0.00086 0.00601 -0.00104 0.01249 -0.0026 0.01827 C -0.00329 0.02058 -0.00573 0.02151 -0.00677 0.02382 C -0.0092 0.02868 -0.01024 0.03469 -0.01232 0.04024 C -0.01718 0.06753 -0.01579 0.05435 -0.01354 0.09852 C -0.01336 0.10037 -0.01336 0.10268 -0.01232 0.10407 C -0.00902 0.10823 -0.00052 0.11448 0.00417 0.11679 C 0.0073 0.1154 0.01094 0.11517 0.01372 0.11286 C 0.01754 0.10985 0.02344 0.10037 0.02344 0.10037 C 0.02396 0.09852 0.02414 0.09644 0.02483 0.09482 C 0.02552 0.09297 0.02674 0.09135 0.02743 0.08927 C 0.02865 0.08534 0.02917 0.08071 0.03021 0.07655 C 0.02587 0.05319 0.02622 0.05643 0.00695 0.05828 C 0.00556 0.06013 0.00434 0.06244 0.00278 0.06383 C 0.00157 0.06475 -0.00034 0.06406 -0.00121 0.06568 C -0.00364 0.07007 -0.00382 0.07632 -0.00677 0.08025 C -0.00816 0.0821 -0.00954 0.08372 -0.01093 0.0858 C -0.01406 0.09921 -0.01996 0.10985 -0.02465 0.12211 C -0.02691 0.12835 -0.02864 0.1376 -0.03003 0.14408 C -0.03194 0.16767 -0.04583 0.22525 -0.02187 0.23358 C -0.00034 0.23057 0.00226 0.23381 0.0165 0.22271 C 0.01823 0.21808 0.02205 0.21462 0.02205 0.20976 C 0.02205 0.18525 0.02014 0.18247 0.00834 0.1716 C 0.0033 0.17229 -0.00191 0.17137 -0.00677 0.17345 C -0.0125 0.17553 -0.01562 0.18571 -0.02048 0.18964 C -0.02291 0.19473 -0.02656 0.19889 -0.02864 0.20421 C -0.02968 0.20698 -0.02934 0.21022 -0.03003 0.21323 C -0.03107 0.21785 -0.03541 0.22618 -0.03698 0.22988 C -0.03923 0.25139 -0.04253 0.2722 -0.04514 0.29371 C -0.04444 0.32562 -0.04948 0.35268 -0.03559 0.37766 C -0.03402 0.38807 -0.03246 0.39038 -0.02586 0.3957 C -0.02361 0.40657 -0.01579 0.4142 -0.00816 0.41767 C -0.00468 0.41952 0.00278 0.4216 0.00278 0.4216 C 0.01511 0.42044 0.02743 0.41952 0.03976 0.41767 C 0.04948 0.41651 0.05452 0.40819 0.06181 0.40148 C 0.06528 0.39824 0.06927 0.3957 0.07275 0.39223 C 0.07448 0.39061 0.07639 0.38876 0.07813 0.38691 C 0.08247 0.37697 0.08455 0.36748 0.09184 0.36101 C 0.09375 0.35615 0.0974 0.35176 0.09879 0.34667 C 0.10052 0.33996 0.10157 0.32655 0.10278 0.31938 C 0.10087 0.27845 0.1073 0.24399 0.07535 0.22988 C 0.06025 0.23219 0.06337 0.23289 0.05209 0.24283 C 0.05035 0.24931 0.04254 0.25925 0.04254 0.25925 C 0.04063 0.26642 0.03768 0.27266 0.03438 0.27891 C 0.03264 0.28816 0.02934 0.29602 0.02743 0.30481 C 0.02552 0.31337 0.02205 0.33025 0.02205 0.33025 C 0.02257 0.35037 0.02188 0.37026 0.02344 0.39061 C 0.02396 0.39709 0.03264 0.41142 0.03577 0.41605 C 0.04757 0.43293 0.05955 0.44588 0.07414 0.45814 C 0.079 0.46184 0.08785 0.46207 0.09323 0.46346 C 0.11441 0.47572 0.11841 0.46994 0.14809 0.46716 C 0.15365 0.46462 0.15625 0.46438 0.16042 0.45976 C 0.16858 0.45051 0.16233 0.45421 0.16997 0.45074 C 0.17327 0.43779 0.17118 0.44288 0.17535 0.43432 C 0.17691 0.42576 0.17813 0.42276 0.18368 0.41767 C 0.18577 0.40402 0.18716 0.39107 0.19046 0.37766 C 0.19236 0.36008 0.19358 0.34274 0.19462 0.32493 C 0.19306 0.287 0.1974 0.23219 0.16302 0.21716 C 0.15764 0.21785 0.15174 0.21647 0.14671 0.21901 C 0.14184 0.22132 0.13438 0.23173 0.13438 0.23173 C 0.12796 0.24861 0.1257 0.2692 0.11789 0.28469 C 0.11858 0.31013 0.11615 0.34644 0.12743 0.37026 C 0.13021 0.38506 0.14341 0.40587 0.15348 0.41235 C 0.15851 0.42553 0.1533 0.41489 0.16042 0.42345 C 0.16337 0.42669 0.16858 0.43432 0.16858 0.43432 C 0.17118 0.44496 0.16789 0.43525 0.17535 0.44519 C 0.18039 0.4519 0.17535 0.45143 0.18368 0.45629 C 0.19236 0.46138 0.20747 0.46207 0.2165 0.46346 C 0.22882 0.46161 0.24236 0.46531 0.25348 0.45814 C 0.27466 0.44403 0.25434 0.4519 0.26858 0.44704 C 0.27952 0.43848 0.28629 0.42484 0.29462 0.41235 C 0.29723 0.40842 0.3 0.40495 0.30278 0.40148 C 0.30417 0.39963 0.30695 0.3957 0.30695 0.3957 C 0.31059 0.37697 0.30521 0.40009 0.31233 0.38298 C 0.3132 0.38113 0.31302 0.37835 0.31372 0.37604 C 0.31441 0.37373 0.31563 0.37234 0.3165 0.37026 C 0.32171 0.34228 0.32379 0.37211 0.31789 0.3136 C 0.31702 0.30527 0.31511 0.29695 0.31372 0.28816 C 0.31285 0.28353 0.31111 0.27382 0.31111 0.27382 C 0.31146 0.24237 0.30417 0.18964 0.31927 0.1568 C 0.32118 0.14662 0.32552 0.14015 0.33299 0.13691 C 0.33611 0.1376 0.33959 0.13714 0.34254 0.13876 C 0.34636 0.14084 0.34879 0.16142 0.34948 0.16605 C 0.35 0.18154 0.34723 0.23774 0.35903 0.25347 C 0.36268 0.25856 0.36997 0.26457 0.37414 0.26827 C 0.37848 0.2722 0.38143 0.27544 0.38646 0.27729 C 0.39323 0.28353 0.40261 0.28353 0.40556 0.27197 C 0.40452 0.25301 0.40521 0.20953 0.38907 0.19519 C 0.38368 0.18525 0.3783 0.17391 0.37535 0.16235 C 0.37344 0.15449 0.36997 0.13876 0.36997 0.13876 C 0.37049 0.1235 0.37014 0.10106 0.37275 0.08372 C 0.37396 0.07632 0.37414 0.08025 0.37674 0.07308 C 0.3875 0.04371 0.39653 0.03538 0.41927 0.02567 C 0.43646 0.02729 0.43993 0.0259 0.44948 0.04533 C 0.45625 0.05874 0.454 0.05319 0.45764 0.06753 C 0.45851 0.07123 0.46042 0.07817 0.46042 0.07817 C 0.46285 0.10153 0.46181 0.08696 0.46181 0.12211 E">
                                      <p:cBhvr>
                                        <p:cTn id="6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8604360" y="1557360"/>
            <a:ext cx="2493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7176 C -0.0632 0.06806 -0.03525 0.07037 -0.07032 0.06181 C -0.07604 0.05764 -0.08195 0.05556 -0.08854 0.05348 C -0.10035 0.04514 -0.0849 0.05486 -0.10157 0.04838 C -0.11441 0.04329 -0.12327 0.03056 -0.13768 0.02824 C -0.14844 0.02662 -0.15938 0.02593 -0.17032 0.025 C -0.18663 0.02014 -0.20348 0.02199 -0.21945 0.0169 C -0.22622 0.01204 -0.23299 0.00903 -0.2408 0.00649 C -0.24879 -0.00115 -0.24549 -0.00277 -0.25712 -0.00509 C -0.26615 -0.01226 -0.27361 -0.01389 -0.2849 -0.01689 C -0.30313 -0.0162 -0.32101 -0.0162 -0.33907 -0.01504 C -0.34861 -0.01458 -0.35591 -0.00555 -0.36528 -0.00347 C -0.3691 -0.00069 -0.37275 0.00232 -0.37674 0.00486 C -0.38959 0.0125 -0.42101 0.0125 -0.43403 0.0132 C -0.45295 0.01598 -0.47066 0.01875 -0.48976 0.01991 C -0.49636 0.02547 -0.50452 0.02963 -0.50938 0.03658 C -0.51233 0.04051 -0.51441 0.04491 -0.51754 0.04838 C -0.52969 0.06181 -0.54254 0.07223 -0.55365 0.08681 C -0.55799 0.09236 -0.56459 0.09607 -0.56841 0.10186 C -0.57622 0.11389 -0.57223 0.10903 -0.57969 0.1169 C -0.58177 0.12223 -0.58802 0.13195 -0.58802 0.13218 C -0.59063 0.14005 -0.5974 0.14537 -0.60278 0.15209 C -0.60695 0.15718 -0.61354 0.16829 -0.6158 0.17385 C -0.61788 0.17917 -0.62066 0.18473 -0.6224 0.19028 C -0.62448 0.19861 -0.62882 0.21551 -0.62882 0.21574 C -0.63212 0.24098 -0.63611 0.26551 -0.63889 0.29074 C -0.6382 0.33357 -0.63663 0.37686 -0.63698 0.41968 C -0.63733 0.44306 -0.63872 0.46621 -0.64045 0.48982 C -0.64098 0.49838 -0.64184 0.50718 -0.64549 0.51459 C -0.64705 0.51852 -0.65191 0.52454 -0.65191 0.52477 C -0.65538 0.53542 -0.66007 0.54491 -0.66493 0.55486 C -0.66563 0.55649 -0.66545 0.55857 -0.66667 0.55996 C -0.66788 0.56135 -0.67014 0.56204 -0.67153 0.5632 C -0.67969 0.57061 -0.68403 0.57477 -0.69445 0.57824 C -0.7007 0.58473 -0.71372 0.58565 -0.72223 0.58866 C -0.74896 0.58426 -0.73872 0.58542 -0.75504 0.5801 C -0.75886 0.57408 -0.7625 0.57061 -0.76823 0.56667 C -0.77257 0.5676 -0.77691 0.56899 -0.78143 0.56991 C -0.78229 0.57014 -0.79358 0.5625 -0.79601 0.56158 C -0.79844 0.55116 -0.80052 0.55556 -0.80591 0.54815 C -0.81684 0.53311 -0.80782 0.54306 -0.81736 0.53311 C -0.82084 0.51875 -0.81598 0.53357 -0.82396 0.5213 C -0.825 0.52037 -0.82483 0.51829 -0.82552 0.51644 C -0.82622 0.51528 -0.83108 0.51065 -0.83212 0.50973 C -0.83889 0.48866 -0.84219 0.47176 -0.84497 0.44977 C -0.84445 0.41065 -0.84445 0.37153 -0.84341 0.33264 C -0.84323 0.32547 -0.83872 0.31551 -0.83525 0.30926 C -0.83334 0.30556 -0.82865 0.29908 -0.82865 0.29931 C -0.82518 0.28797 -0.82205 0.27709 -0.81563 0.26736 C -0.81146 0.25 -0.81702 0.27061 -0.81077 0.25579 C -0.80486 0.24121 -0.81372 0.25741 -0.80747 0.24074 C -0.80625 0.23727 -0.80139 0.23056 -0.79931 0.22732 C -0.79584 0.21274 -0.8007 0.22778 -0.79271 0.21551 C -0.79167 0.21412 -0.79184 0.21227 -0.79115 0.21065 C -0.78282 0.19561 -0.76268 0.17246 -0.74844 0.16389 C -0.7415 0.15255 -0.74966 0.16343 -0.74028 0.15718 C -0.73438 0.15301 -0.73143 0.14769 -0.72396 0.14514 C -0.70764 0.12871 -0.72709 0.15 -0.71754 0.13519 C -0.71268 0.12801 -0.70261 0.12269 -0.69618 0.1169 C -0.69167 0.1125 -0.68733 0.10787 -0.68299 0.10348 C -0.67848 0.09885 -0.67101 0.09537 -0.66667 0.09028 C -0.66407 0.08727 -0.66233 0.08357 -0.66007 0.07986 C -0.65521 0.07246 -0.64566 0.0676 -0.63889 0.06181 C -0.62657 0.05116 -0.61788 0.0338 -0.60434 0.025 C -0.6007 0.01922 -0.6007 0.01412 -0.59792 0.00834 C -0.59271 -0.00254 -0.58733 -0.01365 -0.58316 -0.02523 C -0.57691 -0.04259 -0.57795 -0.06597 -0.57657 -0.08356 C -0.57813 -0.10509 -0.5757 -0.1493 -0.60434 -0.15879 C -0.61129 -0.16412 -0.61875 -0.16851 -0.62726 -0.1706 C -0.6349 -0.17824 -0.64375 -0.18171 -0.65365 -0.18541 C -0.66077 -0.18518 -0.66788 -0.18541 -0.67483 -0.18402 C -0.67743 -0.18333 -0.68247 -0.17569 -0.68455 -0.17384 C -0.69723 -0.16319 -0.70747 -0.15139 -0.70747 -0.13379 E">
                                      <p:cBhvr>
                                        <p:cTn id="6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8604360" y="5035680"/>
            <a:ext cx="2493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0.0037 C 0.00243 -0.00255 0.00191 -0.01065 0.00642 -0.01713 C 0.00694 -0.01968 0.00694 -0.02269 0.00781 -0.02477 C 0.0085 -0.02639 0.01007 -0.02708 0.01076 -0.02847 C 0.01389 -0.03657 0.01389 -0.04537 0.01788 -0.05347 C 0.0184 -0.05602 0.01857 -0.05857 0.01927 -0.06088 C 0.01996 -0.06296 0.02152 -0.06482 0.02222 -0.06667 C 0.02378 -0.07222 0.02396 -0.07801 0.025 -0.0838 C 0.02812 -0.12269 0.03819 -0.17292 0.00642 -0.19051 C -0.02066 -0.18843 -0.01181 -0.18866 -0.02917 -0.18287 C -0.03507 -0.17755 -0.04236 -0.17245 -0.04931 -0.16944 C -0.05018 -0.1669 -0.05052 -0.16389 -0.05209 -0.16181 C -0.05313 -0.16042 -0.05556 -0.16157 -0.05643 -0.15995 C -0.05782 -0.15718 -0.05677 -0.15324 -0.05782 -0.15046 C -0.05868 -0.14792 -0.06077 -0.14653 -0.06216 -0.14468 C -0.06493 -0.13704 -0.06893 -0.13148 -0.07205 -0.12384 C -0.07726 -0.11204 -0.08177 -0.1 -0.08646 -0.0875 C -0.08768 -0.0787 -0.09028 -0.06782 -0.09497 -0.06088 C -0.09705 -0.04977 -0.10191 -0.04213 -0.10782 -0.03449 C -0.11094 -0.0213 -0.11927 -0.0081 -0.125 0.0037 C -0.12622 0.00625 -0.12761 0.0088 -0.12917 0.01134 C -0.13143 0.01435 -0.13646 0.02083 -0.13646 0.02083 C -0.13941 0.0331 -0.15035 0.03958 -0.15643 0.04954 C -0.15851 0.05278 -0.16025 0.05718 -0.16216 0.06088 C -0.16354 0.06343 -0.16615 0.06458 -0.16788 0.06667 C -0.17674 0.07662 -0.18768 0.0919 -0.19931 0.09699 C -0.20556 0.10556 -0.21389 0.1081 -0.22205 0.1125 C -0.23247 0.12569 -0.29028 0.11458 -0.29358 0.11435 C -0.30365 0.11111 -0.31216 0.10139 -0.32205 0.09699 C -0.32639 0.0912 -0.32778 0.08611 -0.33351 0.08356 C -0.34202 0.07222 -0.34948 0.06042 -0.35799 0.04954 C -0.36007 0.04028 -0.3625 0.03079 -0.36632 0.02268 C -0.36615 0.00556 -0.37552 -0.10509 -0.35799 -0.15046 C -0.35504 -0.16574 -0.35018 -0.19306 -0.34219 -0.2037 C -0.33976 -0.21157 -0.33941 -0.22083 -0.33646 -0.22847 C -0.33542 -0.23171 -0.33334 -0.23472 -0.33212 -0.23796 C -0.32969 -0.24444 -0.32952 -0.25093 -0.32639 -0.25718 C -0.325 -0.26505 -0.32205 -0.27014 -0.32066 -0.27801 C -0.31945 -0.29213 -0.31945 -0.29699 -0.31493 -0.30857 C -0.31111 -0.34468 -0.30018 -0.3956 -0.32066 -0.42292 C -0.32327 -0.4331 -0.33594 -0.45162 -0.34358 -0.45532 C -0.35035 -0.46435 -0.36007 -0.47014 -0.36927 -0.47431 C -0.37969 -0.47361 -0.39028 -0.47361 -0.4007 -0.47245 C -0.40782 -0.47176 -0.42136 -0.4537 -0.42361 -0.45139 C -0.42917 -0.44537 -0.42639 -0.44653 -0.43073 -0.44005 C -0.43507 -0.4338 -0.44132 -0.4294 -0.44497 -0.42292 C -0.45261 -0.41065 -0.45643 -0.39537 -0.46372 -0.38287 C -0.46615 -0.36898 -0.46441 -0.35069 -0.47205 -0.33912 C -0.47483 -0.33495 -0.47917 -0.33333 -0.48212 -0.3294 C -0.48455 -0.31944 -0.4875 -0.31111 -0.49219 -0.30278 C -0.49271 -0.29907 -0.49288 -0.29514 -0.49358 -0.29144 C -0.49514 -0.2831 -0.49931 -0.26667 -0.49931 -0.26644 C -0.50087 -0.24583 -0.50538 -0.22685 -0.50782 -0.20579 C -0.50747 -0.19028 -0.5125 -0.11505 -0.49931 -0.0875 C -0.4974 -0.07107 -0.49479 -0.05417 -0.48785 -0.04028 C -0.48629 -0.03102 -0.48229 -0.02384 -0.48073 -0.01528 C -0.47952 -0.0081 -0.47848 0.00255 -0.47778 0.00949 C -0.47917 0.03403 -0.47986 0.05903 -0.48212 0.08356 C -0.48229 0.08611 -0.4842 0.0875 -0.4849 0.08935 C -0.49115 0.1088 -0.50521 0.125 -0.52066 0.13148 C -0.58247 0.12431 -0.53663 0.13287 -0.56632 0.11806 C -0.5783 0.10231 -0.57309 0.10926 -0.58212 0.09699 C -0.58351 0.09537 -0.58646 0.0912 -0.58646 0.09143 C -0.58872 0.08171 -0.59306 0.07361 -0.59636 0.06481 C -0.60104 0.03333 -0.59896 0.04537 -0.60209 0.0287 C -0.60157 -0.00625 -0.60191 -0.04144 -0.6007 -0.07616 C -0.60035 -0.08611 -0.59879 -0.0956 -0.59636 -0.10463 C -0.59462 -0.11134 -0.58924 -0.12384 -0.58924 -0.12384 C -0.58768 -0.13519 -0.58577 -0.14306 -0.58073 -0.15232 C -0.57778 -0.17708 -0.58177 -0.15509 -0.57361 -0.17708 C -0.56823 -0.19167 -0.56372 -0.21065 -0.55643 -0.22477 C -0.554 -0.22963 -0.55018 -0.2331 -0.54775 -0.23796 C -0.5408 -0.25139 -0.53525 -0.2662 -0.52639 -0.27801 C -0.52344 -0.28194 -0.51945 -0.28403 -0.51632 -0.2875 C -0.50469 -0.30046 -0.51198 -0.3 -0.49358 -0.31227 C -0.47379 -0.32546 -0.45382 -0.33079 -0.43212 -0.33704 C -0.41684 -0.33472 -0.40087 -0.33681 -0.38681 -0.3294 C -0.38282 -0.32755 -0.38038 -0.32384 -0.37639 -0.32199 C -0.36736 -0.31713 -0.3533 -0.31181 -0.34358 -0.30857 C -0.33681 -0.30301 -0.33247 -0.29468 -0.325 -0.29144 C -0.31285 -0.27523 -0.32882 -0.29444 -0.31493 -0.2838 C -0.30035 -0.27245 -0.31979 -0.28194 -0.30643 -0.27616 C -0.30104 -0.26898 -0.29375 -0.2581 -0.28646 -0.25324 C -0.28368 -0.25139 -0.27778 -0.24954 -0.27778 -0.24931 C -0.26962 -0.25139 -0.26077 -0.25046 -0.25348 -0.25532 C -0.24792 -0.25903 -0.25052 -0.26181 -0.24636 -0.26667 C -0.24427 -0.26898 -0.24167 -0.2706 -0.23924 -0.27245 C -0.23785 -0.27569 -0.23663 -0.27917 -0.2349 -0.28194 C -0.23386 -0.28357 -0.2316 -0.2838 -0.23073 -0.28565 C -0.22952 -0.28843 -0.23021 -0.29213 -0.22917 -0.29514 C -0.22813 -0.29792 -0.22604 -0.3 -0.225 -0.30278 C -0.21216 -0.33449 -0.22934 -0.29907 -0.21493 -0.32755 C -0.21302 -0.34375 -0.21268 -0.36134 -0.2092 -0.37708 C -0.20747 -0.38472 -0.20348 -0.4 -0.20348 -0.39977 C -0.20243 -0.4088 -0.20052 -0.42245 -0.2007 -0.43056 C -0.20104 -0.44838 -0.20226 -0.46597 -0.20348 -0.4838 C -0.20452 -0.49907 -0.21007 -0.5206 -0.21632 -0.53333 C -0.22049 -0.54167 -0.22865 -0.54491 -0.2349 -0.54861 C -0.25313 -0.55972 -0.27396 -0.56134 -0.29358 -0.56574 C -0.31927 -0.56482 -0.34184 -0.56528 -0.36632 -0.55995 C -0.37917 -0.54977 -0.39254 -0.54676 -0.40643 -0.54097 C -0.42657 -0.5206 -0.44913 -0.50417 -0.46927 -0.4838 C -0.47448 -0.47245 -0.48125 -0.4669 -0.48785 -0.45718 C -0.49358 -0.44861 -0.49445 -0.43843 -0.5007 -0.43056 C -0.50139 -0.42662 -0.50295 -0.41458 -0.50643 -0.41319 C -0.51875 -0.40787 -0.53212 -0.41088 -0.54497 -0.40949 C -0.56754 -0.39607 -0.59219 -0.38796 -0.61354 -0.37153 C -0.63056 -0.3581 -0.62257 -0.36366 -0.63646 -0.34653 C -0.66025 -0.31782 -0.6665 -0.31157 -0.68073 -0.27431 C -0.6849 -0.25116 -0.67743 -0.28958 -0.68785 -0.25324 C -0.69445 -0.23032 -0.68351 -0.25208 -0.69358 -0.23426 C -0.6974 -0.21574 -0.70452 -0.19676 -0.70782 -0.17894 C -0.71198 -0.15764 -0.71285 -0.13449 -0.72205 -0.11644 C -0.72379 -0.1037 -0.72639 -0.09514 -0.73073 -0.0838 C -0.73403 -0.06111 -0.74393 -0.04468 -0.75209 -0.02477 C -0.75382 -0.02083 -0.75452 -0.01574 -0.75643 -0.01134 C -0.75747 -0.00903 -0.75955 -0.0081 -0.76077 -0.00579 C -0.77292 0.01366 -0.78316 0.02893 -0.8007 0.04005 C -0.81025 0.04583 -0.81719 0.05278 -0.82778 0.05532 C -0.83681 0.05347 -0.84601 0.05208 -0.85504 0.04954 C -0.86563 0.04653 -0.87223 0.03009 -0.87917 0.02083 C -0.88229 0.01065 -0.88542 0.00625 -0.89219 3.7037E-007 C -0.90973 0.00764 -0.89549 0.01065 -0.91927 0.00185 C -0.93264 -0.02037 -0.95382 -0.04977 -0.96077 -0.07616 C -0.96233 -0.08889 -0.9658 -0.1 -0.96788 -0.1125 C -0.97188 -0.13634 -0.97483 -0.16065 -0.97917 -0.18472 C -0.9783 -0.24514 -0.98681 -0.25787 -0.97066 -0.29514 C -0.96858 -0.3125 -0.96146 -0.31991 -0.95348 -0.33333 C -0.94479 -0.34792 -0.93698 -0.35764 -0.92639 -0.36944 C -0.91806 -0.3787 -0.92118 -0.38009 -0.91077 -0.38472 C -0.90382 -0.38773 -0.89636 -0.38843 -0.88924 -0.39051 C -0.87882 -0.38982 -0.86823 -0.39074 -0.85782 -0.38866 C -0.85191 -0.3875 -0.84427 -0.37153 -0.83924 -0.36574 C -0.83768 -0.35278 -0.83507 -0.34375 -0.82917 -0.33333 C -0.82743 -0.32523 -0.82674 -0.31667 -0.825 -0.30857 C -0.82344 -0.30069 -0.81927 -0.28565 -0.81927 -0.28542 C -0.81702 -0.24699 -0.81181 -0.22662 -0.81788 -0.18287 C -0.81858 -0.17847 -0.82275 -0.17662 -0.825 -0.17338 C -0.83473 -0.15903 -0.84549 -0.15139 -0.85643 -0.13912 C -0.87396 -0.14167 -0.89184 -0.14259 -0.9092 -0.14653 C -0.91163 -0.14699 -0.91302 -0.15046 -0.91493 -0.15232 C -0.925 -0.16134 -0.9283 -0.16829 -0.93351 -0.18287 C -0.93837 -0.19653 -0.94514 -0.20787 -0.9507 -0.22083 C -0.95973 -0.24213 -0.96389 -0.26782 -0.96788 -0.29144 C -0.97344 -0.36366 -0.97639 -0.43819 -0.96354 -0.50857 C -0.96163 -0.53194 -0.96216 -0.52639 -0.95348 -0.54282 C -0.94618 -0.55671 -0.95087 -0.55116 -0.94358 -0.5581 C -0.94115 -0.5713 -0.93559 -0.58194 -0.92917 -0.59236 C -0.92761 -0.59884 -0.92361 -0.6044 -0.92361 -0.61134 E">
                                      <p:cBhvr>
                                        <p:cTn id="7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31:04Z</dcterms:created>
  <dc:creator>clare.seccombe</dc:creator>
  <dc:description/>
  <dc:language>en-US</dc:language>
  <cp:lastModifiedBy>Clare</cp:lastModifiedBy>
  <dcterms:modified xsi:type="dcterms:W3CDTF">2008-11-17T20:40:43Z</dcterms:modified>
  <cp:revision>14</cp:revision>
  <dc:subject/>
  <dc:title>Slide 1</dc:title>
</cp:coreProperties>
</file>