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28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B3BA2-587A-4F63-845D-052AD1D54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28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D0E33-A5FA-486B-BEF3-7EEFDDB3C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28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01688-6A49-42DA-AAE7-2F27BEDEF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105-8C49-4D1D-A342-226ACFE5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54B-41B7-4867-80D9-1A1C8B84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0D8-6AE5-426E-889B-6ECD5E0F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EB5-AB6A-464A-9912-6E1B6A4C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763-5EED-4C76-B9BE-03C20721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E74-448B-4AC8-9140-4B35DD2E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068-F134-4EBE-90B5-3FA7405B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DC2-B6BE-4461-850D-CD52AB7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FEA-B0B8-4CA4-BCC5-FFE57B2A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42C-78C8-461A-8256-CA524E19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ABE-B784-4862-AA0B-8EA01870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418-F69C-42BC-9D13-9369EF56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Wednesday 28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A0F0C-9CE4-4744-9DB6-4AF14EC5F9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sunderlandschools.org/mfl-sunderland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93280" y="2716200"/>
            <a:ext cx="7751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ble to discuss holidays in the pas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d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short questions about holidays in the past wit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a mayorí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longer answers and pick out details wit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un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xtra details about holidays withou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974880" y="669960"/>
            <a:ext cx="7486560" cy="162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 flipH="1">
            <a:off x="1254240" y="382680"/>
            <a:ext cx="1117440" cy="102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rcRect l="0" t="54377" r="34880" b="0"/>
          <a:stretch/>
        </p:blipFill>
        <p:spPr>
          <a:xfrm>
            <a:off x="5864400" y="1728720"/>
            <a:ext cx="1679400" cy="987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95640" y="6488280"/>
            <a:ext cx="6048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/TDunne 2012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hlinkClick r:id="rId4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irregular preterite t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846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3" descr=""/>
          <p:cNvPicPr/>
          <p:nvPr/>
        </p:nvPicPr>
        <p:blipFill>
          <a:blip r:embed="rId2"/>
          <a:stretch/>
        </p:blipFill>
        <p:spPr>
          <a:xfrm>
            <a:off x="3541680" y="1596960"/>
            <a:ext cx="2712960" cy="65268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4" descr=""/>
          <p:cNvPicPr/>
          <p:nvPr/>
        </p:nvPicPr>
        <p:blipFill>
          <a:blip r:embed="rId3"/>
          <a:stretch/>
        </p:blipFill>
        <p:spPr>
          <a:xfrm>
            <a:off x="3541680" y="2243160"/>
            <a:ext cx="2712960" cy="65232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3541680" y="2835360"/>
            <a:ext cx="2712960" cy="6508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6" descr=""/>
          <p:cNvPicPr/>
          <p:nvPr/>
        </p:nvPicPr>
        <p:blipFill>
          <a:blip r:embed="rId5"/>
          <a:stretch/>
        </p:blipFill>
        <p:spPr>
          <a:xfrm>
            <a:off x="3541680" y="3481560"/>
            <a:ext cx="2712960" cy="65232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7" descr=""/>
          <p:cNvPicPr/>
          <p:nvPr/>
        </p:nvPicPr>
        <p:blipFill>
          <a:blip r:embed="rId6"/>
          <a:stretch/>
        </p:blipFill>
        <p:spPr>
          <a:xfrm>
            <a:off x="3541680" y="4127400"/>
            <a:ext cx="2712960" cy="65268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8" descr=""/>
          <p:cNvPicPr/>
          <p:nvPr/>
        </p:nvPicPr>
        <p:blipFill>
          <a:blip r:embed="rId7"/>
          <a:stretch/>
        </p:blipFill>
        <p:spPr>
          <a:xfrm>
            <a:off x="3541680" y="4773600"/>
            <a:ext cx="6864480" cy="65232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9" descr=""/>
          <p:cNvPicPr/>
          <p:nvPr/>
        </p:nvPicPr>
        <p:blipFill>
          <a:blip r:embed="rId8"/>
          <a:stretch/>
        </p:blipFill>
        <p:spPr>
          <a:xfrm>
            <a:off x="3541680" y="5492880"/>
            <a:ext cx="27129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Ent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2" descr=""/>
          <p:cNvPicPr/>
          <p:nvPr/>
        </p:nvPicPr>
        <p:blipFill>
          <a:blip r:embed="rId1"/>
          <a:stretch/>
        </p:blipFill>
        <p:spPr>
          <a:xfrm>
            <a:off x="457200" y="1158840"/>
            <a:ext cx="8229600" cy="5527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11490480" y="34732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7740720" y="274680"/>
            <a:ext cx="9460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ño pas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600" cy="4645080"/>
        </p:xfrm>
        <a:graphic>
          <a:graphicData uri="http://schemas.openxmlformats.org/drawingml/2006/table">
            <a:tbl>
              <a:tblPr/>
              <a:tblGrid>
                <a:gridCol w="2755800"/>
                <a:gridCol w="54738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ve de vacaciones 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i 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xtranjero / el campo / la playa / la sierra / la montañ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ña / Francia / Cuba / los Estados U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alojé / Me qued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un albergue juvenil / hotel / camping / en una p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ques temáticos / monumentos / pueblos antiguos / espectácu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gu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tenis / al fútbol / a las car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qu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rtes acuáticos / el esquí / la vela / la nata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) me divertí por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) lo pasé bien / mal / regular por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zo buen tiempo / mal tiempo / sol / viento / hubo torm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6595920" y="195120"/>
            <a:ext cx="12844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rcRect l="1861" t="12788" r="50004" b="15577"/>
          <a:stretch/>
        </p:blipFill>
        <p:spPr>
          <a:xfrm>
            <a:off x="1952640" y="274680"/>
            <a:ext cx="1135080" cy="127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rcRect l="50004" t="18621" r="1861" b="9756"/>
          <a:stretch/>
        </p:blipFill>
        <p:spPr>
          <a:xfrm>
            <a:off x="5927760" y="330120"/>
            <a:ext cx="1135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7"/>
          <p:cNvSpPr/>
          <p:nvPr/>
        </p:nvSpPr>
        <p:spPr>
          <a:xfrm rot="5400000">
            <a:off x="3842280" y="-2655000"/>
            <a:ext cx="154764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8"/>
          <p:cNvSpPr/>
          <p:nvPr/>
        </p:nvSpPr>
        <p:spPr>
          <a:xfrm rot="16200000">
            <a:off x="3834360" y="2691000"/>
            <a:ext cx="147492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7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8"/>
          <p:cNvSpPr/>
          <p:nvPr/>
        </p:nvSpPr>
        <p:spPr>
          <a:xfrm>
            <a:off x="7667640" y="0"/>
            <a:ext cx="147636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0"/>
          <p:cNvSpPr/>
          <p:nvPr/>
        </p:nvSpPr>
        <p:spPr>
          <a:xfrm>
            <a:off x="1370160" y="801720"/>
            <a:ext cx="201456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1"/>
          <p:cNvSpPr/>
          <p:nvPr/>
        </p:nvSpPr>
        <p:spPr>
          <a:xfrm>
            <a:off x="1371600" y="2019240"/>
            <a:ext cx="201312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2"/>
          <p:cNvSpPr/>
          <p:nvPr/>
        </p:nvSpPr>
        <p:spPr>
          <a:xfrm>
            <a:off x="1370160" y="3235320"/>
            <a:ext cx="201456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3"/>
          <p:cNvSpPr/>
          <p:nvPr/>
        </p:nvSpPr>
        <p:spPr>
          <a:xfrm>
            <a:off x="1371600" y="4452840"/>
            <a:ext cx="201456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7"/>
          <p:cNvSpPr/>
          <p:nvPr/>
        </p:nvSpPr>
        <p:spPr>
          <a:xfrm>
            <a:off x="2868480" y="142416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8"/>
          <p:cNvSpPr/>
          <p:nvPr/>
        </p:nvSpPr>
        <p:spPr>
          <a:xfrm>
            <a:off x="2870280" y="2641680"/>
            <a:ext cx="20286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9"/>
          <p:cNvSpPr/>
          <p:nvPr/>
        </p:nvSpPr>
        <p:spPr>
          <a:xfrm>
            <a:off x="2868480" y="385776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0"/>
          <p:cNvSpPr/>
          <p:nvPr/>
        </p:nvSpPr>
        <p:spPr>
          <a:xfrm>
            <a:off x="2870280" y="507528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s a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2"/>
          <p:cNvSpPr/>
          <p:nvPr/>
        </p:nvSpPr>
        <p:spPr>
          <a:xfrm>
            <a:off x="5940360" y="1424160"/>
            <a:ext cx="20322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3"/>
          <p:cNvSpPr/>
          <p:nvPr/>
        </p:nvSpPr>
        <p:spPr>
          <a:xfrm>
            <a:off x="5942160" y="264168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4"/>
          <p:cNvSpPr/>
          <p:nvPr/>
        </p:nvSpPr>
        <p:spPr>
          <a:xfrm>
            <a:off x="5940360" y="3857760"/>
            <a:ext cx="20322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q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5"/>
          <p:cNvSpPr/>
          <p:nvPr/>
        </p:nvSpPr>
        <p:spPr>
          <a:xfrm>
            <a:off x="5942160" y="5075280"/>
            <a:ext cx="203184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7"/>
          <p:cNvSpPr/>
          <p:nvPr/>
        </p:nvSpPr>
        <p:spPr>
          <a:xfrm>
            <a:off x="4394160" y="206064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9"/>
          <p:cNvSpPr/>
          <p:nvPr/>
        </p:nvSpPr>
        <p:spPr>
          <a:xfrm>
            <a:off x="4405320" y="323532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0"/>
          <p:cNvSpPr/>
          <p:nvPr/>
        </p:nvSpPr>
        <p:spPr>
          <a:xfrm>
            <a:off x="4427640" y="443700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7"/>
          <p:cNvSpPr/>
          <p:nvPr/>
        </p:nvSpPr>
        <p:spPr>
          <a:xfrm>
            <a:off x="7380360" y="1628640"/>
            <a:ext cx="5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8"/>
          <p:cNvSpPr/>
          <p:nvPr/>
        </p:nvSpPr>
        <p:spPr>
          <a:xfrm>
            <a:off x="4394160" y="836640"/>
            <a:ext cx="2030400" cy="1201680"/>
          </a:xfrm>
          <a:prstGeom prst="octagon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9"/>
          <p:cNvSpPr/>
          <p:nvPr/>
        </p:nvSpPr>
        <p:spPr>
          <a:xfrm>
            <a:off x="1547640" y="6308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</a:rPr>
              <a:t>One click Blue – two click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93280" y="2716200"/>
            <a:ext cx="7751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ble to discuss holidays in the pas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d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short questions about holidays in the past wit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a mayorí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longer answers and pick out details wit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lguno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xtra details about holidays withou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tangle 1" descr=""/>
          <p:cNvPicPr/>
          <p:nvPr/>
        </p:nvPicPr>
        <p:blipFill>
          <a:blip r:embed="rId1"/>
          <a:stretch/>
        </p:blipFill>
        <p:spPr>
          <a:xfrm>
            <a:off x="974880" y="669960"/>
            <a:ext cx="748656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 flipH="1">
            <a:off x="1254240" y="382680"/>
            <a:ext cx="1117440" cy="102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rcRect l="0" t="54377" r="34880" b="0"/>
          <a:stretch/>
        </p:blipFill>
        <p:spPr>
          <a:xfrm>
            <a:off x="5864400" y="1728720"/>
            <a:ext cx="16794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95120" y="274680"/>
            <a:ext cx="235764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snorkeling-diving-swimming-mask-clip-art.jpg"/>
          <p:cNvPicPr/>
          <p:nvPr/>
        </p:nvPicPr>
        <p:blipFill>
          <a:blip r:embed="rId3"/>
          <a:stretch/>
        </p:blipFill>
        <p:spPr>
          <a:xfrm>
            <a:off x="6796080" y="216000"/>
            <a:ext cx="987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4470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ño pasado de vacaciones estuve con mi familia en Costa Rica en América Central.  Viajamos en dos modos de transporte: fuimos en tren y luego en autocar.  Un día viajamos en un Jeep para ver un volcán.  Pasamos mucho tiempo en la playa.  Conocimos a muchos costarricenses que son muy simpáticos.  Nos alojamos en un hotel cerca del mar Caribe y el último día alojamos un snorkel para ver las tortugas gigantes  ¡Fueron unas vacaciones estupendas y me gustaría vol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5120" y="274680"/>
            <a:ext cx="235764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snorkeling-diving-swimming-mask-clip-art.jpg"/>
          <p:cNvPicPr/>
          <p:nvPr/>
        </p:nvPicPr>
        <p:blipFill>
          <a:blip r:embed="rId2"/>
          <a:stretch/>
        </p:blipFill>
        <p:spPr>
          <a:xfrm>
            <a:off x="6796080" y="216000"/>
            <a:ext cx="987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448840" cy="495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95120" y="274680"/>
            <a:ext cx="235764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norkeling-diving-swimming-mask-clip-art.jpg"/>
          <p:cNvPicPr/>
          <p:nvPr/>
        </p:nvPicPr>
        <p:blipFill>
          <a:blip r:embed="rId3"/>
          <a:stretch/>
        </p:blipFill>
        <p:spPr>
          <a:xfrm>
            <a:off x="6796080" y="216000"/>
            <a:ext cx="987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¡Ruibarb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3" descr="rhubarb.gif"/>
          <p:cNvPicPr/>
          <p:nvPr/>
        </p:nvPicPr>
        <p:blipFill>
          <a:blip r:embed="rId1"/>
          <a:srcRect l="-5456" t="0" r="-5456" b="0"/>
          <a:stretch/>
        </p:blipFill>
        <p:spPr>
          <a:xfrm>
            <a:off x="5929200" y="208080"/>
            <a:ext cx="3214800" cy="176832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4" descr=""/>
          <p:cNvPicPr/>
          <p:nvPr/>
        </p:nvPicPr>
        <p:blipFill>
          <a:blip r:embed="rId2"/>
          <a:stretch/>
        </p:blipFill>
        <p:spPr>
          <a:xfrm>
            <a:off x="792000" y="1816200"/>
            <a:ext cx="75772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42960" y="1652760"/>
            <a:ext cx="78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os cer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y que levantar la mano cuando escuchas un verbo en e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Mi viaje.mp3" descr=""/>
          <p:cNvPicPr/>
          <p:nvPr/>
        </p:nvPicPr>
        <p:blipFill>
          <a:blip r:embed="rId1"/>
          <a:stretch/>
        </p:blipFill>
        <p:spPr>
          <a:xfrm>
            <a:off x="4363920" y="5200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 va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642960" y="1652760"/>
            <a:ext cx="832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 dow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w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 went on holi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: any other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extBox 2" descr=""/>
          <p:cNvPicPr/>
          <p:nvPr/>
        </p:nvPicPr>
        <p:blipFill>
          <a:blip r:embed="rId1"/>
          <a:stretch/>
        </p:blipFill>
        <p:spPr>
          <a:xfrm>
            <a:off x="2523960" y="2163600"/>
            <a:ext cx="2597400" cy="65268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5" descr=""/>
          <p:cNvPicPr/>
          <p:nvPr/>
        </p:nvPicPr>
        <p:blipFill>
          <a:blip r:embed="rId2"/>
          <a:stretch/>
        </p:blipFill>
        <p:spPr>
          <a:xfrm>
            <a:off x="3108240" y="2687760"/>
            <a:ext cx="2603520" cy="65232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6" descr=""/>
          <p:cNvPicPr/>
          <p:nvPr/>
        </p:nvPicPr>
        <p:blipFill>
          <a:blip r:embed="rId3"/>
          <a:stretch/>
        </p:blipFill>
        <p:spPr>
          <a:xfrm>
            <a:off x="3693960" y="3273480"/>
            <a:ext cx="5394600" cy="652320"/>
          </a:xfrm>
          <a:prstGeom prst="rect">
            <a:avLst/>
          </a:prstGeom>
          <a:ln w="0">
            <a:noFill/>
          </a:ln>
        </p:spPr>
      </p:pic>
      <p:pic>
        <p:nvPicPr>
          <p:cNvPr id="76" name="Mi viaje.mp3" descr=""/>
          <p:cNvPicPr/>
          <p:nvPr/>
        </p:nvPicPr>
        <p:blipFill>
          <a:blip r:embed="rId4"/>
          <a:stretch/>
        </p:blipFill>
        <p:spPr>
          <a:xfrm>
            <a:off x="5427720" y="165276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10" descr=""/>
          <p:cNvPicPr/>
          <p:nvPr/>
        </p:nvPicPr>
        <p:blipFill>
          <a:blip r:embed="rId5"/>
          <a:stretch/>
        </p:blipFill>
        <p:spPr>
          <a:xfrm>
            <a:off x="5022720" y="3809880"/>
            <a:ext cx="539604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eterit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ff the –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–é, -aste, -ó, -amos, -asteis, -a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ff the –ir or –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–í, -iste, -ió, -imos, -istéis, -ie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eterit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ta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I visit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oce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I m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ila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We danced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3" descr=""/>
          <p:cNvPicPr/>
          <p:nvPr/>
        </p:nvPicPr>
        <p:blipFill>
          <a:blip r:embed="rId1"/>
          <a:stretch/>
        </p:blipFill>
        <p:spPr>
          <a:xfrm>
            <a:off x="5973840" y="1573200"/>
            <a:ext cx="2712960" cy="7794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4" descr=""/>
          <p:cNvPicPr/>
          <p:nvPr/>
        </p:nvPicPr>
        <p:blipFill>
          <a:blip r:embed="rId2"/>
          <a:stretch/>
        </p:blipFill>
        <p:spPr>
          <a:xfrm>
            <a:off x="5973840" y="2266920"/>
            <a:ext cx="2712960" cy="77472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5" descr=""/>
          <p:cNvPicPr/>
          <p:nvPr/>
        </p:nvPicPr>
        <p:blipFill>
          <a:blip r:embed="rId3"/>
          <a:stretch/>
        </p:blipFill>
        <p:spPr>
          <a:xfrm>
            <a:off x="5973840" y="3035160"/>
            <a:ext cx="27129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1:16:32Z</dcterms:created>
  <dc:creator>Terri Dunne</dc:creator>
  <dc:description/>
  <dc:language>en-US</dc:language>
  <cp:lastModifiedBy>Clare</cp:lastModifiedBy>
  <cp:lastPrinted>2012-03-27T16:23:10Z</cp:lastPrinted>
  <dcterms:modified xsi:type="dcterms:W3CDTF">2012-05-04T10:52:44Z</dcterms:modified>
  <cp:revision>25</cp:revision>
  <dc:subject/>
  <dc:title>PowerPoint Presentation</dc:title>
</cp:coreProperties>
</file>