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21252-E948-46A5-BA9D-F96CE17B1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06D81-E5B0-4696-986C-FDBF4F237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743A3-4770-460D-926E-6505B846D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75C-DE49-417A-8CC9-CA029052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DD3-4DA1-46C2-8A78-C1F98A69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E82-6AF5-4824-8C16-A1484689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F03-A77D-45DD-A8A1-C45FD40A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F97-445B-4035-8B51-90C73E1E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76B-73E3-4D4C-A18C-79017D2E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211-1378-4D54-B14B-1C21A1A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C73-19A8-4CB5-AFF1-1911098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A9C-DB79-4981-9D69-1DEF058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68A-4BC6-4629-98A3-9202BA77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51A-40DF-43E7-9ACB-E89AD92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0D6-FE42-4323-9777-3ADB545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5F7A0-C59B-402C-BDC3-52BBF46711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discuss holidays in the pas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hort questions about holidays in the past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longer answers and pick out details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xtra details about holidays with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974880" y="669960"/>
            <a:ext cx="748656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 flipH="1">
            <a:off x="1254240" y="382680"/>
            <a:ext cx="1117440" cy="102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rcRect l="0" t="54377" r="34880" b="0"/>
          <a:stretch/>
        </p:blipFill>
        <p:spPr>
          <a:xfrm>
            <a:off x="5864400" y="1728720"/>
            <a:ext cx="167940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95640" y="6488280"/>
            <a:ext cx="60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TDunne 2012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rregular preterite t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846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3" descr=""/>
          <p:cNvPicPr/>
          <p:nvPr/>
        </p:nvPicPr>
        <p:blipFill>
          <a:blip r:embed="rId2"/>
          <a:stretch/>
        </p:blipFill>
        <p:spPr>
          <a:xfrm>
            <a:off x="3541680" y="1596960"/>
            <a:ext cx="2712960" cy="6526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4" descr=""/>
          <p:cNvPicPr/>
          <p:nvPr/>
        </p:nvPicPr>
        <p:blipFill>
          <a:blip r:embed="rId3"/>
          <a:stretch/>
        </p:blipFill>
        <p:spPr>
          <a:xfrm>
            <a:off x="3541680" y="2243160"/>
            <a:ext cx="2712960" cy="65232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3541680" y="2835360"/>
            <a:ext cx="2712960" cy="6508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6" descr=""/>
          <p:cNvPicPr/>
          <p:nvPr/>
        </p:nvPicPr>
        <p:blipFill>
          <a:blip r:embed="rId5"/>
          <a:stretch/>
        </p:blipFill>
        <p:spPr>
          <a:xfrm>
            <a:off x="3541680" y="3481560"/>
            <a:ext cx="2712960" cy="6523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7" descr=""/>
          <p:cNvPicPr/>
          <p:nvPr/>
        </p:nvPicPr>
        <p:blipFill>
          <a:blip r:embed="rId6"/>
          <a:stretch/>
        </p:blipFill>
        <p:spPr>
          <a:xfrm>
            <a:off x="3541680" y="4127400"/>
            <a:ext cx="2712960" cy="6526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8" descr=""/>
          <p:cNvPicPr/>
          <p:nvPr/>
        </p:nvPicPr>
        <p:blipFill>
          <a:blip r:embed="rId7"/>
          <a:stretch/>
        </p:blipFill>
        <p:spPr>
          <a:xfrm>
            <a:off x="3541680" y="4773600"/>
            <a:ext cx="6864480" cy="65232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9" descr=""/>
          <p:cNvPicPr/>
          <p:nvPr/>
        </p:nvPicPr>
        <p:blipFill>
          <a:blip r:embed="rId8"/>
          <a:stretch/>
        </p:blipFill>
        <p:spPr>
          <a:xfrm>
            <a:off x="3541680" y="5492880"/>
            <a:ext cx="27129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2" descr=""/>
          <p:cNvPicPr/>
          <p:nvPr/>
        </p:nvPicPr>
        <p:blipFill>
          <a:blip r:embed="rId1"/>
          <a:stretch/>
        </p:blipFill>
        <p:spPr>
          <a:xfrm>
            <a:off x="457200" y="1158840"/>
            <a:ext cx="8229600" cy="5527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1490480" y="34732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7740720" y="274680"/>
            <a:ext cx="9460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ño pa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645080"/>
        </p:xfrm>
        <a:graphic>
          <a:graphicData uri="http://schemas.openxmlformats.org/drawingml/2006/table">
            <a:tbl>
              <a:tblPr/>
              <a:tblGrid>
                <a:gridCol w="2755800"/>
                <a:gridCol w="54738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ve de vacaciones 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i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xtranjero / el campo / la playa / la sierra / la monta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ña / Francia / Cuba / los Estados U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alojé / Me qued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un albergue juvenil / hotel / camping / en una p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ques temáticos / monumentos / pueblos antiguos / espectá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enis / al fútbol / a las car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qu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rtes acuáticos / el esquí / la vela / la nata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 me divertí p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 lo pasé bien / mal / regular p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zo buen tiempo / mal tiempo / sol / viento / hubo torm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6595920" y="195120"/>
            <a:ext cx="12844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1861" t="12788" r="50004" b="15577"/>
          <a:stretch/>
        </p:blipFill>
        <p:spPr>
          <a:xfrm>
            <a:off x="1952640" y="274680"/>
            <a:ext cx="113508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rcRect l="50004" t="18621" r="1861" b="9756"/>
          <a:stretch/>
        </p:blipFill>
        <p:spPr>
          <a:xfrm>
            <a:off x="5927760" y="330120"/>
            <a:ext cx="1135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7"/>
          <p:cNvSpPr/>
          <p:nvPr/>
        </p:nvSpPr>
        <p:spPr>
          <a:xfrm rot="5400000">
            <a:off x="3842280" y="-2655000"/>
            <a:ext cx="154764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8"/>
          <p:cNvSpPr/>
          <p:nvPr/>
        </p:nvSpPr>
        <p:spPr>
          <a:xfrm rot="16200000">
            <a:off x="3834360" y="2691000"/>
            <a:ext cx="147492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7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8"/>
          <p:cNvSpPr/>
          <p:nvPr/>
        </p:nvSpPr>
        <p:spPr>
          <a:xfrm>
            <a:off x="7667640" y="0"/>
            <a:ext cx="147636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1370160" y="80172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1371600" y="2019240"/>
            <a:ext cx="201312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1370160" y="323532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1371600" y="445284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7"/>
          <p:cNvSpPr/>
          <p:nvPr/>
        </p:nvSpPr>
        <p:spPr>
          <a:xfrm>
            <a:off x="2868480" y="142416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8"/>
          <p:cNvSpPr/>
          <p:nvPr/>
        </p:nvSpPr>
        <p:spPr>
          <a:xfrm>
            <a:off x="2870280" y="2641680"/>
            <a:ext cx="20286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9"/>
          <p:cNvSpPr/>
          <p:nvPr/>
        </p:nvSpPr>
        <p:spPr>
          <a:xfrm>
            <a:off x="2868480" y="385776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0"/>
          <p:cNvSpPr/>
          <p:nvPr/>
        </p:nvSpPr>
        <p:spPr>
          <a:xfrm>
            <a:off x="2870280" y="507528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2"/>
          <p:cNvSpPr/>
          <p:nvPr/>
        </p:nvSpPr>
        <p:spPr>
          <a:xfrm>
            <a:off x="5940360" y="1424160"/>
            <a:ext cx="20322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3"/>
          <p:cNvSpPr/>
          <p:nvPr/>
        </p:nvSpPr>
        <p:spPr>
          <a:xfrm>
            <a:off x="5942160" y="264168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4"/>
          <p:cNvSpPr/>
          <p:nvPr/>
        </p:nvSpPr>
        <p:spPr>
          <a:xfrm>
            <a:off x="5940360" y="3857760"/>
            <a:ext cx="20322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5"/>
          <p:cNvSpPr/>
          <p:nvPr/>
        </p:nvSpPr>
        <p:spPr>
          <a:xfrm>
            <a:off x="5942160" y="5075280"/>
            <a:ext cx="203184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7"/>
          <p:cNvSpPr/>
          <p:nvPr/>
        </p:nvSpPr>
        <p:spPr>
          <a:xfrm>
            <a:off x="4394160" y="206064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9"/>
          <p:cNvSpPr/>
          <p:nvPr/>
        </p:nvSpPr>
        <p:spPr>
          <a:xfrm>
            <a:off x="4405320" y="323532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0"/>
          <p:cNvSpPr/>
          <p:nvPr/>
        </p:nvSpPr>
        <p:spPr>
          <a:xfrm>
            <a:off x="4427640" y="443700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7"/>
          <p:cNvSpPr/>
          <p:nvPr/>
        </p:nvSpPr>
        <p:spPr>
          <a:xfrm>
            <a:off x="7380360" y="1628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8"/>
          <p:cNvSpPr/>
          <p:nvPr/>
        </p:nvSpPr>
        <p:spPr>
          <a:xfrm>
            <a:off x="4394160" y="83664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9"/>
          <p:cNvSpPr/>
          <p:nvPr/>
        </p:nvSpPr>
        <p:spPr>
          <a:xfrm>
            <a:off x="154764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</a:rPr>
              <a:t>One click Blue – two click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discuss holidays in the pas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hort questions about holidays in the past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longer answers and pick out details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xtra details about holidays with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1" descr=""/>
          <p:cNvPicPr/>
          <p:nvPr/>
        </p:nvPicPr>
        <p:blipFill>
          <a:blip r:embed="rId1"/>
          <a:stretch/>
        </p:blipFill>
        <p:spPr>
          <a:xfrm>
            <a:off x="974880" y="669960"/>
            <a:ext cx="748656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 flipH="1">
            <a:off x="1254240" y="382680"/>
            <a:ext cx="1117440" cy="102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0" t="54377" r="34880" b="0"/>
          <a:stretch/>
        </p:blipFill>
        <p:spPr>
          <a:xfrm>
            <a:off x="5864400" y="1728720"/>
            <a:ext cx="167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snorkeling-diving-swimming-mask-clip-art.jpg"/>
          <p:cNvPicPr/>
          <p:nvPr/>
        </p:nvPicPr>
        <p:blipFill>
          <a:blip r:embed="rId3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4470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ño pasado de vacaciones estuve con mi familia en Costa Rica en América Central.  Viajamos en dos modos de transporte: fuimos en tren y luego en autocar.  Un día viajamos en un Jeep para ver un volcán.  Pasamos mucho tiempo en la playa.  Conocimos a muchos costarricenses que son muy simpáticos.  Nos alojamos en un hotel cerca del mar Caribe y el último día alojamos un snorkel para ver las tortugas gigantes  ¡Fueron unas vacaciones estupendas y me gustaría vol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norkeling-diving-swimming-mask-clip-art.jpg"/>
          <p:cNvPicPr/>
          <p:nvPr/>
        </p:nvPicPr>
        <p:blipFill>
          <a:blip r:embed="rId2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448840" cy="495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norkeling-diving-swimming-mask-clip-art.jpg"/>
          <p:cNvPicPr/>
          <p:nvPr/>
        </p:nvPicPr>
        <p:blipFill>
          <a:blip r:embed="rId3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Ruibarb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rhubarb.gif"/>
          <p:cNvPicPr/>
          <p:nvPr/>
        </p:nvPicPr>
        <p:blipFill>
          <a:blip r:embed="rId1"/>
          <a:srcRect l="-5456" t="0" r="-5456" b="0"/>
          <a:stretch/>
        </p:blipFill>
        <p:spPr>
          <a:xfrm>
            <a:off x="5929200" y="208080"/>
            <a:ext cx="3214800" cy="17683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4" descr=""/>
          <p:cNvPicPr/>
          <p:nvPr/>
        </p:nvPicPr>
        <p:blipFill>
          <a:blip r:embed="rId2"/>
          <a:stretch/>
        </p:blipFill>
        <p:spPr>
          <a:xfrm>
            <a:off x="792000" y="1816200"/>
            <a:ext cx="75772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2960" y="1652760"/>
            <a:ext cx="78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os cer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y que levantar la mano cuando escuchas un verbo en e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i viaje.mp3" descr=""/>
          <p:cNvPicPr/>
          <p:nvPr/>
        </p:nvPicPr>
        <p:blipFill>
          <a:blip r:embed="rId1"/>
          <a:stretch/>
        </p:blipFill>
        <p:spPr>
          <a:xfrm>
            <a:off x="4363920" y="5200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42960" y="1652760"/>
            <a:ext cx="832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dow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went on holi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: any other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2" descr=""/>
          <p:cNvPicPr/>
          <p:nvPr/>
        </p:nvPicPr>
        <p:blipFill>
          <a:blip r:embed="rId1"/>
          <a:stretch/>
        </p:blipFill>
        <p:spPr>
          <a:xfrm>
            <a:off x="2523960" y="2163600"/>
            <a:ext cx="259740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5" descr=""/>
          <p:cNvPicPr/>
          <p:nvPr/>
        </p:nvPicPr>
        <p:blipFill>
          <a:blip r:embed="rId2"/>
          <a:stretch/>
        </p:blipFill>
        <p:spPr>
          <a:xfrm>
            <a:off x="3108240" y="2687760"/>
            <a:ext cx="2603520" cy="65232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6" descr=""/>
          <p:cNvPicPr/>
          <p:nvPr/>
        </p:nvPicPr>
        <p:blipFill>
          <a:blip r:embed="rId3"/>
          <a:stretch/>
        </p:blipFill>
        <p:spPr>
          <a:xfrm>
            <a:off x="3693960" y="3273480"/>
            <a:ext cx="5394600" cy="652320"/>
          </a:xfrm>
          <a:prstGeom prst="rect">
            <a:avLst/>
          </a:prstGeom>
          <a:ln w="0">
            <a:noFill/>
          </a:ln>
        </p:spPr>
      </p:pic>
      <p:pic>
        <p:nvPicPr>
          <p:cNvPr id="76" name="Mi viaje.mp3" descr=""/>
          <p:cNvPicPr/>
          <p:nvPr/>
        </p:nvPicPr>
        <p:blipFill>
          <a:blip r:embed="rId4"/>
          <a:stretch/>
        </p:blipFill>
        <p:spPr>
          <a:xfrm>
            <a:off x="5427720" y="1652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0" descr=""/>
          <p:cNvPicPr/>
          <p:nvPr/>
        </p:nvPicPr>
        <p:blipFill>
          <a:blip r:embed="rId5"/>
          <a:stretch/>
        </p:blipFill>
        <p:spPr>
          <a:xfrm>
            <a:off x="5022720" y="3809880"/>
            <a:ext cx="53960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eterit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ff the –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–é, -aste, -ó, -amos, -asteis, -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ff the –ir or –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–í, -iste, -ió, -imos, -istéis, -ie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eterit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ta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I visi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oce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I m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la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We danced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3" descr=""/>
          <p:cNvPicPr/>
          <p:nvPr/>
        </p:nvPicPr>
        <p:blipFill>
          <a:blip r:embed="rId1"/>
          <a:stretch/>
        </p:blipFill>
        <p:spPr>
          <a:xfrm>
            <a:off x="5973840" y="1573200"/>
            <a:ext cx="2712960" cy="779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5973840" y="2266920"/>
            <a:ext cx="2712960" cy="7747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5973840" y="3035160"/>
            <a:ext cx="2712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1:16:32Z</dcterms:created>
  <dc:creator>Terri Dunne</dc:creator>
  <dc:description/>
  <dc:language>en-US</dc:language>
  <cp:lastModifiedBy>Clare</cp:lastModifiedBy>
  <cp:lastPrinted>2012-03-27T16:23:10Z</cp:lastPrinted>
  <dcterms:modified xsi:type="dcterms:W3CDTF">2012-05-04T10:52:44Z</dcterms:modified>
  <cp:revision>25</cp:revision>
  <dc:subject/>
  <dc:title>PowerPoint Presentation</dc:title>
</cp:coreProperties>
</file>