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91F-4BC0-41F0-85B9-389D2EA2349B}" type="slidenum">
              <a:rPr b="0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lated by Crivimasa &amp; Co. ©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A72-31DF-43A4-8954-49DB2983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669-EDE5-40F7-A33C-A901827E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67D-1C70-4B60-AAE1-6569C49B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26B-0B4A-4D04-BA15-2922948F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599-8ECB-438C-89F3-6A0519E6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88F-C4DD-424C-A7F5-AA20BFD3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54B-152A-4BD3-9B65-703207E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238-FCE3-41F0-B7FD-13541CA4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A4D-D01B-4E7B-8103-4F36943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D8A-76BC-4949-9AC3-63508C16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899-CCDD-46F8-AD7D-D09C91E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A86-6CB5-487B-8856-9305FAD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3BD-DFB9-431E-BFF5-D568E09FF89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REVISING  </a:t>
            </a:r>
            <a:br>
              <a:rPr sz="4800"/>
            </a:b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GCSE </a:t>
            </a:r>
            <a:br>
              <a:rPr sz="4800"/>
            </a:br>
            <a:r>
              <a:rPr b="0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PEAKING EXAM Role-Plays – </a:t>
            </a:r>
            <a:r>
              <a:rPr b="1" i="1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panish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0000"/>
                </a:solidFill>
                <a:latin typeface="Snap ITC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like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LIK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Te gusta…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3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likes to play footb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¿Do you like to play footbal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Te gusta jugar </a:t>
            </a: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al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 fútbo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3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how much it cos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HOW MUCH IS I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cuesta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es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l es el precio de...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3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3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tim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…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3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school finish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school finis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terminan las clase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3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the museum open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the museum op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abre el museo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3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3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what time the post office clos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t what time does the post office clos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A qué hora cierra la oficina de corre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3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er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ith Wh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y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sz="3400" spc="-1" strike="noStrike">
                <a:solidFill>
                  <a:srgbClr val="000000"/>
                </a:solidFill>
                <a:latin typeface="Tahoma"/>
              </a:rPr>
              <a:t>Becaus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? Which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From wher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609480"/>
            <a:ext cx="4114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Dónd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uán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Quié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on Quié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Por qué? –</a:t>
            </a:r>
            <a:r>
              <a:rPr b="0" i="1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Porque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óm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Cuál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imes New Roman"/>
              </a:rPr>
              <a:t>¿De dónd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3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3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3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3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3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3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3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3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3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3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3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3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3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3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3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l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Qué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3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3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518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the bus number 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IS THE BUS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Qué número de autobús es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3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ay you would lik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’D LIKE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rí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ere is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ere ar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Dónde está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¿Dónde están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3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3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e going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M GOING 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Voy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3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3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there is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S THERE 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430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Hay…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3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there is a train to Pari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S THERE A TRAIN TO PARI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2880" y="2743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Hay un tren para Parí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3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your friend does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DO YOU DO AT THE WEEK-END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57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Qué haces el fin de semana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3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3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e looking for 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M LOOKING F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Busc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3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3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nee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N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ecesit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e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3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need to go to Spai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NEED TO GO TO SP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81120" y="2743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 ir a Espa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3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… (informal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… (formal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s…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…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3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to telephone the doc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YOU PHONE THE DOCTO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656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es llamar / telefonear al médic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3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ant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ant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ero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3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must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Debo (de)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(+ infinitiv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3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3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3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must return to Engl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MUST RETURN TO ENGL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Tengo que volver a Inglaterr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3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3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ye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Last week-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ye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Next week-e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La semana pasada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añ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sz="3000" spc="-1" strike="noStrike">
                <a:solidFill>
                  <a:srgbClr val="ff0000"/>
                </a:solidFill>
                <a:latin typeface="Tahoma"/>
              </a:rPr>
              <a:t>pasad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fin de semana pasado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La semana que viene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El año que viene.</a:t>
            </a:r>
            <a:r>
              <a:rPr b="0" sz="3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El fin de semana que viene</a:t>
            </a: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05920" y="304920"/>
            <a:ext cx="72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ahoma"/>
              </a:rPr>
              <a:t>Les expressions de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3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3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3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3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3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3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3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Yesterd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morr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Rec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nigh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u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hree days a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81120" y="304920"/>
            <a:ext cx="3962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Ho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Mañ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Hace poco / Recientem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Esta noc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Después de que (+</a:t>
            </a:r>
            <a:r>
              <a:rPr b="0" i="1" sz="3000" spc="-1" strike="noStrike">
                <a:solidFill>
                  <a:srgbClr val="ff0000"/>
                </a:solidFill>
                <a:latin typeface="Tahoma"/>
                <a:ea typeface="Tahoma"/>
              </a:rPr>
              <a:t>subjuntiv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Antes de que (+</a:t>
            </a:r>
            <a:r>
              <a:rPr b="0" i="1" sz="3000" spc="-1" strike="noStrike">
                <a:solidFill>
                  <a:srgbClr val="ff0000"/>
                </a:solidFill>
                <a:latin typeface="Tahoma"/>
                <a:ea typeface="Tahoma"/>
              </a:rPr>
              <a:t>subjuntiv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  <a:ea typeface="Tahoma"/>
              </a:rPr>
              <a:t>Dura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ff0000"/>
                </a:solidFill>
                <a:latin typeface="Tahoma"/>
              </a:rPr>
              <a:t>Hace tres dí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3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3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3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3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3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3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3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3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3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3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3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3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3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3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3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3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 can help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CAN I HELP YOU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¿Puedo ayudar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3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3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o 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too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ill ta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er (</a:t>
            </a:r>
            <a:r>
              <a:rPr b="0" i="1" sz="2600" spc="-1" strike="noStrike">
                <a:solidFill>
                  <a:srgbClr val="ff0000"/>
                </a:solidFill>
                <a:latin typeface="Tahoma"/>
              </a:rPr>
              <a:t>not in South America)</a:t>
            </a:r>
            <a:r>
              <a:rPr b="0" sz="2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Cogeré / Voy a co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0000"/>
                </a:solidFill>
                <a:latin typeface="Tahoma"/>
              </a:rPr>
              <a:t>Tomaré / Voy a to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3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3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3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3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3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3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3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3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3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ill take tha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ILL TAKE THA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</a:rPr>
              <a:t>Lo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 cogeré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  <a:ea typeface="Tahoma"/>
              </a:rPr>
              <a:t>L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 voy a cog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3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3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3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3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it take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t take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400" spc="-1" strike="noStrike">
                <a:solidFill>
                  <a:srgbClr val="ff0000"/>
                </a:solidFill>
                <a:latin typeface="Tahoma"/>
                <a:ea typeface="Tahoma"/>
              </a:rPr>
              <a:t>Tarda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 15 minuto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3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3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ell your friend to take the Number 6 bu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AKE THE NUMBER 6 BU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Coge el autobús número 6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3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3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3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rk on Satu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RK ON SATU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Yo trabajo el (los) sábado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3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3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3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uld like to 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ULD LIKE TO G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 ir 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erría ir 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eave home at 8.00 a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EAVE HOME AT 8.00 a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19720" y="21337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algo de casa a las 8 de la mañan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3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3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3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have only 5 pound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HAVE ONLY 5 POU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8604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ólo tengo 5 libra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3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r name and spell i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MY NAME IS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T IS SPELLE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llamo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Se deletrea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3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3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3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3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3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understa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UNDERST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(le) entiendo / comprend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3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thank you and goodby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GOODBY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8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  <a:ea typeface="Tahoma"/>
              </a:rPr>
              <a:t>Hasta lue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3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3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5" dur="3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3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3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Say you want to reserve a return ticket for Madrid for next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I WANT TO RESERVE A RETURN TIKET FOR MADRID FOR NEXT WE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88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Tahoma"/>
              </a:rPr>
              <a:t>Quisiera resevar un billete de ida y vuelta para Madrid para la semana que vie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3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what time school begins and end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CHOOL begins at 8.35 am and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sz="3400" spc="-1" strike="noStrike">
                <a:solidFill>
                  <a:srgbClr val="000000"/>
                </a:solidFill>
                <a:latin typeface="Tahoma"/>
              </a:rPr>
              <a:t>ends at 2.50p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Las clases comienzan a las ocho de la mañ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Terminan a las tres menos diez de la tarde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3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3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3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3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how long break last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BREAK LASTS 15 MINU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164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El recreo / descanso dura quince minutos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3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3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arrived on Sun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ARRIVED ON SUN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8148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Llegué el sábado</a:t>
            </a:r>
            <a:r>
              <a:rPr b="0" sz="34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3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3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3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your friend if he/she work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WORK AT THE WEEK-EN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Trabajas el fin de semana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3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5" dur="3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3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would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WOULD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isiera jugar al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Querría jugar al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3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your friend  does his/her homework in the bedroo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DO YOUR HOMEWORK IN THE BEDROOM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Haces los deberes en tu habitación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7" dur="3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2" dur="3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3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Ask your friend if he/she will meet you at 11 o’clock at the town hal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WILL YOU MEET ME AT 11 O’CLOCK AT THE TOWN HAL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Nos vemos a las 11 en el ayuntamiento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3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3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3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he/she is on foot or has a ca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RE YOU ON FOOT OR DO YOU HAVE A CAR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112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Vas andando o tienes coche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1" dur="3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3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3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if he/she lives in tow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DO YOU LIVE IN TOW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Vives en la ciudad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3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3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Ask how much the ticket costs and if it is cheaper for stude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HOW MUCH IS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Tahoma"/>
              </a:rPr>
              <a:t>IS IT CHEAPER FOR STUDENTS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  <a:ea typeface="Tahoma"/>
              </a:rPr>
              <a:t>¿Cuánto cuesta…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Es más barato para los estudiantes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3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3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3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3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Ask what you are going to do after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WHAT ARE YOU GOING TO DO AFT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0000"/>
                </a:solidFill>
                <a:latin typeface="Tahoma"/>
              </a:rPr>
              <a:t>¿Qué vas a hacer después</a:t>
            </a:r>
            <a:r>
              <a:rPr b="0" sz="3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3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3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3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(n)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3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LIKE TO PL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Me gusta jugar al 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3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3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like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LIK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me gusta jugar al / a la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3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Say you don’t like to bu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Tahoma"/>
              </a:rPr>
              <a:t>I DON’T LIKE TO BU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ff0000"/>
                </a:solidFill>
                <a:latin typeface="Tahoma"/>
              </a:rPr>
              <a:t>No me gusta comprar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3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3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3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19:17:57Z</dcterms:created>
  <dc:creator>AN HP USER AN HP USER</dc:creator>
  <dc:description/>
  <dc:language>en-US</dc:language>
  <cp:lastModifiedBy>CSeccombe</cp:lastModifiedBy>
  <dcterms:modified xsi:type="dcterms:W3CDTF">2005-04-05T12:58:33Z</dcterms:modified>
  <cp:revision>28</cp:revision>
  <dc:subject/>
  <dc:title>REVISION TIPS  - GCSE SPEAKING EXAM </dc:title>
</cp:coreProperties>
</file>