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icochet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74EC-8815-49F9-8525-CFA7AB7DFDE8}" type="slidenum">
              <a:rPr b="0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nslated by Crivimasa &amp; Co. ©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5DA-061F-4A0A-AB04-68397869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6A6-C830-48E0-8F45-EFA62DB7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464-E46F-46DD-9A3D-DA35E7EC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C1A-98BE-4A91-823F-AEE573AF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9D4-42A0-4660-A9A0-C4FE91E5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D1A-FDB5-4F19-AF80-3AB6B44B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6E1-673B-4085-BD7A-35A69DE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4F6-D221-47DD-BA62-0364F6B3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65E-A0CA-48D7-B50E-826F872D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343-E207-4142-B73D-17E3334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741-C4F1-4DEC-87B7-A07DD25B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FC6-BDE7-46CD-948E-01154767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4308-FCA0-4F5B-BBFE-0B8E6B8B396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ff0000"/>
                </a:solidFill>
                <a:latin typeface="Snap ITC"/>
                <a:ea typeface="Times New Roman"/>
              </a:rPr>
              <a:t>REVISING  </a:t>
            </a:r>
            <a:br>
              <a:rPr sz="4800"/>
            </a:br>
            <a:r>
              <a:rPr b="0" sz="4800" spc="-1" strike="noStrike">
                <a:solidFill>
                  <a:srgbClr val="ff0000"/>
                </a:solidFill>
                <a:latin typeface="Snap ITC"/>
                <a:ea typeface="Times New Roman"/>
              </a:rPr>
              <a:t>GCSE </a:t>
            </a:r>
            <a:br>
              <a:rPr sz="4800"/>
            </a:br>
            <a:r>
              <a:rPr b="0" sz="4800" spc="-1" strike="noStrike">
                <a:solidFill>
                  <a:srgbClr val="ff0000"/>
                </a:solidFill>
                <a:latin typeface="Snap ITC"/>
                <a:ea typeface="Times New Roman"/>
              </a:rPr>
              <a:t>SPEAKING EXAM Role-Plays – </a:t>
            </a:r>
            <a:r>
              <a:rPr b="1" i="1" sz="4800" spc="-1" strike="noStrike">
                <a:solidFill>
                  <a:srgbClr val="ff0000"/>
                </a:solidFill>
                <a:latin typeface="Snap ITC"/>
                <a:ea typeface="Times New Roman"/>
              </a:rPr>
              <a:t>Spanish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0000"/>
                </a:solidFill>
                <a:latin typeface="Snap ITC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your friend likes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DO YOU LIK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Te gusta… 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3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3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3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your friend likes to play footb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¿Do you like to play football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Te gusta jugar </a:t>
            </a: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al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 fútbol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3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3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3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how much it cos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HOW MUCH IS IT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Cuánto cuesta...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Cuánto es...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Cuál es el precio de...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3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3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3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3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3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at tim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T WHAT TIM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A qué hora… 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3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3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3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your friend what time school finish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t what time does school finish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A qué hora terminan las clase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3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3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3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your friend what time the museum open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t what time does the museum ope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A qué hora abre el museo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3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3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your friend what time the post office clos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t what time does the post office clos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A qué hora cierra la oficina de correo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3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3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3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er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ith Wh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y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sz="3400" spc="-1" strike="noStrike">
                <a:solidFill>
                  <a:srgbClr val="000000"/>
                </a:solidFill>
                <a:latin typeface="Tahoma"/>
              </a:rPr>
              <a:t>Becaus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How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at? Which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From wher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0" y="609480"/>
            <a:ext cx="4114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Dónd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Cuánd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Quié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Con Quié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Por qué? –</a:t>
            </a:r>
            <a:r>
              <a:rPr b="0" i="1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Porque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Cóm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Cuál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De dónd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3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3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3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3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3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3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3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3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3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3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3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3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3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3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3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3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3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4572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at is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AT IS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00240" y="121896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Cuál es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Qué es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3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3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3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518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at the bus number i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AT IS THE BUS NUMBE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962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Qué número de autobús es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3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Say you would lik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’D LIKE T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Me gustarí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isier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3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3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4572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ere is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ere ar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00240" y="121896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Dónde está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Dónde están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3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3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3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3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are going t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AM GOING T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Voy 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3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3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there is 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S THERE 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4304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Hay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3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3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there is a train to Pari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S THERE A TRAIN TO PARI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2880" y="2743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Hay un tren para Parí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3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3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at your friend does at the week-e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AT DO YOU DO AT THE WEEK-END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574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Qué haces el fin de semana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3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3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3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are looking for 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AM LOOKING F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Busc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3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3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3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need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N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Necesit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(+ infinitive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3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3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3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3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need to go to Spai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NEED TO GO TO SPA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81120" y="27432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Tengo que ir a Españ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3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3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3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Can you… (informal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Can you… (formal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81480" y="1294920"/>
            <a:ext cx="3276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Puedes…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(+ infinitiv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Puede…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(+ infinitiv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3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3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3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your friend to telephone the doc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CAN YOU PHONE THE DOCTO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7656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Puedes llamar / telefonear al médico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3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3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3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want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ant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iero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3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3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3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must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Tengo qu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(+ infinitiv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Debo (de)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(+ infinitiv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3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3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3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3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must return to Engla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MUST RETURN TO ENGLA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Tengo que volver a Inglaterra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3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3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Last we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Last yea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Last week-e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Next yea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Next week-e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La semana pasada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El año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sz="3000" spc="-1" strike="noStrike">
                <a:solidFill>
                  <a:srgbClr val="ff0000"/>
                </a:solidFill>
                <a:latin typeface="Tahoma"/>
              </a:rPr>
              <a:t>pasado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El fin de semana pasado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La semana que viene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El año que viene.</a:t>
            </a:r>
            <a:r>
              <a:rPr b="0" sz="3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El fin de semana que viene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05920" y="304920"/>
            <a:ext cx="728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ahoma"/>
              </a:rPr>
              <a:t>Les expressions de te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3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3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3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3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3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3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3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3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3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3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3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3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Yesterd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omorro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Rec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onig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Dur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hree days ag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81120" y="304920"/>
            <a:ext cx="3962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Ho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Maña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Hace poco / Recientem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Esta noch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Después de que (+</a:t>
            </a:r>
            <a:r>
              <a:rPr b="0" i="1" sz="3000" spc="-1" strike="noStrike">
                <a:solidFill>
                  <a:srgbClr val="ff0000"/>
                </a:solidFill>
                <a:latin typeface="Tahoma"/>
                <a:ea typeface="Tahoma"/>
              </a:rPr>
              <a:t>subjuntiv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Antes de que (+</a:t>
            </a:r>
            <a:r>
              <a:rPr b="0" i="1" sz="3000" spc="-1" strike="noStrike">
                <a:solidFill>
                  <a:srgbClr val="ff0000"/>
                </a:solidFill>
                <a:latin typeface="Tahoma"/>
                <a:ea typeface="Tahoma"/>
              </a:rPr>
              <a:t>subjuntiv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Dura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Hace tres dí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3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3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3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3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3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3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3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3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3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3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3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3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3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3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3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3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3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3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you can help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CAN I HELP YOU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Puedo ayudarl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3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3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o ta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too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ill ta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Coger (</a:t>
            </a:r>
            <a:r>
              <a:rPr b="0" i="1" sz="2600" spc="-1" strike="noStrike">
                <a:solidFill>
                  <a:srgbClr val="ff0000"/>
                </a:solidFill>
                <a:latin typeface="Tahoma"/>
              </a:rPr>
              <a:t>not in South America)</a:t>
            </a:r>
            <a:r>
              <a:rPr b="0" sz="2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To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Cog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Tom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Cogeré / Voy a co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Tomaré / Voy a to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3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3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3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3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3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3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3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3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3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will take tha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ILL TAKE THA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Lo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 cogeré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  <a:ea typeface="Tahoma"/>
              </a:rPr>
              <a:t>Lo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 voy a coge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3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3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3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3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it takes 15 minu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t takes 15 minu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  <a:ea typeface="Tahoma"/>
              </a:rPr>
              <a:t>Tarda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 15 minuto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3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3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3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ell your friend to take the Number 6 bu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AKE THE NUMBER 6 BU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Coge el autobús número 6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3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3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3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work on Satur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ORK ON SATUR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Yo trabajo el (los) sábados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3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3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3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would like to g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OULD LIKE TO G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isiera ir 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erría ir 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3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3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3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3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leave home at 8.00 am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LEAVE HOME AT 8.00 am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19720" y="21337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Salgo de casa a las 8 de la mañana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3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3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3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have only 5 pound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HAVE ONLY 5 POU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8604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Sólo tengo 5 libras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3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3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r name and spell i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MY NAME IS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T IS SPELLED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Me llam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Se deletre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3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3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3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3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3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don’t understa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DON’T UNDERSTA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No (le) entiendo / comprendo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3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3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3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thank you and goodby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GOODBY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Graci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  <a:ea typeface="Tahoma"/>
              </a:rPr>
              <a:t>Hasta lueg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5" dur="3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0" dur="3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5" dur="3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3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3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Say you want to reserve a return ticket for Madrid for next wee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I WANT TO RESERVE A RETURN TIKET FOR MADRID FOR NEXT WEE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884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Tahoma"/>
              </a:rPr>
              <a:t>Quisiera resevar un billete de ida y vuelta para Madrid para la semana que vie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3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3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what time school begins and end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CHOOL begins at 8.35 am and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sz="3400" spc="-1" strike="noStrike">
                <a:solidFill>
                  <a:srgbClr val="000000"/>
                </a:solidFill>
                <a:latin typeface="Tahoma"/>
              </a:rPr>
              <a:t>ends at 2.50pm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Las clases comienzan a las ocho de la maña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Terminan a las tres menos diez de la tarde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9" dur="3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4" dur="3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9" dur="3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3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3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how long break last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BREAK LASTS 15 MINU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164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El recreo / descanso dura quince minutos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6" dur="3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3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3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arrived on Sun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ARRIVED ON SUN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81480" y="21337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Llegué el sábado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3" dur="3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8" dur="3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3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your friend if he/she work at the week-e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DO YOU WORK AT THE WEEK-E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91120" y="2133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Trabajas el fin de semana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0" dur="3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5" dur="3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3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would like to pl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OULD LIKE TO PL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811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isiera jugar al/ a l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erría jugar al/ a l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3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3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3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3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your friend  does his/her homework in the bedroom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DO YOU DO YOUR HOMEWORK IN THE BEDROOM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1120" y="2133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Haces los deberes en tu habitación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7" dur="3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2" dur="3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3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Ask your friend if he/she will meet you at 11 o’clock at the town hal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WILL YOU MEET ME AT 11 O’CLOCK AT THE TOWN HALL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91120" y="2133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Nos vemos a las 11 en el ayuntamiento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4" dur="3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9" dur="3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3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he/she is on foot or has a ca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RE YOU ON FOOT OR DO YOU HAVE A CAR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112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Vas andando o tienes coche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1" dur="3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6" dur="3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3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he/she lives in tow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DO YOU LIVE IN TOW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Vives en la ciudad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3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3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Ask how much the ticket costs and if it is cheaper for stude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HOW MUCH IS I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IS IT CHEAPER FOR STUDENTS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  <a:ea typeface="Tahoma"/>
              </a:rPr>
              <a:t>¿Cuánto cuesta…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Es más barato para los estudiantes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0" dur="3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3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3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3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at you are going to do afte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AT ARE YOU GOING TO DO AFTE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1120" y="2133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Qué vas a hacer después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2" dur="3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7" dur="3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3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li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LI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Me gusta(n)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3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3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like to pl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LIKE TO PL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Me gusta jugar al / a l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3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3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don’t lik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DON’T LI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No me gusta jugar al / a l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3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3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3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don’t like to bu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DON’T LIKE TO BU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3760" y="20574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No me gusta comprar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3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3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3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1T19:17:57Z</dcterms:created>
  <dc:creator>AN HP USER AN HP USER</dc:creator>
  <dc:description/>
  <dc:language>en-US</dc:language>
  <cp:lastModifiedBy>CSeccombe</cp:lastModifiedBy>
  <dcterms:modified xsi:type="dcterms:W3CDTF">2005-04-05T12:58:33Z</dcterms:modified>
  <cp:revision>28</cp:revision>
  <dc:subject/>
  <dc:title>REVISION TIPS  - GCSE SPEAKING EXAM </dc:title>
</cp:coreProperties>
</file>