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5717-1544-4831-BEF1-348879F1C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448A-0B82-4D73-9FB8-B82A389C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D274-D743-434A-9DA6-040C022E2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F0AC-2FC5-4AA7-8D36-EF8C059BC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C629-CE68-428B-AA5E-549B8D58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8653-0978-4B9E-886E-D40D5B68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EF75-E016-4FD9-9DE0-5F4BA215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24D4-B505-4303-8130-1A0EC6FC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F8FF-8D76-4D9A-866A-E06151D9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50E5-0D6F-4922-A390-AB8F215C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B26C-55D7-4BC1-A385-D5B660F2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BED6-C8DF-4C2F-B7D7-2DFD4176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riplicate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5685-5EA4-4881-979C-11C3D9755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4360" y="1143000"/>
            <a:ext cx="7704000" cy="37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Univers"/>
              </a:rPr>
              <a:t>ESTA ES UNA INVITACIÓN A TODOS MIS AMIGOS(AS) PARA COMPARTIR UN  CORDERO QUE HAREMOS EN MI NUEVA CA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(VA A SER MUY SENCILLO, ASÍ QUE, POR FAVOR QUE CADA UNO TRAIGA LO QUE PUED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05120" y="838080"/>
            <a:ext cx="5715000" cy="5334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271160" y="150840"/>
            <a:ext cx="675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ccff"/>
                </a:solidFill>
                <a:latin typeface="Univers"/>
              </a:rPr>
              <a:t>UN MASAJITO DESPUÉS DE NADAR UN RAT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086600" cy="5314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-71280" y="0"/>
            <a:ext cx="93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ccff"/>
                </a:solidFill>
                <a:latin typeface="Univers"/>
              </a:rPr>
              <a:t>LA ILUMINACIÓN FUE UN POCO IMPROVISADA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ccff"/>
                </a:solidFill>
                <a:latin typeface="Univers"/>
              </a:rPr>
              <a:t>HAN DE PERDONAR QUE NO PUDE HACER UNA DEFINITIV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714680" y="1289160"/>
            <a:ext cx="5715000" cy="42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4292640" cy="5715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117400" y="1106640"/>
            <a:ext cx="367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Univers"/>
              </a:rPr>
              <a:t>EL EQUIPO PARA PES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Univers"/>
              </a:rPr>
              <a:t>Y BUZEO 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Univers"/>
              </a:rPr>
              <a:t>ENCONTRARÁN DEBAJ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Univers"/>
              </a:rPr>
              <a:t>DE LA C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425680" y="571680"/>
            <a:ext cx="42926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68360" y="1486080"/>
            <a:ext cx="830592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ccff"/>
                </a:solidFill>
                <a:latin typeface="comic"/>
              </a:rPr>
              <a:t>POR FAVOR ,CONFIRMAR VUESTRA ASISTENCIA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04920" y="762120"/>
            <a:ext cx="8534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comic"/>
              </a:rPr>
              <a:t>PARA QUE NO SE PREOCUPEN POR EL TRANSPORTE LE PEDÍ A UN AMIGO QUE ME PRESTARA SU BOTE… YO LOS PASO A RECO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828800" y="1355760"/>
            <a:ext cx="586728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04920" y="762120"/>
            <a:ext cx="85341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ccff"/>
                </a:solidFill>
                <a:latin typeface="comic"/>
              </a:rPr>
              <a:t>LA ÚNICA DESVENTAJA ES QUE PARA LLEGAR AL PUERTO TENDREMOS QUE IR EN AUTOCAR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010960" y="455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Univers"/>
              </a:rPr>
              <a:t>UBICACIÓN: OCEANO PACÍ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10280" y="266688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CHALÉS PARA HUESPEDES (usted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01000" y="3276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6477120" y="2971800"/>
            <a:ext cx="761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6476760" y="32767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5410080" y="5715000"/>
            <a:ext cx="11430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48600" y="556272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Univers"/>
              </a:rPr>
              <a:t>MI HUMILDE MOR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624816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95296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648400" cy="43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57208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572080" cy="43959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H="1">
            <a:off x="3733920" y="3048120"/>
            <a:ext cx="9144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5800680" cy="4589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769760" y="4113360"/>
            <a:ext cx="48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Univers"/>
              </a:rPr>
              <a:t>PARA NO PERDERSE EL PART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4267080" y="2133360"/>
            <a:ext cx="22860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8600" y="762120"/>
            <a:ext cx="861048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ccff"/>
                </a:solidFill>
                <a:latin typeface="comic"/>
              </a:rPr>
              <a:t>MUY BIEN,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ccff"/>
                </a:solidFill>
                <a:latin typeface="comic"/>
              </a:rPr>
              <a:t>AHORA DESPIERTA Y PONTE A TRABAJAR!!!!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comic"/>
              </a:rPr>
              <a:t>no voy a hacer yo un cordero….lo hareís vosotros, los invitados. Bastante es que pongo la casa y el transpor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350040" cy="4667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222200" y="4659480"/>
            <a:ext cx="4797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ccff"/>
                </a:solidFill>
                <a:latin typeface="Univers"/>
              </a:rPr>
              <a:t>ISLA DONDE HAREMOS EL ASADITO, ES UN POCO IMPROVISADO PORQUE NO TENÍA LUGAR CERCA DE LOS CHALÉS. ESPERO CONTAR CON SU COMPRENS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581280" y="434304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24920" y="2297160"/>
            <a:ext cx="253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ccff"/>
                </a:solidFill>
                <a:latin typeface="Univers"/>
              </a:rPr>
              <a:t>PEQUEÑA ZONA DE ARE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ccff"/>
                </a:solidFill>
                <a:latin typeface="Univers"/>
              </a:rPr>
              <a:t>PARA HACER EL CORDER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153280" cy="6115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371600" y="1981080"/>
            <a:ext cx="6705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Univers"/>
              </a:rPr>
              <a:t>Mi chabo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Univers"/>
              </a:rPr>
              <a:t>QUÉ BUENO ES TENER UN RINCONCITO BAJO EL CIEL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800360"/>
            <a:ext cx="9144000" cy="3914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82600" y="270000"/>
            <a:ext cx="855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Univers"/>
              </a:rPr>
              <a:t>INSTALACIONES EN LOS CHALÉS. ESPERO QUE LES GUSTEN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1532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6553440" cy="4915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93000" y="115920"/>
            <a:ext cx="768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Univers"/>
              </a:rPr>
              <a:t>FRUTAS , CHAMPAGNE Y ,COMO NO, BIRRITAS F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Univers"/>
              </a:rPr>
              <a:t>PARA EN LA NOCHE, LES PARECE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5429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9640" y="11736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ccff"/>
                </a:solidFill>
                <a:latin typeface="Univers"/>
              </a:rPr>
              <a:t>SI ACASO TIENEN PROBLEMAS CON LA IMAGEN EN LA TV, EL CONTROL REMOT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ccff"/>
                </a:solidFill>
                <a:latin typeface="Univers"/>
              </a:rPr>
              <a:t>LA PARABÓLICA ESTÁ DETRAS DE LA BAÑ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91160" cy="5543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032200" y="115920"/>
            <a:ext cx="533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ccff"/>
                </a:solidFill>
                <a:latin typeface="Univers"/>
              </a:rPr>
              <a:t>SI LA CAMA NO LES GUST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ccff"/>
                </a:solidFill>
                <a:latin typeface="Univers"/>
              </a:rPr>
              <a:t>TENGO COLCHONETAS EN LA ISL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17:00:32Z</dcterms:created>
  <dc:creator>OBrkic</dc:creator>
  <dc:description/>
  <dc:language>en-US</dc:language>
  <cp:lastModifiedBy>Clare Seccombe</cp:lastModifiedBy>
  <dcterms:modified xsi:type="dcterms:W3CDTF">2014-07-14T12:31:11Z</dcterms:modified>
  <cp:revision>14</cp:revision>
  <dc:subject/>
  <dc:title>No Slide Title</dc:title>
</cp:coreProperties>
</file>