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EEB-70C2-4CF4-9724-E3863403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E21-6773-4C8B-9C7B-CA2981BA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0EB-D1B6-4B8E-ABC7-133762EC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862-2A97-4CB3-813C-E5B284D9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3E0-E861-4BB5-A91C-20D0C678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8F8-5048-4C86-A03E-C39293B1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A90-37E3-4CD0-AAE6-0A96D5A2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DD6-1D9F-4D40-9D95-DE1B02EE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309-80BF-4FB9-9E97-2BC9FF63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3BE-E166-421C-8B98-872A484C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408-889E-4411-8249-28D998E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2CA-4528-4741-8543-0B46A25D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plicate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F59B-FB96-432E-9022-CD1B9A53C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143000"/>
            <a:ext cx="7704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Univers"/>
              </a:rPr>
              <a:t>ESTA ES UNA INVITACIÓN A TODOS MIS AMIGOS(AS) PARA COMPARTIR UN  CORDERO QUE HAREMOS EN MI NUEVA C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(VA A SER MUY SENCILLO, ASÍ QUE, POR FAVOR QUE CADA UNO TRAIGA LO QUE PUE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715000" cy="5334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71160" y="150840"/>
            <a:ext cx="67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UN MASAJITO DESPUÉS DE NADAR UN RA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71280" y="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LA ILUMINACIÓN FUE UN POCO IMPROVIS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HAN DE PERDONAR QUE NO PUDE HACER UNA DEFINITIV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14680" y="1289160"/>
            <a:ext cx="57150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42926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117400" y="1106640"/>
            <a:ext cx="367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EL EQUIPO PARA PES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Y BUZEO 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ENCONTRARÁN DE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DE LA C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25680" y="571680"/>
            <a:ext cx="4292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1486080"/>
            <a:ext cx="83059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ff"/>
                </a:solidFill>
                <a:latin typeface="comic"/>
              </a:rPr>
              <a:t>POR FAVOR ,CONFIRMAR VUESTRA ASISTENCI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76212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comic"/>
              </a:rPr>
              <a:t>PARA QUE NO SE PREOCUPEN POR EL TRANSPORTE LE PEDÍ A UN AMIGO QUE ME PRESTARA SU BOTE… YO LOS PASO A RECO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28800" y="1355760"/>
            <a:ext cx="5867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762120"/>
            <a:ext cx="8534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ff"/>
                </a:solidFill>
                <a:latin typeface="comic"/>
              </a:rPr>
              <a:t>LA ÚNICA DESVENTAJA ES QUE PARA LLEGAR AL PUERTO TENDREMOS QUE IR EN AUTOCAR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10960" y="455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UBICACIÓN: OCEANO PA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26668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HALÉS PARA HUESPEDES (usted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477120" y="297180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476760" y="32767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10080" y="57150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8600" y="556272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Univers"/>
              </a:rPr>
              <a:t>MI HUMILDE MO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248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9529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484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5720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72080" cy="4395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3733920" y="304812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800680" cy="458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69760" y="411336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PARA NO PERDERSE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267080" y="2133360"/>
            <a:ext cx="2286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762120"/>
            <a:ext cx="861048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ff"/>
                </a:solidFill>
                <a:latin typeface="comic"/>
              </a:rPr>
              <a:t>MUY BIEN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ccff"/>
                </a:solidFill>
                <a:latin typeface="comic"/>
              </a:rPr>
              <a:t>AHORA DESPIERTA Y PONTE A TRABAJAR!!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comic"/>
              </a:rPr>
              <a:t>no voy a hacer yo un cordero….lo hareís vosotros, los invitados. Bastante es que pongo la casa y el transp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350040" cy="466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22200" y="4659480"/>
            <a:ext cx="479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ccff"/>
                </a:solidFill>
                <a:latin typeface="Univers"/>
              </a:rPr>
              <a:t>ISLA DONDE HAREMOS EL ASADITO, ES UN POCO IMPROVISADO PORQUE NO TENÍA LUGAR CERCA DE LOS CHALÉS. ESPERO CONTAR CON SU COMPREN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81280" y="43430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24920" y="2297160"/>
            <a:ext cx="25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ccff"/>
                </a:solidFill>
                <a:latin typeface="Univers"/>
              </a:rPr>
              <a:t>PEQUEÑA ZONA DE AR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ccff"/>
                </a:solidFill>
                <a:latin typeface="Univers"/>
              </a:rPr>
              <a:t>PARA HACER EL CORD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1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1600" y="198108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Mi chab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QUÉ BUENO ES TENER UN RINCONCITO BAJO EL CIEL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9144000" cy="391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2600" y="270000"/>
            <a:ext cx="85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INSTALACIONES EN LOS CHALÉS. ESPERO QUE LES GUSTEN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3000" y="11592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FRUTAS , CHAMPAGNE Y ,COMO NO, BIRRITAS F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nivers"/>
              </a:rPr>
              <a:t>PARA EN LA NOCHE, LES PARECE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11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SI ACASO TIENEN PROBLEMAS CON LA IMAGEN EN LA TV, EL CONTROL REMO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LA PARABÓLICA ESTÁ DETRAS DE LA BAÑ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5975"/>
            </a:gs>
            <a:gs pos="50000">
              <a:srgbClr val="49c2ff"/>
            </a:gs>
            <a:gs pos="100000">
              <a:srgbClr val="2159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54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32200" y="115920"/>
            <a:ext cx="53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SI LA CAMA NO LES GUS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Univers"/>
              </a:rPr>
              <a:t>TENGO COLCHONETAS EN LA ISL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7:00:32Z</dcterms:created>
  <dc:creator>OBrkic</dc:creator>
  <dc:description/>
  <dc:language>en-US</dc:language>
  <cp:lastModifiedBy>Clare Seccombe</cp:lastModifiedBy>
  <dcterms:modified xsi:type="dcterms:W3CDTF">2014-07-14T12:31:11Z</dcterms:modified>
  <cp:revision>14</cp:revision>
  <dc:subject/>
  <dc:title>No Slide Title</dc:title>
</cp:coreProperties>
</file>