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wmf" ContentType="image/x-wmf"/>
  <Override PartName="/ppt/media/projctor.wav" ContentType="audio/x-wav"/>
  <Override PartName="/ppt/media/cashreg.wav" ContentType="audio/x-wav"/>
  <Override PartName="/ppt/media/type.wav" ContentType="audio/x-wav"/>
  <Override PartName="/ppt/media/driveby.wav" ContentType="audio/x-wav"/>
  <Override PartName="/ppt/media/laser.wav" ContentType="audio/x-wav"/>
  <Override PartName="/ppt/media/image1.jpeg" ContentType="image/jpeg"/>
  <Override PartName="/ppt/media/image4.wmf" ContentType="image/x-wmf"/>
  <Override PartName="/ppt/media/image2.png" ContentType="image/png"/>
  <Override PartName="/ppt/media/whoosh.wav" ContentType="audio/x-wav"/>
  <Override PartName="/ppt/media/camera.wav" ContentType="audio/x-wav"/>
  <Override PartName="/ppt/media/chimes.wav" ContentType="audio/x-wav"/>
  <Override PartName="/ppt/media/gunshot.wav" ContentType="audio/x-wav"/>
  <Override PartName="/ppt/media/drumroll.wav" ContentType="audio/x-wav"/>
  <Override PartName="/ppt/media/glass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B73-A2E9-418D-A8CB-A2DDA457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A09-28DD-4890-B322-C67F5568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52E-C72B-4589-9A64-B8F000E6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1C5-33F2-4991-B85A-48EDD58D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18B-67DC-4B91-B40B-486F8FF0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753-9E2C-4FAD-8F86-320512F4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8B4-37DA-4D9B-9F86-A390BC46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FAD-FDAB-4CD5-96FE-7ED8F0BC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762-6AE0-4DBC-84A4-D14FCE58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027-2034-4EAA-824B-33FAFD21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562-102F-4CD7-8DDB-C5AF3729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FEB-E8A9-4613-A350-6D899604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239D-537E-4E9A-A500-30DB5CABC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chimes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audio" Target="../media/applause.wav"/><Relationship Id="rId15" Type="http://schemas.openxmlformats.org/officeDocument/2006/relationships/audio" Target="../media/applause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glass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driveby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driveby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driveby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audio" Target="../media/projctor.wav"/><Relationship Id="rId11" Type="http://schemas.openxmlformats.org/officeDocument/2006/relationships/audio" Target="../media/laser.wav"/><Relationship Id="rId12" Type="http://schemas.openxmlformats.org/officeDocument/2006/relationships/audio" Target="../media/projctor.wav"/><Relationship Id="rId13" Type="http://schemas.openxmlformats.org/officeDocument/2006/relationships/audio" Target="../media/laser.wav"/><Relationship Id="rId14" Type="http://schemas.openxmlformats.org/officeDocument/2006/relationships/audio" Target="../media/projctor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3720" y="228600"/>
            <a:ext cx="62481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Past Tenses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in Spanish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ractice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838080"/>
            <a:ext cx="2057400" cy="521460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a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w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c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co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r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belie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sc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h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ci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dec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4800" y="838080"/>
            <a:ext cx="4800600" cy="558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.  I was w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.  You (pl) were h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.  He was 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4.  We were dec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5.  You (sg) were beli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1219320"/>
            <a:ext cx="2895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gana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232416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escondí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48320" y="3429000"/>
            <a:ext cx="32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ocina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4533840"/>
            <a:ext cx="3124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ecid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5638680"/>
            <a:ext cx="4038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re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838080"/>
            <a:ext cx="4800600" cy="558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6.  She used to 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7.  They used to h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8.  I used to w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9.  We used to c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0. You (sg) used to de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1295280"/>
            <a:ext cx="342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re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24280" y="2400480"/>
            <a:ext cx="335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escondí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24280" y="3505320"/>
            <a:ext cx="320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gana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461016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ocináb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4280" y="5715000"/>
            <a:ext cx="320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eci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73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971800" y="304920"/>
            <a:ext cx="4343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Verdana"/>
              </a:rPr>
              <a:t>The Perfect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05320" y="1143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 have 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6765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o form the Perfect Tense you need part of the verb haber and a past partic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2819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34290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4267080"/>
            <a:ext cx="129528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bé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2819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st parti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33526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le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00600" y="4343400"/>
            <a:ext cx="30492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800600" y="434340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4495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leg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4800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876920" y="480060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76920" y="4876920"/>
            <a:ext cx="30456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4120" y="5029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81680" y="5029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1520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m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648320" y="53341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410080"/>
            <a:ext cx="30456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9132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530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292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n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4114800"/>
            <a:ext cx="1524240" cy="838080"/>
          </a:xfrm>
          <a:prstGeom prst="rightArrowCallout">
            <a:avLst>
              <a:gd name="adj1" fmla="val 25002"/>
              <a:gd name="adj2" fmla="val 25000"/>
              <a:gd name="adj3" fmla="val 30312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4648320"/>
            <a:ext cx="1143000" cy="761760"/>
          </a:xfrm>
          <a:prstGeom prst="rightArrowCallout">
            <a:avLst>
              <a:gd name="adj1" fmla="val 25002"/>
              <a:gd name="adj2" fmla="val 25000"/>
              <a:gd name="adj3" fmla="val 25008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5181480"/>
            <a:ext cx="1218960" cy="762120"/>
          </a:xfrm>
          <a:prstGeom prst="rightArrowCallout">
            <a:avLst>
              <a:gd name="adj1" fmla="val 25002"/>
              <a:gd name="adj2" fmla="val 25000"/>
              <a:gd name="adj3" fmla="val 26657"/>
              <a:gd name="adj4" fmla="val 6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05320" y="6095880"/>
            <a:ext cx="2514600" cy="459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have arr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6095880"/>
            <a:ext cx="2819520" cy="459720"/>
          </a:xfrm>
          <a:prstGeom prst="rect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e lle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05320" y="609588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 has e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72200" y="6095880"/>
            <a:ext cx="2819520" cy="45972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 com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6095880"/>
            <a:ext cx="26672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have jo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72200" y="6095880"/>
            <a:ext cx="2819520" cy="45972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emos u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6095880"/>
            <a:ext cx="2667240" cy="67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You (sg) have e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72200" y="6095880"/>
            <a:ext cx="2819520" cy="45972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s com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6095880"/>
            <a:ext cx="2667240" cy="67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(pl) have jo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72200" y="6095880"/>
            <a:ext cx="2819520" cy="45972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béis u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52680" y="6095880"/>
            <a:ext cx="2667240" cy="67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have arr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72200" y="6095880"/>
            <a:ext cx="2819520" cy="45972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n lle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75" dur="1" fill="hold"/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30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524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ractice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52480" y="762120"/>
            <a:ext cx="7239240" cy="6021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are the past participles of these verb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baila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ama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per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debe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aprende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en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teme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vivi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ad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desea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espera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b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decidi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promete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exis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1752480"/>
            <a:ext cx="708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baila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ama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permi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2895480"/>
            <a:ext cx="708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ebi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aprendi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en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3962520"/>
            <a:ext cx="708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emi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vivi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admi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28800" y="5029200"/>
            <a:ext cx="708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esea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espera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be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6172200"/>
            <a:ext cx="708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ecidi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prometi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exis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48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1522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re are some irregular past partici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05120" y="1371600"/>
            <a:ext cx="15238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br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ubr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c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scrib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or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e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7600" y="1371600"/>
            <a:ext cx="2286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do/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1371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abi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86400" y="1913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cubi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2454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di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86400" y="2997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esc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86400" y="35384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h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4079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m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46227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86400" y="5164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resue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5705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v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248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vue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3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3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72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0" y="838080"/>
            <a:ext cx="6019920" cy="464832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So t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you a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81080" y="1143000"/>
            <a:ext cx="6324840" cy="4724280"/>
          </a:xfrm>
          <a:prstGeom prst="horizontalScroll">
            <a:avLst>
              <a:gd name="adj" fmla="val 125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 tou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ast te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52480" y="228600"/>
            <a:ext cx="6553440" cy="6324480"/>
          </a:xfrm>
          <a:custGeom>
            <a:avLst/>
            <a:gdLst>
              <a:gd name="textAreaLeft" fmla="*/ 1495800 w 6553440"/>
              <a:gd name="textAreaRight" fmla="*/ 5057640 w 6553440"/>
              <a:gd name="textAreaTop" fmla="*/ 1443600 h 6324480"/>
              <a:gd name="textAreaBottom" fmla="*/ 4880880 h 632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Now have a g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t the 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to check you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86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19051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Verdana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5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971800" y="304920"/>
            <a:ext cx="4572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Verdana"/>
              </a:rPr>
              <a:t>The Past Ten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Verdana"/>
              <a:ea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1828800"/>
            <a:ext cx="5334120" cy="2895480"/>
          </a:xfrm>
          <a:prstGeom prst="wedgeRoundRectCallout">
            <a:avLst>
              <a:gd name="adj1" fmla="val -43518"/>
              <a:gd name="adj2" fmla="val 95287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achieve a Grade C or above at GCSE, you will have to use the Past Tenses in your Speaking and Wr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1523880"/>
            <a:ext cx="5790960" cy="4572000"/>
          </a:xfrm>
          <a:prstGeom prst="wedgeEllipseCallout">
            <a:avLst>
              <a:gd name="adj1" fmla="val 53041"/>
              <a:gd name="adj2" fmla="val 3989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ere are three tenses that you can 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e Prete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e Im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e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228600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Preterit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 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 did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16002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n Englis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2362320"/>
            <a:ext cx="3657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The Im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was pl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used to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3623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The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have 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743200" y="304920"/>
            <a:ext cx="49197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Verdana"/>
              </a:rPr>
              <a:t>The Preterite Tens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 played / I did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16765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Preterite Tense is formed by adding endings onto the 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09680" y="2743200"/>
          <a:ext cx="4724640" cy="3602160"/>
        </p:xfrm>
        <a:graphic>
          <a:graphicData uri="http://schemas.openxmlformats.org/drawingml/2006/table">
            <a:tbl>
              <a:tblPr/>
              <a:tblGrid>
                <a:gridCol w="2057400"/>
                <a:gridCol w="266724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You (s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He / she /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You (p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5867280" y="3352680"/>
            <a:ext cx="38124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867280" y="3352320"/>
            <a:ext cx="38124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3733920"/>
            <a:ext cx="198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r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4160880"/>
            <a:ext cx="198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r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4587840"/>
            <a:ext cx="198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r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5014800"/>
            <a:ext cx="198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r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44212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r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t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5867280"/>
            <a:ext cx="198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r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ractice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838080"/>
            <a:ext cx="1828800" cy="56390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a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ibu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dr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spea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i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wa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rab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914400"/>
            <a:ext cx="3352680" cy="639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 walke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 watche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worke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 d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ou (sg) sp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1371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ami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247644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mir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35812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rabaja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46864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ibuj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5791320"/>
            <a:ext cx="2361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habl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914400"/>
            <a:ext cx="3352680" cy="5667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 sp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(pl) wal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wa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d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1371600"/>
            <a:ext cx="2133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habl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2476440"/>
            <a:ext cx="259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aminast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581280"/>
            <a:ext cx="259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rabaj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46864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mir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57913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ibuj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743200" y="304920"/>
            <a:ext cx="49197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Verdana"/>
              </a:rPr>
              <a:t>The Preterite Tens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133720" y="1447920"/>
          <a:ext cx="6400440" cy="3601800"/>
        </p:xfrm>
        <a:graphic>
          <a:graphicData uri="http://schemas.openxmlformats.org/drawingml/2006/table">
            <a:tbl>
              <a:tblPr/>
              <a:tblGrid>
                <a:gridCol w="2160000"/>
                <a:gridCol w="424044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 and IR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der        viv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You (s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He / she /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You (p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d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d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d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d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d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d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5410080" y="1980720"/>
            <a:ext cx="30492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1981080"/>
            <a:ext cx="38124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010280" y="1980720"/>
            <a:ext cx="30492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1981080"/>
            <a:ext cx="38124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43828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nd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86560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nd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st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29256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nd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ó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71952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nd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mo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14648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nd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stei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st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57200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nd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er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ractice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838080"/>
            <a:ext cx="2057400" cy="521460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om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brea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r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r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e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leg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cho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discu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838080"/>
            <a:ext cx="3352680" cy="558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.  We 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.  He 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.  I c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4.  You (sg) b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5.  They disc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12952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orr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2400480"/>
            <a:ext cx="243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om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505320"/>
            <a:ext cx="243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eleg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461016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romp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715000"/>
            <a:ext cx="236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iscut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838080"/>
            <a:ext cx="3429000" cy="558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6.  You (pl) b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7.  She disc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8.  We 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9.  I 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0. You (sg) c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1295280"/>
            <a:ext cx="259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rompist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24004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iscut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35053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om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4610160"/>
            <a:ext cx="259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orr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71500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eleg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Irregular preteri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609480"/>
            <a:ext cx="1371600" cy="63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a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c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ha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h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o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roduc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u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a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ra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ven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609480"/>
            <a:ext cx="1676160" cy="63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w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g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s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do/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be 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prod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w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k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b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s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1752480"/>
            <a:ext cx="3657600" cy="2971800"/>
          </a:xfrm>
          <a:prstGeom prst="wedgeRoundRectCallout">
            <a:avLst>
              <a:gd name="adj1" fmla="val -56685"/>
              <a:gd name="adj2" fmla="val 94124"/>
              <a:gd name="adj3" fmla="val 16667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ll of these verbs are irregular in the Preterite T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1600200"/>
            <a:ext cx="3504960" cy="3200400"/>
          </a:xfrm>
          <a:prstGeom prst="wedgeRectCallout">
            <a:avLst>
              <a:gd name="adj1" fmla="val 51134"/>
              <a:gd name="adj2" fmla="val 6934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other words, they don’t follow any of the patterns that we have already s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914400"/>
            <a:ext cx="4038840" cy="4724280"/>
          </a:xfrm>
          <a:prstGeom prst="smileyFace">
            <a:avLst>
              <a:gd name="adj" fmla="val 9282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ck the summ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eet for the verb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743200" y="304920"/>
            <a:ext cx="50292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Verdana"/>
              </a:rPr>
              <a:t>The Imperfect Tens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1143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 was playing / I used to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16765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ike the Preterite Tense, the Imperfect is formed by adding endings onto the 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8229600" y="1752480"/>
            <a:ext cx="660240" cy="8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1828800" y="2743200"/>
          <a:ext cx="6095880" cy="3602160"/>
        </p:xfrm>
        <a:graphic>
          <a:graphicData uri="http://schemas.openxmlformats.org/drawingml/2006/table">
            <a:tbl>
              <a:tblPr/>
              <a:tblGrid>
                <a:gridCol w="2438280"/>
                <a:gridCol w="365760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j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 and IR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er        viv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3124080" y="33526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124080" y="335232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3526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34120" y="335232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33526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858000" y="335232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37339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j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416088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j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458784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j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586728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j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54421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j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b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50148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j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áb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73392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m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16088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m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s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58784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m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501480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m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mos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44212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m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is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586728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m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n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743200" y="304920"/>
            <a:ext cx="50292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Verdana"/>
              </a:rPr>
              <a:t>The Imperfect Tens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905120" y="11430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e of the good things about the Imperfect Tense is that it only h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rregular verb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8534520" y="1752480"/>
            <a:ext cx="458640" cy="754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752480" y="2514600"/>
            <a:ext cx="2362320" cy="459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r (to 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2514600"/>
            <a:ext cx="2361960" cy="459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r (to 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29400" y="2514600"/>
            <a:ext cx="2362320" cy="459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r (to s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3048120"/>
            <a:ext cx="2362320" cy="2361600"/>
          </a:xfrm>
          <a:prstGeom prst="rect">
            <a:avLst/>
          </a:pr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ér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3048120"/>
            <a:ext cx="2361960" cy="2361600"/>
          </a:xfrm>
          <a:prstGeom prst="rect">
            <a:avLst/>
          </a:pr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íb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b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3048120"/>
            <a:ext cx="2362320" cy="2361600"/>
          </a:xfrm>
          <a:prstGeom prst="rect">
            <a:avLst/>
          </a:pr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í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í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5410080"/>
            <a:ext cx="2210040" cy="129564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rregu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em 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nd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5410080"/>
            <a:ext cx="2210040" cy="129564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ses –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nd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81680" y="5410080"/>
            <a:ext cx="2210040" cy="129564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em h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n extra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5:43:48Z</dcterms:created>
  <dc:creator>Paul Seccombe</dc:creator>
  <dc:description/>
  <dc:language>en-US</dc:language>
  <cp:lastModifiedBy>P.Seccombe</cp:lastModifiedBy>
  <dcterms:modified xsi:type="dcterms:W3CDTF">2007-02-07T14:43:18Z</dcterms:modified>
  <cp:revision>43</cp:revision>
  <dc:subject/>
  <dc:title>PowerPoint Presentation</dc:title>
</cp:coreProperties>
</file>