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3.wmf" ContentType="image/x-wmf"/>
  <Override PartName="/ppt/media/camera.wav" ContentType="audio/x-wav"/>
  <Override PartName="/ppt/media/image4.wmf" ContentType="image/x-wmf"/>
  <Override PartName="/ppt/media/image1.jpeg" ContentType="image/jpeg"/>
  <Override PartName="/ppt/media/driveby.wav" ContentType="audio/x-wav"/>
  <Override PartName="/ppt/media/laser.wav" ContentType="audio/x-wav"/>
  <Override PartName="/ppt/media/cashreg.wav" ContentType="audio/x-wav"/>
  <Override PartName="/ppt/media/glass.wav" ContentType="audio/x-wav"/>
  <Override PartName="/ppt/media/applause.wav" ContentType="audio/x-wav"/>
  <Override PartName="/ppt/media/drumroll.wav" ContentType="audio/x-wav"/>
  <Override PartName="/ppt/media/gunshot.wav" ContentType="audio/x-wav"/>
  <Override PartName="/ppt/media/image2.wmf" ContentType="image/x-wm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A36-C88F-4C18-8A10-7EA50E9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2A1-7607-4009-802D-D01304F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D19-19A7-416A-8D32-AC9853C7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05F-E5AB-40FC-85A1-BCAA66B1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209-7148-491F-BA5F-72956DB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A15-FA4B-4696-BFAB-49C74F2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573-6204-4586-B766-7A475B7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EFC-D04C-472A-95B1-B4536AD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467-A902-4ABF-8196-E6D18D19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FA5-3074-42D4-8EE6-B94858A1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1D6-848B-4FC4-B0AF-470BCFA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8FF-6AC6-4512-9F7F-DA6A686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293-7071-4BFD-B0CE-308445A7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ap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umroll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lass.wav"/><Relationship Id="rId19" Type="http://schemas.openxmlformats.org/officeDocument/2006/relationships/audio" Target="../media/cashreg.wav"/><Relationship Id="rId20" Type="http://schemas.openxmlformats.org/officeDocument/2006/relationships/audio" Target="../media/glass.wav"/><Relationship Id="rId21" Type="http://schemas.openxmlformats.org/officeDocument/2006/relationships/audio" Target="../media/cashreg.wav"/><Relationship Id="rId22" Type="http://schemas.openxmlformats.org/officeDocument/2006/relationships/audio" Target="../media/glass.wav"/><Relationship Id="rId23" Type="http://schemas.openxmlformats.org/officeDocument/2006/relationships/audio" Target="../media/cashreg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applause.wav"/><Relationship Id="rId8" Type="http://schemas.openxmlformats.org/officeDocument/2006/relationships/audio" Target="../media/driveby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762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62320" y="685800"/>
            <a:ext cx="5810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ubjects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720" y="2590920"/>
            <a:ext cx="1285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f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8120" y="4800600"/>
            <a:ext cx="38574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bs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What is the subject of a verb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246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person or thing that performs the verb in a sentence is called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2370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127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na speaks Span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127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 speaks Span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5812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127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 is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9625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book is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962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on the t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49568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962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ook is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e a go at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sun shone brightly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609588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33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ubjects are often proper names, objects, animals,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133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ust as often, they are pro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441440" cy="181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62520" y="2971800"/>
            <a:ext cx="4343400" cy="990720"/>
          </a:xfrm>
          <a:prstGeom prst="wedgeRectCallout">
            <a:avLst>
              <a:gd name="adj1" fmla="val 36000"/>
              <a:gd name="adj2" fmla="val 173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nouns are words which stand in place of noun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114800"/>
            <a:ext cx="4267080" cy="2057400"/>
          </a:xfrm>
          <a:prstGeom prst="wedgeRectCallout">
            <a:avLst>
              <a:gd name="adj1" fmla="val 87722"/>
              <a:gd name="adj2" fmla="val 540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se pronouns replace the noun which is the subject of the sentence, they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bject pronou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1085760" y="3143160"/>
            <a:ext cx="6172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ff66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ve a go at these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ff66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049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ich pronouns would you use to replace these nou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1523880"/>
            <a:ext cx="6248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likes swimm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swim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289548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 and I speak Spa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 and Juan speak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an doesn’t like pa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og loves pa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0481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236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5105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61722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4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7652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12408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1828800"/>
            <a:ext cx="4724280" cy="3276720"/>
          </a:xfrm>
          <a:prstGeom prst="wedgeRoundRectCallout">
            <a:avLst>
              <a:gd name="adj1" fmla="val 42273"/>
              <a:gd name="adj2" fmla="val 68750"/>
              <a:gd name="adj3" fmla="val 16667"/>
            </a:avLst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initives tell us the action of the verb without reference to any person o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685800"/>
            <a:ext cx="5105520" cy="3581280"/>
          </a:xfrm>
          <a:prstGeom prst="wedgeRoundRectCallout">
            <a:avLst>
              <a:gd name="adj1" fmla="val -43518"/>
              <a:gd name="adj2" fmla="val 73847"/>
              <a:gd name="adj3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make the verbs refer to specific people, we need to know a set sequence of subject pro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647960" cy="1371600"/>
          </a:xfrm>
          <a:prstGeom prst="wedgeRoundRectCallout">
            <a:avLst>
              <a:gd name="adj1" fmla="val 46754"/>
              <a:gd name="adj2" fmla="val 83912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ach verb in each tense has 6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81080" y="304920"/>
          <a:ext cx="6705720" cy="6172200"/>
        </p:xfrm>
        <a:graphic>
          <a:graphicData uri="http://schemas.openxmlformats.org/drawingml/2006/table">
            <a:tbl>
              <a:tblPr/>
              <a:tblGrid>
                <a:gridCol w="1828800"/>
                <a:gridCol w="3048120"/>
                <a:gridCol w="18288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133720" y="91440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15238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15424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77488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39552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96252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8006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55627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si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876920"/>
            <a:ext cx="10666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1440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60020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97180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3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914400"/>
            <a:ext cx="457200" cy="3048120"/>
          </a:xfrm>
          <a:custGeom>
            <a:avLst/>
            <a:gdLst>
              <a:gd name="textAreaLeft" fmla="*/ 0 w 457200"/>
              <a:gd name="textAreaRight" fmla="*/ 16488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0384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8769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56386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3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03848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15238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(s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80060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9144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1460520"/>
            <a:ext cx="106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15424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277488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395520"/>
            <a:ext cx="144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él /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nosotros/nos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80060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vosotros/vos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556272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o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762120"/>
            <a:ext cx="2590920" cy="761760"/>
          </a:xfrm>
          <a:prstGeom prst="leftArrowCallout">
            <a:avLst>
              <a:gd name="adj1" fmla="val 25002"/>
              <a:gd name="adj2" fmla="val 25000"/>
              <a:gd name="adj3" fmla="val 56687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447920"/>
            <a:ext cx="2590560" cy="761760"/>
          </a:xfrm>
          <a:prstGeom prst="leftArrowCallout">
            <a:avLst>
              <a:gd name="adj1" fmla="val 25002"/>
              <a:gd name="adj2" fmla="val 25000"/>
              <a:gd name="adj3" fmla="val 56679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k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819520"/>
            <a:ext cx="2819160" cy="761760"/>
          </a:xfrm>
          <a:prstGeom prst="leftArrowCallout">
            <a:avLst>
              <a:gd name="adj1" fmla="val 25002"/>
              <a:gd name="adj2" fmla="val 25000"/>
              <a:gd name="adj3" fmla="val 61681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ken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0880"/>
            <a:ext cx="6705720" cy="571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’ll see that 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bject pronouns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 the later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n the different t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04920"/>
            <a:ext cx="7010280" cy="6095880"/>
          </a:xfrm>
          <a:custGeom>
            <a:avLst/>
            <a:gdLst>
              <a:gd name="textAreaLeft" fmla="*/ 1568880 w 7010280"/>
              <a:gd name="textAreaRight" fmla="*/ 5441400 w 7010280"/>
              <a:gd name="textAreaTop" fmla="*/ 1364040 h 6095880"/>
              <a:gd name="textAreaBottom" fmla="*/ 473184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8" y="12410"/>
                </a:lnTo>
                <a:lnTo>
                  <a:pt x="786" y="14846"/>
                </a:lnTo>
                <a:lnTo>
                  <a:pt x="3724" y="15395"/>
                </a:lnTo>
                <a:lnTo>
                  <a:pt x="3163" y="18437"/>
                </a:lnTo>
                <a:lnTo>
                  <a:pt x="6082" y="17795"/>
                </a:lnTo>
                <a:lnTo>
                  <a:pt x="6580" y="20741"/>
                </a:lnTo>
                <a:lnTo>
                  <a:pt x="9046" y="19053"/>
                </a:lnTo>
                <a:lnTo>
                  <a:pt x="10800" y="21600"/>
                </a:lnTo>
                <a:lnTo>
                  <a:pt x="12410" y="19082"/>
                </a:lnTo>
                <a:lnTo>
                  <a:pt x="14846" y="20814"/>
                </a:lnTo>
                <a:lnTo>
                  <a:pt x="15395" y="17876"/>
                </a:lnTo>
                <a:lnTo>
                  <a:pt x="18437" y="18437"/>
                </a:lnTo>
                <a:lnTo>
                  <a:pt x="17795" y="15518"/>
                </a:lnTo>
                <a:lnTo>
                  <a:pt x="20741" y="15020"/>
                </a:lnTo>
                <a:lnTo>
                  <a:pt x="19053" y="12554"/>
                </a:lnTo>
                <a:lnTo>
                  <a:pt x="21600" y="10800"/>
                </a:lnTo>
                <a:lnTo>
                  <a:pt x="19082" y="9190"/>
                </a:lnTo>
                <a:lnTo>
                  <a:pt x="20814" y="6754"/>
                </a:lnTo>
                <a:lnTo>
                  <a:pt x="17876" y="6205"/>
                </a:lnTo>
                <a:lnTo>
                  <a:pt x="18437" y="3163"/>
                </a:lnTo>
                <a:lnTo>
                  <a:pt x="15518" y="3805"/>
                </a:lnTo>
                <a:lnTo>
                  <a:pt x="15020" y="859"/>
                </a:lnTo>
                <a:lnTo>
                  <a:pt x="12554" y="2547"/>
                </a:lnTo>
                <a:lnTo>
                  <a:pt x="10800" y="0"/>
                </a:lnTo>
                <a:lnTo>
                  <a:pt x="9190" y="2518"/>
                </a:lnTo>
                <a:lnTo>
                  <a:pt x="6754" y="786"/>
                </a:lnTo>
                <a:lnTo>
                  <a:pt x="6205" y="3724"/>
                </a:lnTo>
                <a:lnTo>
                  <a:pt x="3163" y="3163"/>
                </a:lnTo>
                <a:lnTo>
                  <a:pt x="3805" y="6082"/>
                </a:lnTo>
                <a:lnTo>
                  <a:pt x="859" y="6580"/>
                </a:lnTo>
                <a:lnTo>
                  <a:pt x="2547" y="904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English, we have to u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ject pronouns all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didn’t use them, we would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now who was doing the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80880"/>
            <a:ext cx="5333760" cy="57913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ink about i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I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You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He/she/it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We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You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ey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With one exception,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e forms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680" y="1219320"/>
            <a:ext cx="4114800" cy="3733560"/>
          </a:xfrm>
          <a:prstGeom prst="flowChartPunchedTap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’s the subject pro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make it clear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bject of the verb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724800" y="3657600"/>
            <a:ext cx="1888920" cy="2666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14600" y="609480"/>
            <a:ext cx="4800600" cy="2819520"/>
          </a:xfrm>
          <a:prstGeom prst="wedgeRoundRectCallout">
            <a:avLst>
              <a:gd name="adj1" fmla="val 46893"/>
              <a:gd name="adj2" fmla="val 7252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In Spanish, we very rarely use Subject Pronouns, because all six parts of the verb are so different.  We don’t need the pronouns to tell us who the subject of the verb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80880"/>
            <a:ext cx="4114800" cy="3200400"/>
          </a:xfrm>
          <a:prstGeom prst="wedgeRoundRectCallout">
            <a:avLst>
              <a:gd name="adj1" fmla="val 56444"/>
              <a:gd name="adj2" fmla="val 65527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ere’s 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2441520" cy="2425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81280" y="304920"/>
            <a:ext cx="5105520" cy="3352680"/>
          </a:xfrm>
          <a:prstGeom prst="wedgeEllipseCallout">
            <a:avLst>
              <a:gd name="adj1" fmla="val -33675"/>
              <a:gd name="adj2" fmla="val 638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Now that you know all about verbs and subject pronouns, you can look at the presentations about the different t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838080"/>
            <a:ext cx="4495680" cy="2514600"/>
          </a:xfrm>
          <a:prstGeom prst="wedgeEllipseCallout">
            <a:avLst>
              <a:gd name="adj1" fmla="val -47032"/>
              <a:gd name="adj2" fmla="val 7891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Have a go at the exercises to test your underst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762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152388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7:20:34Z</dcterms:created>
  <dc:creator>Paul Seccombe</dc:creator>
  <dc:description/>
  <dc:language>en-US</dc:language>
  <cp:lastModifiedBy>P.Seccombe</cp:lastModifiedBy>
  <dcterms:modified xsi:type="dcterms:W3CDTF">2007-02-07T20:57:16Z</dcterms:modified>
  <cp:revision>20</cp:revision>
  <dc:subject/>
  <dc:title>PowerPoint Presentation</dc:title>
</cp:coreProperties>
</file>