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applause.wav" ContentType="audio/x-wav"/>
  <Override PartName="/ppt/media/glass.wav" ContentType="audio/x-wav"/>
  <Override PartName="/ppt/media/image5.wmf" ContentType="image/x-wmf"/>
  <Override PartName="/ppt/media/clap.wav" ContentType="audio/x-wav"/>
  <Override PartName="/ppt/media/chimes.wav" ContentType="audio/x-wav"/>
  <Override PartName="/ppt/media/carbrake.wav" ContentType="audio/x-wav"/>
  <Override PartName="/ppt/media/whoosh.wav" ContentType="audio/x-wav"/>
  <Override PartName="/ppt/media/image6.wmf" ContentType="image/x-wmf"/>
  <Override PartName="/ppt/media/drumroll.wav" ContentType="audio/x-wav"/>
  <Override PartName="/ppt/media/image4.wmf" ContentType="image/x-wmf"/>
  <Override PartName="/ppt/media/image7.png" ContentType="image/png"/>
  <Override PartName="/ppt/media/image1.jpeg" ContentType="image/jpeg"/>
  <Override PartName="/ppt/media/image3.wmf" ContentType="image/x-wmf"/>
  <Override PartName="/ppt/media/image2.wmf" ContentType="image/x-wmf"/>
  <Override PartName="/ppt/media/gunshot.wav" ContentType="audio/x-wav"/>
  <Override PartName="/ppt/media/camera.wav" ContentType="audio/x-wav"/>
  <Override PartName="/ppt/media/projctor.wav" ContentType="audio/x-wav"/>
  <Override PartName="/ppt/media/image8.wmf" ContentType="image/x-wmf"/>
  <Override PartName="/ppt/media/cashreg.wav" ContentType="audio/x-wav"/>
  <Override PartName="/ppt/media/laser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5673-E8C3-461B-BE12-A2EC72A1A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02EE-5716-4BCE-A6DC-6A39B7C8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758B-89D6-46FB-B47B-9656C3925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1FB6-E9E8-4E5A-811F-2CEA0ADA6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EAC0-3AB5-4D93-B911-985AF99F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5147-C4CC-4DED-8E62-5D49A0D1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810C-4CE7-4C99-BD0C-2F09C9FE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846A-69AA-42C9-9697-8365CE2D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565C-D023-4BFB-8D95-AFA52CEB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1BE2-7460-416D-BE60-85F1C62D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8460-767B-4F3D-87F1-7BB71863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1C54-10E7-4F49-B835-7974BD08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EE10-57C6-43FD-8F28-4A1543A89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shreg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cashreg.wav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audio" Target="../media/whoosh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carbrake.wav"/><Relationship Id="rId8" Type="http://schemas.openxmlformats.org/officeDocument/2006/relationships/audio" Target="../media/clap.wav"/><Relationship Id="rId9" Type="http://schemas.openxmlformats.org/officeDocument/2006/relationships/audio" Target="../media/glass.wav"/><Relationship Id="rId10" Type="http://schemas.openxmlformats.org/officeDocument/2006/relationships/audio" Target="../media/carbrake.wav"/><Relationship Id="rId11" Type="http://schemas.openxmlformats.org/officeDocument/2006/relationships/audio" Target="../media/glas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lass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cashreg.wav"/><Relationship Id="rId11" Type="http://schemas.openxmlformats.org/officeDocument/2006/relationships/audio" Target="../media/laser.wav"/><Relationship Id="rId12" Type="http://schemas.openxmlformats.org/officeDocument/2006/relationships/audio" Target="../media/applause.wav"/><Relationship Id="rId13" Type="http://schemas.openxmlformats.org/officeDocument/2006/relationships/audio" Target="../media/laser.wav"/><Relationship Id="rId14" Type="http://schemas.openxmlformats.org/officeDocument/2006/relationships/audio" Target="../media/applause.wav"/><Relationship Id="rId15" Type="http://schemas.openxmlformats.org/officeDocument/2006/relationships/audio" Target="../media/laser.wav"/><Relationship Id="rId16" Type="http://schemas.openxmlformats.org/officeDocument/2006/relationships/audio" Target="../media/applause.wav"/><Relationship Id="rId17" Type="http://schemas.openxmlformats.org/officeDocument/2006/relationships/audio" Target="../media/laser.wav"/><Relationship Id="rId18" Type="http://schemas.openxmlformats.org/officeDocument/2006/relationships/audio" Target="../media/applause.wav"/><Relationship Id="rId19" Type="http://schemas.openxmlformats.org/officeDocument/2006/relationships/audio" Target="../media/laser.wav"/><Relationship Id="rId20" Type="http://schemas.openxmlformats.org/officeDocument/2006/relationships/audio" Target="../media/applause.wav"/><Relationship Id="rId21" Type="http://schemas.openxmlformats.org/officeDocument/2006/relationships/audio" Target="../media/laser.wav"/><Relationship Id="rId22" Type="http://schemas.openxmlformats.org/officeDocument/2006/relationships/audio" Target="../media/applause.wav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gunshot.wav"/><Relationship Id="rId12" Type="http://schemas.openxmlformats.org/officeDocument/2006/relationships/audio" Target="../media/gunshot.wav"/><Relationship Id="rId13" Type="http://schemas.openxmlformats.org/officeDocument/2006/relationships/audio" Target="../media/gunshot.wav"/><Relationship Id="rId14" Type="http://schemas.openxmlformats.org/officeDocument/2006/relationships/audio" Target="../media/gunshot.wav"/><Relationship Id="rId15" Type="http://schemas.openxmlformats.org/officeDocument/2006/relationships/audio" Target="../media/gunshot.wav"/><Relationship Id="rId16" Type="http://schemas.openxmlformats.org/officeDocument/2006/relationships/audio" Target="../media/gunshot.wav"/><Relationship Id="rId17" Type="http://schemas.openxmlformats.org/officeDocument/2006/relationships/audio" Target="../media/projctor.wav"/><Relationship Id="rId18" Type="http://schemas.openxmlformats.org/officeDocument/2006/relationships/audio" Target="../media/applause.wav"/><Relationship Id="rId19" Type="http://schemas.openxmlformats.org/officeDocument/2006/relationships/audio" Target="../media/projctor.wav"/><Relationship Id="rId20" Type="http://schemas.openxmlformats.org/officeDocument/2006/relationships/audio" Target="../media/applause.wav"/><Relationship Id="rId21" Type="http://schemas.openxmlformats.org/officeDocument/2006/relationships/audio" Target="../media/projctor.wav"/><Relationship Id="rId22" Type="http://schemas.openxmlformats.org/officeDocument/2006/relationships/audio" Target="../media/applause.wav"/><Relationship Id="rId23" Type="http://schemas.openxmlformats.org/officeDocument/2006/relationships/audio" Target="../media/projctor.wav"/><Relationship Id="rId24" Type="http://schemas.openxmlformats.org/officeDocument/2006/relationships/audio" Target="../media/applause.wav"/><Relationship Id="rId25" Type="http://schemas.openxmlformats.org/officeDocument/2006/relationships/audio" Target="../media/projctor.wav"/><Relationship Id="rId26" Type="http://schemas.openxmlformats.org/officeDocument/2006/relationships/audio" Target="../media/applause.wav"/><Relationship Id="rId27" Type="http://schemas.openxmlformats.org/officeDocument/2006/relationships/audio" Target="../media/projctor.wav"/><Relationship Id="rId28" Type="http://schemas.openxmlformats.org/officeDocument/2006/relationships/audio" Target="../media/applause.wav"/><Relationship Id="rId2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clap.wav"/><Relationship Id="rId7" Type="http://schemas.openxmlformats.org/officeDocument/2006/relationships/audio" Target="../media/glass.wav"/><Relationship Id="rId8" Type="http://schemas.openxmlformats.org/officeDocument/2006/relationships/audio" Target="../media/glass.wav"/><Relationship Id="rId9" Type="http://schemas.openxmlformats.org/officeDocument/2006/relationships/audio" Target="../media/carbrake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audio" Target="../media/cashreg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drumroll.wav"/><Relationship Id="rId18" Type="http://schemas.openxmlformats.org/officeDocument/2006/relationships/audio" Target="../media/whoosh.wav"/><Relationship Id="rId19" Type="http://schemas.openxmlformats.org/officeDocument/2006/relationships/audio" Target="../media/glass.wav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audio" Target="../media/applause.wav"/><Relationship Id="rId8" Type="http://schemas.openxmlformats.org/officeDocument/2006/relationships/audio" Target="../media/applause.wav"/><Relationship Id="rId9" Type="http://schemas.openxmlformats.org/officeDocument/2006/relationships/audio" Target="../media/applause.wav"/><Relationship Id="rId10" Type="http://schemas.openxmlformats.org/officeDocument/2006/relationships/audio" Target="../media/applause.wav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gunshot.wav"/><Relationship Id="rId10" Type="http://schemas.openxmlformats.org/officeDocument/2006/relationships/audio" Target="../media/gunshot.wav"/><Relationship Id="rId11" Type="http://schemas.openxmlformats.org/officeDocument/2006/relationships/audio" Target="../media/gunshot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chimes.wav"/><Relationship Id="rId16" Type="http://schemas.openxmlformats.org/officeDocument/2006/relationships/audio" Target="../media/projctor.wav"/><Relationship Id="rId17" Type="http://schemas.openxmlformats.org/officeDocument/2006/relationships/audio" Target="../media/applause.wav"/><Relationship Id="rId18" Type="http://schemas.openxmlformats.org/officeDocument/2006/relationships/audio" Target="../media/projctor.wav"/><Relationship Id="rId19" Type="http://schemas.openxmlformats.org/officeDocument/2006/relationships/audio" Target="../media/applause.wav"/><Relationship Id="rId20" Type="http://schemas.openxmlformats.org/officeDocument/2006/relationships/audio" Target="../media/projctor.wav"/><Relationship Id="rId21" Type="http://schemas.openxmlformats.org/officeDocument/2006/relationships/audio" Target="../media/applause.wav"/><Relationship Id="rId22" Type="http://schemas.openxmlformats.org/officeDocument/2006/relationships/audio" Target="../media/projctor.wav"/><Relationship Id="rId23" Type="http://schemas.openxmlformats.org/officeDocument/2006/relationships/audio" Target="../media/applause.wav"/><Relationship Id="rId24" Type="http://schemas.openxmlformats.org/officeDocument/2006/relationships/audio" Target="../media/projctor.wav"/><Relationship Id="rId25" Type="http://schemas.openxmlformats.org/officeDocument/2006/relationships/audio" Target="../media/applause.wav"/><Relationship Id="rId26" Type="http://schemas.openxmlformats.org/officeDocument/2006/relationships/audio" Target="../media/projctor.wav"/><Relationship Id="rId27" Type="http://schemas.openxmlformats.org/officeDocument/2006/relationships/audio" Target="../media/applause.wav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8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 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400640" y="304920"/>
            <a:ext cx="187632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The</a:t>
            </a:r>
            <a:endParaRPr b="0" i="1" lang="en-US" sz="72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81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52480" y="1905120"/>
            <a:ext cx="717228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uture Tenses</a:t>
            </a:r>
            <a:endParaRPr b="0" i="1" lang="en-US" sz="72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81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881600" y="3429000"/>
            <a:ext cx="91440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n</a:t>
            </a:r>
            <a:endParaRPr b="0" i="1" lang="en-US" sz="72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81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81400" y="4952880"/>
            <a:ext cx="41148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panish</a:t>
            </a:r>
            <a:endParaRPr b="0" i="1" lang="en-US" sz="72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81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7500"/>
                            </p:stCondLst>
                            <p:childTnLst>
                              <p:par>
                                <p:cTn id="3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3500"/>
                            </p:stCondLst>
                            <p:childTnLst>
                              <p:par>
                                <p:cTn id="5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0"/>
                            </p:stCondLst>
                            <p:childTnLst>
                              <p:par>
                                <p:cTn id="5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6500"/>
                            </p:stCondLst>
                            <p:childTnLst>
                              <p:par>
                                <p:cTn id="6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85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52480" y="152280"/>
            <a:ext cx="723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Irregular verbs in the Conditional Ten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676520" y="1523880"/>
            <a:ext cx="1600200" cy="52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ec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a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o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que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al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e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a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en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1523880"/>
            <a:ext cx="3048120" cy="52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cabría, cabrías,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di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hab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ha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od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ond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quer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sab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sald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tend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vald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vend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971800" y="1523880"/>
            <a:ext cx="2438280" cy="52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to 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to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to do/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to be 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to 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to w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to know (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to go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to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to be w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to 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to say/t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7467480" y="380880"/>
            <a:ext cx="1371600" cy="8892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6934320" y="2666880"/>
            <a:ext cx="2057400" cy="1922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other words, the same as for the Future Tens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3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3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3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3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3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3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3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3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02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09680" y="762120"/>
            <a:ext cx="6400800" cy="472428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 that’s how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uture Tenses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05120" y="914400"/>
            <a:ext cx="6705360" cy="4038480"/>
          </a:xfrm>
          <a:custGeom>
            <a:avLst/>
            <a:gdLst>
              <a:gd name="textAreaLeft" fmla="*/ 0 w 6705360"/>
              <a:gd name="textAreaRight" fmla="*/ 6705720 w 6705360"/>
              <a:gd name="textAreaTop" fmla="*/ 523440 h 4038480"/>
              <a:gd name="textAreaBottom" fmla="*/ 3515040 h 40384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n’t forget to put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he Future Tenses in your Spe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Writing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533520"/>
            <a:ext cx="6858000" cy="5790960"/>
          </a:xfrm>
          <a:custGeom>
            <a:avLst/>
            <a:gdLst>
              <a:gd name="textAreaLeft" fmla="*/ 1565640 w 6858000"/>
              <a:gd name="textAreaRight" fmla="*/ 5292360 w 6858000"/>
              <a:gd name="textAreaTop" fmla="*/ 1321920 h 5790960"/>
              <a:gd name="textAreaBottom" fmla="*/ 4469040 h 5790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ow have a go at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exercises to che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your understand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16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28800" y="205740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Verdana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1371600"/>
            <a:ext cx="5334120" cy="2895480"/>
          </a:xfrm>
          <a:prstGeom prst="wedgeRoundRectCallout">
            <a:avLst>
              <a:gd name="adj1" fmla="val -43518"/>
              <a:gd name="adj2" fmla="val 95287"/>
              <a:gd name="adj3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 achieve a Grade C or above at GCSE, you will have to use the Future Tenses in your Speaking and Wri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1219320"/>
            <a:ext cx="5790960" cy="4038480"/>
          </a:xfrm>
          <a:prstGeom prst="wedgeEllipseCallout">
            <a:avLst>
              <a:gd name="adj1" fmla="val 53041"/>
              <a:gd name="adj2" fmla="val 6875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re are two tenses that you can u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1066680"/>
            <a:ext cx="7010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 am going to 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 will 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 will be pla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3049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3049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In Englis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1143000"/>
            <a:ext cx="4648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The Condi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 would 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 would be pla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7" dur="1" fill="hold"/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3049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Immediate 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10414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In English:  I am going to 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52480" y="165744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The Immediate Future Tense is formed by 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2590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he verb </a:t>
            </a: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25909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+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48320" y="25909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+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3124080"/>
            <a:ext cx="914400" cy="6858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3886200"/>
            <a:ext cx="1371600" cy="25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3886200"/>
            <a:ext cx="1600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ju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iv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38680" y="3124080"/>
            <a:ext cx="990720" cy="6858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67080" y="5715000"/>
            <a:ext cx="4572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herefore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oy a jugar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5715000"/>
            <a:ext cx="4572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 am going to 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5715000"/>
            <a:ext cx="4572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amos a comer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5715000"/>
            <a:ext cx="4572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 are going to 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5715000"/>
            <a:ext cx="4572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an a vivir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67080" y="5715000"/>
            <a:ext cx="4572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y are going to 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 rot="5400000">
            <a:off x="-936360" y="3146400"/>
            <a:ext cx="6172200" cy="488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Have a go at these</a:t>
            </a:r>
            <a:endParaRPr b="0" lang="en-US" sz="4400" spc="1" strike="noStrike">
              <a:ln w="0">
                <a:noFill/>
              </a:ln>
              <a:solidFill>
                <a:srgbClr val="ffcc00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6019920" y="304920"/>
            <a:ext cx="2743200" cy="15238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Mirar = to w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ender = to s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ubir = to cli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304920"/>
            <a:ext cx="3276360" cy="152388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380880"/>
            <a:ext cx="83844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66880" y="838080"/>
            <a:ext cx="91440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66880" y="1295280"/>
            <a:ext cx="83844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380880"/>
            <a:ext cx="129528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2520" y="876240"/>
            <a:ext cx="144756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1371600"/>
            <a:ext cx="99036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057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You (sg) are going to s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90920" y="277344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e is going to cli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34894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y are going to w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420516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 am going to cli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49212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 are going to s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56386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You (pl) are going to w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954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Vas a v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31240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Va a sub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38098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Van a mi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4572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Voy a sub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95480" y="5257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Vamos a v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95480" y="60199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Vais a mi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2480" y="304920"/>
            <a:ext cx="72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The Future Ten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1066680"/>
            <a:ext cx="5791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In English: 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I will pl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I will be pla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21337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Future Tense is formed by 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26668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91120" y="2743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26668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3200400"/>
            <a:ext cx="609840" cy="838080"/>
          </a:xfrm>
          <a:prstGeom prst="upArrow">
            <a:avLst>
              <a:gd name="adj1" fmla="val 50000"/>
              <a:gd name="adj2" fmla="val 3435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4419720"/>
            <a:ext cx="1828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ab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recib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10080" y="3200400"/>
            <a:ext cx="609840" cy="838080"/>
          </a:xfrm>
          <a:prstGeom prst="upArrow">
            <a:avLst>
              <a:gd name="adj1" fmla="val 50000"/>
              <a:gd name="adj2" fmla="val 3435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1964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3680" y="4481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19640" y="4923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05520" y="5365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81480" y="58071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é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05520" y="6248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81680" y="3124080"/>
            <a:ext cx="2133720" cy="12193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eberemos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81680" y="4724280"/>
            <a:ext cx="2133720" cy="114300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will dr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81680" y="3124080"/>
            <a:ext cx="2133720" cy="12193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cibiré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81680" y="4724280"/>
            <a:ext cx="2133720" cy="114300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will 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81680" y="3124080"/>
            <a:ext cx="2133720" cy="12193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ablará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81680" y="4724280"/>
            <a:ext cx="2133720" cy="114300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y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81680" y="3124080"/>
            <a:ext cx="2133720" cy="121932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ink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81680" y="4724280"/>
            <a:ext cx="21337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eber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81680" y="3124080"/>
            <a:ext cx="2133720" cy="121932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ablaré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81680" y="4724280"/>
            <a:ext cx="21337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will s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3124080"/>
            <a:ext cx="2133720" cy="121932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cibiréis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81680" y="4724280"/>
            <a:ext cx="21337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(p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ll 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5" dur="75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5" dur="75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57400" y="228600"/>
            <a:ext cx="6553080" cy="990720"/>
          </a:xfrm>
          <a:prstGeom prst="wedgeRoundRectCallout">
            <a:avLst>
              <a:gd name="adj1" fmla="val 49731"/>
              <a:gd name="adj2" fmla="val 83495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 makes the Future Tense easy to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7400" y="1828800"/>
            <a:ext cx="6553080" cy="685800"/>
          </a:xfrm>
          <a:prstGeom prst="wedgeRoundRectCallout">
            <a:avLst>
              <a:gd name="adj1" fmla="val -45495"/>
              <a:gd name="adj2" fmla="val 105555"/>
              <a:gd name="adj3" fmla="val 16667"/>
            </a:avLst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l infinitives use the same end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7848720" y="2362320"/>
            <a:ext cx="747720" cy="7617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057400" y="3505320"/>
            <a:ext cx="6553080" cy="914400"/>
          </a:xfrm>
          <a:prstGeom prst="wedgeRoundRectCallout">
            <a:avLst>
              <a:gd name="adj1" fmla="val 44208"/>
              <a:gd name="adj2" fmla="val 83162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 makes the Future Tense more trick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7400" y="5105520"/>
            <a:ext cx="6477120" cy="914400"/>
          </a:xfrm>
          <a:prstGeom prst="wedgeRoundRectCallout">
            <a:avLst>
              <a:gd name="adj1" fmla="val -43601"/>
              <a:gd name="adj2" fmla="val 71356"/>
              <a:gd name="adj3" fmla="val 16667"/>
            </a:avLst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re are 12 irregular verbs in the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8229600" y="5334120"/>
            <a:ext cx="762120" cy="1390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95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152280"/>
            <a:ext cx="106704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19520" y="228600"/>
            <a:ext cx="60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Irregular Verbs in the Future Tens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52480" y="1600200"/>
            <a:ext cx="1524240" cy="52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ec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a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o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que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al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e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a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en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1523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Verdana"/>
              </a:rPr>
              <a:t>to 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19684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Verdana"/>
              </a:rPr>
              <a:t>to say / t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2411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Verdana"/>
              </a:rPr>
              <a:t>to have</a:t>
            </a:r>
            <a:r>
              <a:rPr b="0" lang="en-US" sz="2400" spc="-1" strike="noStrike">
                <a:solidFill>
                  <a:srgbClr val="00ffff"/>
                </a:solidFill>
                <a:latin typeface="Verdana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6720" y="2819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Verdana"/>
              </a:rPr>
              <a:t>to do / 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76720" y="3276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Verdana"/>
              </a:rPr>
              <a:t>to be 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37339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Verdana"/>
              </a:rPr>
              <a:t>to 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76720" y="41148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Verdana"/>
              </a:rPr>
              <a:t>to w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4572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Verdana"/>
              </a:rPr>
              <a:t>to know (a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76720" y="50292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Verdana"/>
              </a:rPr>
              <a:t>to go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5486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Verdana"/>
              </a:rPr>
              <a:t>to have</a:t>
            </a:r>
            <a:r>
              <a:rPr b="0" lang="en-US" sz="2400" spc="-1" strike="noStrike">
                <a:solidFill>
                  <a:srgbClr val="00ffff"/>
                </a:solidFill>
                <a:latin typeface="Verdana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6720" y="5867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Verdana"/>
              </a:rPr>
              <a:t>to be w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76720" y="6324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Verdana"/>
              </a:rPr>
              <a:t>to 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981080" y="304920"/>
            <a:ext cx="762120" cy="10666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867280" y="1523880"/>
            <a:ext cx="2895840" cy="5105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Verdana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Tener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m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o own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o poss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You will use th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erb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Haber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i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uxiliary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elping” ver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You will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it very rar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1600200"/>
            <a:ext cx="2971800" cy="52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cabré, cabrás,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di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hab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ha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od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ond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quer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sab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sald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tend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vald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vend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1981080"/>
            <a:ext cx="1676520" cy="445104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endings are the same as for the regular verbs, but a future stem is used instead of the infinitiv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3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3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3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3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25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8120" y="228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 practice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828800" y="1017720"/>
            <a:ext cx="1538280" cy="52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ec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a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o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que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al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e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a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en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8120" y="1017720"/>
            <a:ext cx="1371600" cy="52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cab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di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hab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ha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od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ond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quer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sab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sald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tend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vald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vend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2362320" y="228600"/>
            <a:ext cx="699840" cy="7160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343400" y="914400"/>
            <a:ext cx="4648320" cy="5562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8458200" y="5867280"/>
            <a:ext cx="552600" cy="8254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419720" y="990720"/>
            <a:ext cx="4190760" cy="490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e will k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e will s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ou (sg) will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y will be 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ou (pl) will go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95680" y="1447920"/>
            <a:ext cx="266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Lucida Calligraphy"/>
              </a:rPr>
              <a:t>sabr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2552760"/>
            <a:ext cx="2133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Lucida Calligraphy"/>
              </a:rPr>
              <a:t>dire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95680" y="3657600"/>
            <a:ext cx="274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Lucida Calligraphy"/>
              </a:rPr>
              <a:t>tendr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95680" y="4762440"/>
            <a:ext cx="304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Lucida Calligraphy"/>
              </a:rPr>
              <a:t>podr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95680" y="5867280"/>
            <a:ext cx="2819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Lucida Calligraphy"/>
              </a:rPr>
              <a:t>saldré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4" dur="75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1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48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52480" y="304920"/>
            <a:ext cx="72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The Conditional Ten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52480" y="1143000"/>
            <a:ext cx="563904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In English: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I would 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I would be pla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2362320"/>
            <a:ext cx="4876920" cy="3124080"/>
          </a:xfrm>
          <a:prstGeom prst="wedgeEllipseCallout">
            <a:avLst>
              <a:gd name="adj1" fmla="val -53287"/>
              <a:gd name="adj2" fmla="val 604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Conditional Tense is formed in a similar way to the Future Ten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14600" y="2133720"/>
            <a:ext cx="4876920" cy="3276360"/>
          </a:xfrm>
          <a:prstGeom prst="wedgeEllipseCallout">
            <a:avLst>
              <a:gd name="adj1" fmla="val 46092"/>
              <a:gd name="adj2" fmla="val 7301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Conditional Tense is formed using the infinitive and end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2286000" y="2362320"/>
          <a:ext cx="5424480" cy="32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2362320"/>
                    <a:ext cx="5424480" cy="32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1752480" y="21337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14800" y="2133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21337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90920" y="2743200"/>
            <a:ext cx="609480" cy="762120"/>
          </a:xfrm>
          <a:prstGeom prst="upArrow">
            <a:avLst>
              <a:gd name="adj1" fmla="val 50000"/>
              <a:gd name="adj2" fmla="val 3126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34120" y="2666880"/>
            <a:ext cx="457200" cy="762120"/>
          </a:xfrm>
          <a:prstGeom prst="upArrow">
            <a:avLst>
              <a:gd name="adj1" fmla="val 50000"/>
              <a:gd name="adj2" fmla="val 4167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57400" y="3581280"/>
            <a:ext cx="1676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scu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l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xis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3429000"/>
            <a:ext cx="12193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í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í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í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781680" y="2971800"/>
            <a:ext cx="1981440" cy="2654280"/>
          </a:xfrm>
          <a:prstGeom prst="rect">
            <a:avLst/>
          </a:prstGeom>
          <a:solidFill>
            <a:srgbClr val="ffff00"/>
          </a:solidFill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Verdana"/>
              </a:rPr>
              <a:t>These endings are the same for all verbs in the Conditional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629400" y="2971800"/>
            <a:ext cx="2133720" cy="12193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eerí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629400" y="4724280"/>
            <a:ext cx="2133720" cy="129564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would read 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/she w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629400" y="2971800"/>
            <a:ext cx="2133720" cy="12193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scucharías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29400" y="4724280"/>
            <a:ext cx="2133720" cy="129564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ou (s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i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629400" y="2971800"/>
            <a:ext cx="2133720" cy="12193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istirí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629400" y="4724280"/>
            <a:ext cx="2133720" cy="129564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w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629400" y="2971800"/>
            <a:ext cx="2133720" cy="121932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(p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629400" y="4724280"/>
            <a:ext cx="2133720" cy="1295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scucharí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29400" y="2971800"/>
            <a:ext cx="2133720" cy="121932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y w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629400" y="4724280"/>
            <a:ext cx="2133720" cy="1295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eerí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629400" y="2971800"/>
            <a:ext cx="2133720" cy="121932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would exist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/she w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29400" y="4724280"/>
            <a:ext cx="2133720" cy="1295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isti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7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3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3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3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3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9T14:16:00Z</dcterms:created>
  <dc:creator>Paul Seccombe</dc:creator>
  <dc:description/>
  <dc:language>en-US</dc:language>
  <cp:lastModifiedBy>P.Seccombe</cp:lastModifiedBy>
  <dcterms:modified xsi:type="dcterms:W3CDTF">2007-02-07T20:59:21Z</dcterms:modified>
  <cp:revision>19</cp:revision>
  <dc:subject/>
  <dc:title>PowerPoint Presentation</dc:title>
</cp:coreProperties>
</file>