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ype.wav" ContentType="audio/x-wav"/>
  <Override PartName="/ppt/media/applause.wav" ContentType="audio/x-wav"/>
  <Override PartName="/ppt/media/glass.wav" ContentType="audio/x-wav"/>
  <Override PartName="/ppt/media/image5.wmf" ContentType="image/x-wmf"/>
  <Override PartName="/ppt/media/clap.wav" ContentType="audio/x-wav"/>
  <Override PartName="/ppt/media/chimes.wav" ContentType="audio/x-wav"/>
  <Override PartName="/ppt/media/carbrake.wav" ContentType="audio/x-wav"/>
  <Override PartName="/ppt/media/whoosh.wav" ContentType="audio/x-wav"/>
  <Override PartName="/ppt/media/image6.wmf" ContentType="image/x-wmf"/>
  <Override PartName="/ppt/media/drumroll.wav" ContentType="audio/x-wav"/>
  <Override PartName="/ppt/media/image4.wmf" ContentType="image/x-wmf"/>
  <Override PartName="/ppt/media/image7.png" ContentType="image/png"/>
  <Override PartName="/ppt/media/image1.jpeg" ContentType="image/jpeg"/>
  <Override PartName="/ppt/media/image3.wmf" ContentType="image/x-wmf"/>
  <Override PartName="/ppt/media/image2.wmf" ContentType="image/x-wmf"/>
  <Override PartName="/ppt/media/gunshot.wav" ContentType="audio/x-wav"/>
  <Override PartName="/ppt/media/camera.wav" ContentType="audio/x-wav"/>
  <Override PartName="/ppt/media/projctor.wav" ContentType="audio/x-wav"/>
  <Override PartName="/ppt/media/image8.wmf" ContentType="image/x-wmf"/>
  <Override PartName="/ppt/media/cashreg.wav" ContentType="audio/x-wav"/>
  <Override PartName="/ppt/media/laser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EC72-0806-4ACE-B21D-79FA667C5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636A-66AC-47CD-B042-3E301ED3D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0CBB-B19E-4756-AF5B-02B072B60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F0F4-67F0-49D4-9738-FD05B8F8F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9A3C-ACC1-4E7F-A425-A6CC34006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10CF-8ADE-4C90-B36A-447CD6035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83C9-61A6-4218-BCFA-37407C22F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04C0-7CB9-40A6-B289-49B463A84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85BA-ACA4-4446-BA03-4EB8EEFE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7476-D6F5-4B97-849B-3C3580B4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5BDB-DDD3-4771-8BD5-74A7F07F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F352-6CDD-428D-A9D7-10202F01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830F8-32AF-4ED1-BDD1-C0DA844289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shreg.wav"/><Relationship Id="rId3" Type="http://schemas.openxmlformats.org/officeDocument/2006/relationships/audio" Target="../media/camera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amera.wav"/><Relationship Id="rId5" Type="http://schemas.openxmlformats.org/officeDocument/2006/relationships/audio" Target="../media/cashreg.wav"/><Relationship Id="rId6" Type="http://schemas.openxmlformats.org/officeDocument/2006/relationships/audio" Target="../media/projctor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aser.wav"/><Relationship Id="rId3" Type="http://schemas.openxmlformats.org/officeDocument/2006/relationships/audio" Target="../media/whoosh.wav"/><Relationship Id="rId4" Type="http://schemas.openxmlformats.org/officeDocument/2006/relationships/audio" Target="../media/gunshot.wav"/><Relationship Id="rId5" Type="http://schemas.openxmlformats.org/officeDocument/2006/relationships/audio" Target="../media/gunshot.wav"/><Relationship Id="rId6" Type="http://schemas.openxmlformats.org/officeDocument/2006/relationships/audio" Target="../media/gunshot.wav"/><Relationship Id="rId7" Type="http://schemas.openxmlformats.org/officeDocument/2006/relationships/audio" Target="../media/carbrake.wav"/><Relationship Id="rId8" Type="http://schemas.openxmlformats.org/officeDocument/2006/relationships/audio" Target="../media/clap.wav"/><Relationship Id="rId9" Type="http://schemas.openxmlformats.org/officeDocument/2006/relationships/audio" Target="../media/glass.wav"/><Relationship Id="rId10" Type="http://schemas.openxmlformats.org/officeDocument/2006/relationships/audio" Target="../media/carbrake.wav"/><Relationship Id="rId11" Type="http://schemas.openxmlformats.org/officeDocument/2006/relationships/audio" Target="../media/glas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glass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cashreg.wav"/><Relationship Id="rId11" Type="http://schemas.openxmlformats.org/officeDocument/2006/relationships/audio" Target="../media/laser.wav"/><Relationship Id="rId12" Type="http://schemas.openxmlformats.org/officeDocument/2006/relationships/audio" Target="../media/applause.wav"/><Relationship Id="rId13" Type="http://schemas.openxmlformats.org/officeDocument/2006/relationships/audio" Target="../media/laser.wav"/><Relationship Id="rId14" Type="http://schemas.openxmlformats.org/officeDocument/2006/relationships/audio" Target="../media/applause.wav"/><Relationship Id="rId15" Type="http://schemas.openxmlformats.org/officeDocument/2006/relationships/audio" Target="../media/laser.wav"/><Relationship Id="rId16" Type="http://schemas.openxmlformats.org/officeDocument/2006/relationships/audio" Target="../media/applause.wav"/><Relationship Id="rId17" Type="http://schemas.openxmlformats.org/officeDocument/2006/relationships/audio" Target="../media/laser.wav"/><Relationship Id="rId18" Type="http://schemas.openxmlformats.org/officeDocument/2006/relationships/audio" Target="../media/applause.wav"/><Relationship Id="rId19" Type="http://schemas.openxmlformats.org/officeDocument/2006/relationships/audio" Target="../media/laser.wav"/><Relationship Id="rId20" Type="http://schemas.openxmlformats.org/officeDocument/2006/relationships/audio" Target="../media/applause.wav"/><Relationship Id="rId21" Type="http://schemas.openxmlformats.org/officeDocument/2006/relationships/audio" Target="../media/laser.wav"/><Relationship Id="rId22" Type="http://schemas.openxmlformats.org/officeDocument/2006/relationships/audio" Target="../media/applause.wav"/><Relationship Id="rId2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gunshot.wav"/><Relationship Id="rId12" Type="http://schemas.openxmlformats.org/officeDocument/2006/relationships/audio" Target="../media/gunshot.wav"/><Relationship Id="rId13" Type="http://schemas.openxmlformats.org/officeDocument/2006/relationships/audio" Target="../media/gunshot.wav"/><Relationship Id="rId14" Type="http://schemas.openxmlformats.org/officeDocument/2006/relationships/audio" Target="../media/gunshot.wav"/><Relationship Id="rId15" Type="http://schemas.openxmlformats.org/officeDocument/2006/relationships/audio" Target="../media/gunshot.wav"/><Relationship Id="rId16" Type="http://schemas.openxmlformats.org/officeDocument/2006/relationships/audio" Target="../media/gunshot.wav"/><Relationship Id="rId17" Type="http://schemas.openxmlformats.org/officeDocument/2006/relationships/audio" Target="../media/projctor.wav"/><Relationship Id="rId18" Type="http://schemas.openxmlformats.org/officeDocument/2006/relationships/audio" Target="../media/applause.wav"/><Relationship Id="rId19" Type="http://schemas.openxmlformats.org/officeDocument/2006/relationships/audio" Target="../media/projctor.wav"/><Relationship Id="rId20" Type="http://schemas.openxmlformats.org/officeDocument/2006/relationships/audio" Target="../media/applause.wav"/><Relationship Id="rId21" Type="http://schemas.openxmlformats.org/officeDocument/2006/relationships/audio" Target="../media/projctor.wav"/><Relationship Id="rId22" Type="http://schemas.openxmlformats.org/officeDocument/2006/relationships/audio" Target="../media/applause.wav"/><Relationship Id="rId23" Type="http://schemas.openxmlformats.org/officeDocument/2006/relationships/audio" Target="../media/projctor.wav"/><Relationship Id="rId24" Type="http://schemas.openxmlformats.org/officeDocument/2006/relationships/audio" Target="../media/applause.wav"/><Relationship Id="rId25" Type="http://schemas.openxmlformats.org/officeDocument/2006/relationships/audio" Target="../media/projctor.wav"/><Relationship Id="rId26" Type="http://schemas.openxmlformats.org/officeDocument/2006/relationships/audio" Target="../media/applause.wav"/><Relationship Id="rId27" Type="http://schemas.openxmlformats.org/officeDocument/2006/relationships/audio" Target="../media/projctor.wav"/><Relationship Id="rId28" Type="http://schemas.openxmlformats.org/officeDocument/2006/relationships/audio" Target="../media/applause.wav"/><Relationship Id="rId2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audio" Target="../media/glass.wav"/><Relationship Id="rId5" Type="http://schemas.openxmlformats.org/officeDocument/2006/relationships/audio" Target="../media/glass.wav"/><Relationship Id="rId6" Type="http://schemas.openxmlformats.org/officeDocument/2006/relationships/audio" Target="../media/clap.wav"/><Relationship Id="rId7" Type="http://schemas.openxmlformats.org/officeDocument/2006/relationships/audio" Target="../media/glass.wav"/><Relationship Id="rId8" Type="http://schemas.openxmlformats.org/officeDocument/2006/relationships/audio" Target="../media/glass.wav"/><Relationship Id="rId9" Type="http://schemas.openxmlformats.org/officeDocument/2006/relationships/audio" Target="../media/carbrake.wav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audio" Target="../media/cashreg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audio" Target="../media/whoosh.wav"/><Relationship Id="rId15" Type="http://schemas.openxmlformats.org/officeDocument/2006/relationships/audio" Target="../media/whoosh.wav"/><Relationship Id="rId16" Type="http://schemas.openxmlformats.org/officeDocument/2006/relationships/audio" Target="../media/whoosh.wav"/><Relationship Id="rId17" Type="http://schemas.openxmlformats.org/officeDocument/2006/relationships/audio" Target="../media/drumroll.wav"/><Relationship Id="rId18" Type="http://schemas.openxmlformats.org/officeDocument/2006/relationships/audio" Target="../media/whoosh.wav"/><Relationship Id="rId19" Type="http://schemas.openxmlformats.org/officeDocument/2006/relationships/audio" Target="../media/glass.wav"/><Relationship Id="rId2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audio" Target="../media/chimes.wav"/><Relationship Id="rId5" Type="http://schemas.openxmlformats.org/officeDocument/2006/relationships/audio" Target="../media/type.wav"/><Relationship Id="rId6" Type="http://schemas.openxmlformats.org/officeDocument/2006/relationships/audio" Target="../media/chimes.wav"/><Relationship Id="rId7" Type="http://schemas.openxmlformats.org/officeDocument/2006/relationships/audio" Target="../media/applause.wav"/><Relationship Id="rId8" Type="http://schemas.openxmlformats.org/officeDocument/2006/relationships/audio" Target="../media/applause.wav"/><Relationship Id="rId9" Type="http://schemas.openxmlformats.org/officeDocument/2006/relationships/audio" Target="../media/applause.wav"/><Relationship Id="rId10" Type="http://schemas.openxmlformats.org/officeDocument/2006/relationships/audio" Target="../media/applause.wav"/><Relationship Id="rId11" Type="http://schemas.openxmlformats.org/officeDocument/2006/relationships/audio" Target="../media/applause.wav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gunshot.wav"/><Relationship Id="rId10" Type="http://schemas.openxmlformats.org/officeDocument/2006/relationships/audio" Target="../media/gunshot.wav"/><Relationship Id="rId11" Type="http://schemas.openxmlformats.org/officeDocument/2006/relationships/audio" Target="../media/gunshot.wav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audio" Target="../media/whoosh.wav"/><Relationship Id="rId15" Type="http://schemas.openxmlformats.org/officeDocument/2006/relationships/audio" Target="../media/chimes.wav"/><Relationship Id="rId16" Type="http://schemas.openxmlformats.org/officeDocument/2006/relationships/audio" Target="../media/projctor.wav"/><Relationship Id="rId17" Type="http://schemas.openxmlformats.org/officeDocument/2006/relationships/audio" Target="../media/applause.wav"/><Relationship Id="rId18" Type="http://schemas.openxmlformats.org/officeDocument/2006/relationships/audio" Target="../media/projctor.wav"/><Relationship Id="rId19" Type="http://schemas.openxmlformats.org/officeDocument/2006/relationships/audio" Target="../media/applause.wav"/><Relationship Id="rId20" Type="http://schemas.openxmlformats.org/officeDocument/2006/relationships/audio" Target="../media/projctor.wav"/><Relationship Id="rId21" Type="http://schemas.openxmlformats.org/officeDocument/2006/relationships/audio" Target="../media/applause.wav"/><Relationship Id="rId22" Type="http://schemas.openxmlformats.org/officeDocument/2006/relationships/audio" Target="../media/projctor.wav"/><Relationship Id="rId23" Type="http://schemas.openxmlformats.org/officeDocument/2006/relationships/audio" Target="../media/applause.wav"/><Relationship Id="rId24" Type="http://schemas.openxmlformats.org/officeDocument/2006/relationships/audio" Target="../media/projctor.wav"/><Relationship Id="rId25" Type="http://schemas.openxmlformats.org/officeDocument/2006/relationships/audio" Target="../media/applause.wav"/><Relationship Id="rId26" Type="http://schemas.openxmlformats.org/officeDocument/2006/relationships/audio" Target="../media/projctor.wav"/><Relationship Id="rId27" Type="http://schemas.openxmlformats.org/officeDocument/2006/relationships/audio" Target="../media/applause.wav"/><Relationship Id="rId2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304920"/>
            <a:ext cx="144792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380880"/>
            <a:ext cx="1295280" cy="60199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752480"/>
            <a:ext cx="1143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990720" cy="990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380880" y="28954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828800"/>
            <a:ext cx="99072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4419720"/>
            <a:ext cx="114300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44956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F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86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6553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 CAS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400640" y="304920"/>
            <a:ext cx="1876320" cy="12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The</a:t>
            </a:r>
            <a:endParaRPr b="0" i="1" lang="en-US" sz="72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81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752480" y="1905120"/>
            <a:ext cx="7172280" cy="12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uture Tenses</a:t>
            </a:r>
            <a:endParaRPr b="0" i="1" lang="en-US" sz="72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81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881600" y="3429000"/>
            <a:ext cx="914400" cy="12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in</a:t>
            </a:r>
            <a:endParaRPr b="0" i="1" lang="en-US" sz="72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81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281400" y="4952880"/>
            <a:ext cx="41148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panish</a:t>
            </a:r>
            <a:endParaRPr b="0" i="1" lang="en-US" sz="72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81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500"/>
                            </p:stCondLst>
                            <p:childTnLst>
                              <p:par>
                                <p:cTn id="20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7500"/>
                            </p:stCondLst>
                            <p:childTnLst>
                              <p:par>
                                <p:cTn id="30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5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500"/>
                            </p:stCondLst>
                            <p:childTnLst>
                              <p:par>
                                <p:cTn id="40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3500"/>
                            </p:stCondLst>
                            <p:childTnLst>
                              <p:par>
                                <p:cTn id="5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0"/>
                            </p:stCondLst>
                            <p:childTnLst>
                              <p:par>
                                <p:cTn id="5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6500"/>
                            </p:stCondLst>
                            <p:childTnLst>
                              <p:par>
                                <p:cTn id="66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52280" y="304920"/>
            <a:ext cx="144792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28600" y="380880"/>
            <a:ext cx="1295280" cy="60199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04920" y="1752480"/>
            <a:ext cx="1143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990720" cy="990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85" name=""/>
          <p:cNvSpPr/>
          <p:nvPr/>
        </p:nvSpPr>
        <p:spPr>
          <a:xfrm>
            <a:off x="380880" y="28954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0880" y="1828800"/>
            <a:ext cx="99072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04920" y="4419720"/>
            <a:ext cx="114300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0880" y="44956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F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52280" y="6553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CAS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52480" y="152280"/>
            <a:ext cx="7239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Verdana"/>
              </a:rPr>
              <a:t>Irregular verbs in the Conditional Ten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676520" y="1523880"/>
            <a:ext cx="1600200" cy="52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ca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dec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ha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ha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po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po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que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a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al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te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va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ven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10080" y="1523880"/>
            <a:ext cx="3048120" cy="52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cabría, cabrías, 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di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hab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ha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pod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pond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quer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sab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sald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tend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vald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vend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971800" y="1523880"/>
            <a:ext cx="2438280" cy="52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to 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to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to do/m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to be 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to 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to w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to know (f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to go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to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to be wo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to 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to say/t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7467480" y="380880"/>
            <a:ext cx="1371600" cy="88920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6934320" y="2666880"/>
            <a:ext cx="2057400" cy="19227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other words, the same as for the Future Tens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3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3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3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3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3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3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3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3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280" y="304920"/>
            <a:ext cx="144792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28600" y="380880"/>
            <a:ext cx="1295280" cy="60199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4920" y="1752480"/>
            <a:ext cx="1143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990720" cy="990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302" name=""/>
          <p:cNvSpPr/>
          <p:nvPr/>
        </p:nvSpPr>
        <p:spPr>
          <a:xfrm>
            <a:off x="380880" y="28954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0880" y="1828800"/>
            <a:ext cx="99072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4920" y="4419720"/>
            <a:ext cx="114300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0880" y="44956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F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2280" y="6553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CAS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209680" y="762120"/>
            <a:ext cx="6400800" cy="4724280"/>
          </a:xfrm>
          <a:prstGeom prst="irregularSeal1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o that’s how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uture Tenses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05120" y="914400"/>
            <a:ext cx="6705360" cy="4038480"/>
          </a:xfrm>
          <a:custGeom>
            <a:avLst/>
            <a:gdLst>
              <a:gd name="textAreaLeft" fmla="*/ 0 w 6705360"/>
              <a:gd name="textAreaRight" fmla="*/ 6705720 w 6705360"/>
              <a:gd name="textAreaTop" fmla="*/ 523440 h 4038480"/>
              <a:gd name="textAreaBottom" fmla="*/ 3515040 h 40384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n’t forget to put 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he Future Tenses in your Spea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Writing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533520"/>
            <a:ext cx="6858000" cy="5790960"/>
          </a:xfrm>
          <a:custGeom>
            <a:avLst/>
            <a:gdLst>
              <a:gd name="textAreaLeft" fmla="*/ 1565640 w 6858000"/>
              <a:gd name="textAreaRight" fmla="*/ 5292360 w 6858000"/>
              <a:gd name="textAreaTop" fmla="*/ 1321920 h 5790960"/>
              <a:gd name="textAreaBottom" fmla="*/ 4469040 h 5790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Now have a go at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exercises to che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your understand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5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52280" y="304920"/>
            <a:ext cx="144792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28600" y="380880"/>
            <a:ext cx="1295280" cy="60199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04920" y="1752480"/>
            <a:ext cx="1143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990720" cy="990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316" name=""/>
          <p:cNvSpPr/>
          <p:nvPr/>
        </p:nvSpPr>
        <p:spPr>
          <a:xfrm>
            <a:off x="380880" y="28954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0880" y="1828800"/>
            <a:ext cx="99072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04920" y="4419720"/>
            <a:ext cx="114300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0880" y="44956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F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52280" y="6553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CAS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828800" y="2057400"/>
            <a:ext cx="70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Verdana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304920"/>
            <a:ext cx="144792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380880"/>
            <a:ext cx="1295280" cy="60199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1752480"/>
            <a:ext cx="1143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990720" cy="990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380880" y="28954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828800"/>
            <a:ext cx="99072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4419720"/>
            <a:ext cx="114300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44956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F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6553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CAS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438280" y="1371600"/>
            <a:ext cx="5334120" cy="2895480"/>
          </a:xfrm>
          <a:prstGeom prst="wedgeRoundRectCallout">
            <a:avLst>
              <a:gd name="adj1" fmla="val -43518"/>
              <a:gd name="adj2" fmla="val 95287"/>
              <a:gd name="adj3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 achieve a Grade C or above at GCSE, you will have to use the Future Tenses in your Speaking and Wri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62320" y="1219320"/>
            <a:ext cx="5790960" cy="4038480"/>
          </a:xfrm>
          <a:prstGeom prst="wedgeEllipseCallout">
            <a:avLst>
              <a:gd name="adj1" fmla="val 53041"/>
              <a:gd name="adj2" fmla="val 6875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re are two tenses that you can u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28800" y="1066680"/>
            <a:ext cx="70102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Future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 am going to 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 will 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 will be play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52480" y="3049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28800" y="3049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In Englis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828800" y="1143000"/>
            <a:ext cx="46483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The Condi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 would 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 would be play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7" dur="1" fill="hold"/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304920"/>
            <a:ext cx="144792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380880"/>
            <a:ext cx="1295280" cy="60199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1752480"/>
            <a:ext cx="1143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990720" cy="990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80" name=""/>
          <p:cNvSpPr/>
          <p:nvPr/>
        </p:nvSpPr>
        <p:spPr>
          <a:xfrm>
            <a:off x="380880" y="28954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1828800"/>
            <a:ext cx="99072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4419720"/>
            <a:ext cx="114300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44956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F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6553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CAS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52480" y="30492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Immediate Future T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52480" y="10414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In English:  I am going to 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752480" y="165744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The Immediate Future Tense is formed by u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52480" y="25909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The verb </a:t>
            </a: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9880" y="259092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+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48320" y="25909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+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438280" y="3124080"/>
            <a:ext cx="914400" cy="6858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09680" y="3886200"/>
            <a:ext cx="1371600" cy="25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vo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va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v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v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3848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10080" y="3886200"/>
            <a:ext cx="1600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ju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c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viv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38680" y="3124080"/>
            <a:ext cx="990720" cy="6858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67080" y="5715000"/>
            <a:ext cx="457200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Therefore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voy a jugar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267080" y="5715000"/>
            <a:ext cx="457200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 am going to 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67080" y="5715000"/>
            <a:ext cx="457200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vamos a comer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5715000"/>
            <a:ext cx="457200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e are going to 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67080" y="5715000"/>
            <a:ext cx="457200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Van a vivir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67080" y="5715000"/>
            <a:ext cx="457200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y are going to l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3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304920"/>
            <a:ext cx="144792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380880"/>
            <a:ext cx="1295280" cy="60199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1752480"/>
            <a:ext cx="1143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990720" cy="990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380880" y="28954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1828800"/>
            <a:ext cx="99072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4419720"/>
            <a:ext cx="114300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44956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F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2280" y="6553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CAS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 rot="5400000">
            <a:off x="-936360" y="3146400"/>
            <a:ext cx="6172200" cy="488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0"/>
                <a:gd name="adj2" fmla="val 18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Have a go at these</a:t>
            </a:r>
            <a:endParaRPr b="0" lang="en-US" sz="4400" spc="1" strike="noStrike">
              <a:ln w="0">
                <a:noFill/>
              </a:ln>
              <a:solidFill>
                <a:srgbClr val="ffcc00"/>
              </a:soli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4" name=""/>
          <p:cNvSpPr/>
          <p:nvPr/>
        </p:nvSpPr>
        <p:spPr>
          <a:xfrm>
            <a:off x="6019920" y="304920"/>
            <a:ext cx="2743200" cy="15238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Mirar = to w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Vender = to s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ubir = to cli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90920" y="304920"/>
            <a:ext cx="3276360" cy="1523880"/>
          </a:xfrm>
          <a:prstGeom prst="rect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66880" y="380880"/>
            <a:ext cx="83844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vo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66880" y="838080"/>
            <a:ext cx="91440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66880" y="1295280"/>
            <a:ext cx="83844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62520" y="380880"/>
            <a:ext cx="129528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va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62520" y="876240"/>
            <a:ext cx="144756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v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62520" y="1371600"/>
            <a:ext cx="99036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0574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You (sg) are going to s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90920" y="277344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e is going to cli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90920" y="34894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y are going to w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90920" y="420516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 am going to cli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90920" y="49212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e are going to s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90920" y="56386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You (pl) are going to w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954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Vas a v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95480" y="31240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Va a sub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95480" y="38098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Van a mir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95480" y="45720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Voy a sub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95480" y="52578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Vamos a v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95480" y="60199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Vais a mir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304920"/>
            <a:ext cx="144792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380880"/>
            <a:ext cx="1295280" cy="60199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1752480"/>
            <a:ext cx="1143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990720" cy="990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40" name=""/>
          <p:cNvSpPr/>
          <p:nvPr/>
        </p:nvSpPr>
        <p:spPr>
          <a:xfrm>
            <a:off x="380880" y="28954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1828800"/>
            <a:ext cx="99072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4419720"/>
            <a:ext cx="114300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44956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F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6553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CAS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752480" y="304920"/>
            <a:ext cx="723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Verdana"/>
              </a:rPr>
              <a:t>The Future Ten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1066680"/>
            <a:ext cx="5791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In English: </a:t>
            </a: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I will pl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I will be play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828800" y="21337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Future Tense is formed by u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05120" y="26668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191120" y="2743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724280" y="26668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666880" y="3200400"/>
            <a:ext cx="609840" cy="838080"/>
          </a:xfrm>
          <a:prstGeom prst="upArrow">
            <a:avLst>
              <a:gd name="adj1" fmla="val 50000"/>
              <a:gd name="adj2" fmla="val 3435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57400" y="4419720"/>
            <a:ext cx="1828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hab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be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recib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10080" y="3200400"/>
            <a:ext cx="609840" cy="838080"/>
          </a:xfrm>
          <a:prstGeom prst="upArrow">
            <a:avLst>
              <a:gd name="adj1" fmla="val 50000"/>
              <a:gd name="adj2" fmla="val 3435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19640" y="4038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43680" y="44816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19640" y="4923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105520" y="53658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e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181480" y="58071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é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105520" y="62485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781680" y="3124080"/>
            <a:ext cx="2133720" cy="12193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eberemos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781680" y="4724280"/>
            <a:ext cx="2133720" cy="1143000"/>
          </a:xfrm>
          <a:prstGeom prst="rect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 will dr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81680" y="3124080"/>
            <a:ext cx="2133720" cy="12193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cibiré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81680" y="4724280"/>
            <a:ext cx="2133720" cy="1143000"/>
          </a:xfrm>
          <a:prstGeom prst="rect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will 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781680" y="3124080"/>
            <a:ext cx="2133720" cy="12193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Hablarán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81680" y="4724280"/>
            <a:ext cx="2133720" cy="1143000"/>
          </a:xfrm>
          <a:prstGeom prst="rect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y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81680" y="3124080"/>
            <a:ext cx="2133720" cy="1219320"/>
          </a:xfrm>
          <a:prstGeom prst="rect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rink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81680" y="4724280"/>
            <a:ext cx="213372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eber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781680" y="3124080"/>
            <a:ext cx="2133720" cy="1219320"/>
          </a:xfrm>
          <a:prstGeom prst="rect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Hablaré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781680" y="4724280"/>
            <a:ext cx="213372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will sp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3124080"/>
            <a:ext cx="2133720" cy="1219320"/>
          </a:xfrm>
          <a:prstGeom prst="rect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cibiréis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81680" y="4724280"/>
            <a:ext cx="213372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ou (p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ll 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3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3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5" dur="75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5" dur="75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1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2280" y="304920"/>
            <a:ext cx="144792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380880"/>
            <a:ext cx="1295280" cy="60199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04920" y="1752480"/>
            <a:ext cx="1143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990720" cy="990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78" name=""/>
          <p:cNvSpPr/>
          <p:nvPr/>
        </p:nvSpPr>
        <p:spPr>
          <a:xfrm>
            <a:off x="380880" y="28954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1828800"/>
            <a:ext cx="99072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4419720"/>
            <a:ext cx="114300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44956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F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2280" y="6553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CAS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057400" y="228600"/>
            <a:ext cx="6553080" cy="990720"/>
          </a:xfrm>
          <a:prstGeom prst="wedgeRoundRectCallout">
            <a:avLst>
              <a:gd name="adj1" fmla="val 49731"/>
              <a:gd name="adj2" fmla="val 83495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at makes the Future Tense easy to us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57400" y="1828800"/>
            <a:ext cx="6553080" cy="685800"/>
          </a:xfrm>
          <a:prstGeom prst="wedgeRoundRectCallout">
            <a:avLst>
              <a:gd name="adj1" fmla="val -45495"/>
              <a:gd name="adj2" fmla="val 105555"/>
              <a:gd name="adj3" fmla="val 16667"/>
            </a:avLst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ll infinitives use the same end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7848720" y="2362320"/>
            <a:ext cx="747720" cy="7617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057400" y="3505320"/>
            <a:ext cx="6553080" cy="914400"/>
          </a:xfrm>
          <a:prstGeom prst="wedgeRoundRectCallout">
            <a:avLst>
              <a:gd name="adj1" fmla="val 44208"/>
              <a:gd name="adj2" fmla="val 83162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at makes the Future Tense more trick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57400" y="5105520"/>
            <a:ext cx="6477120" cy="914400"/>
          </a:xfrm>
          <a:prstGeom prst="wedgeRoundRectCallout">
            <a:avLst>
              <a:gd name="adj1" fmla="val -43601"/>
              <a:gd name="adj2" fmla="val 71356"/>
              <a:gd name="adj3" fmla="val 16667"/>
            </a:avLst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re are 12 irregular verbs in the Future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8229600" y="5334120"/>
            <a:ext cx="762120" cy="1390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2280" y="304920"/>
            <a:ext cx="144792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380880"/>
            <a:ext cx="1295280" cy="60199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1752480"/>
            <a:ext cx="1143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990720" cy="990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95" name=""/>
          <p:cNvSpPr/>
          <p:nvPr/>
        </p:nvSpPr>
        <p:spPr>
          <a:xfrm>
            <a:off x="380880" y="28954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1828800"/>
            <a:ext cx="99072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4419720"/>
            <a:ext cx="114300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0880" y="44956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F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2280" y="6553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CAS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752480" y="152280"/>
            <a:ext cx="1067040" cy="1371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819520" y="228600"/>
            <a:ext cx="60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Verdana"/>
              </a:rPr>
              <a:t>Irregular Verbs in the Future Tens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752480" y="1600200"/>
            <a:ext cx="1524240" cy="52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ca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dec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ha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ha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po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po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que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a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al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te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va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ven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1523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Verdana"/>
              </a:rPr>
              <a:t>to 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76720" y="19684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Verdana"/>
              </a:rPr>
              <a:t>to say / t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76720" y="24112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Verdana"/>
              </a:rPr>
              <a:t>to have</a:t>
            </a:r>
            <a:r>
              <a:rPr b="0" lang="en-US" sz="2400" spc="-1" strike="noStrike">
                <a:solidFill>
                  <a:srgbClr val="00ffff"/>
                </a:solidFill>
                <a:latin typeface="Verdana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76720" y="2819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Verdana"/>
              </a:rPr>
              <a:t>to do / m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76720" y="32767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Verdana"/>
              </a:rPr>
              <a:t>to be 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76720" y="37339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Verdana"/>
              </a:rPr>
              <a:t>to 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76720" y="41148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Verdana"/>
              </a:rPr>
              <a:t>to w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76720" y="45720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Verdana"/>
              </a:rPr>
              <a:t>to know (a f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76720" y="50292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Verdana"/>
              </a:rPr>
              <a:t>to go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5486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Verdana"/>
              </a:rPr>
              <a:t>to have</a:t>
            </a:r>
            <a:r>
              <a:rPr b="0" lang="en-US" sz="2400" spc="-1" strike="noStrike">
                <a:solidFill>
                  <a:srgbClr val="00ffff"/>
                </a:solidFill>
                <a:latin typeface="Verdana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76720" y="5867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Verdana"/>
              </a:rPr>
              <a:t>to be wo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76720" y="6324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Verdana"/>
              </a:rPr>
              <a:t>to 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981080" y="304920"/>
            <a:ext cx="762120" cy="10666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5867280" y="1523880"/>
            <a:ext cx="2895840" cy="5105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ffff"/>
                </a:solidFill>
                <a:latin typeface="Verdana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Tener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me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to own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to poss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You will use th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verb a 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Haber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is 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auxiliary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helping” ver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You will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it very rar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867280" y="1600200"/>
            <a:ext cx="2971800" cy="52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cabré, cabrás, 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dir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habr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har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podr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pondr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querr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sabr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saldr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tendr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valdr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vendr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1981080"/>
            <a:ext cx="1676520" cy="445104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endings are the same as for the regular verbs, but a future stem is used instead of the infinitiv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3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3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3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3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3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3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3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3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52280" y="304920"/>
            <a:ext cx="144792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" y="380880"/>
            <a:ext cx="1295280" cy="60199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4920" y="1752480"/>
            <a:ext cx="1143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990720" cy="990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25" name=""/>
          <p:cNvSpPr/>
          <p:nvPr/>
        </p:nvSpPr>
        <p:spPr>
          <a:xfrm>
            <a:off x="380880" y="28954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0880" y="1828800"/>
            <a:ext cx="99072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4920" y="4419720"/>
            <a:ext cx="114300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F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6553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CAS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8120" y="228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 practice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828800" y="1017720"/>
            <a:ext cx="1538280" cy="52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ca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dec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ha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ha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po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po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que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a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al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te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va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ven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48120" y="1017720"/>
            <a:ext cx="1371600" cy="52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cabr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dir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habr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har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podr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pondr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querr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sabr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saldr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tendr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valdr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vendr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2362320" y="228600"/>
            <a:ext cx="699840" cy="7160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4343400" y="914400"/>
            <a:ext cx="4648320" cy="5562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8458200" y="5867280"/>
            <a:ext cx="552600" cy="8254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4419720" y="990720"/>
            <a:ext cx="4190760" cy="490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He will k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e will s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You (sg) will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y will be 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You (pl) will go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495680" y="1447920"/>
            <a:ext cx="2667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Lucida Calligraphy"/>
              </a:rPr>
              <a:t>sabr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2552760"/>
            <a:ext cx="2133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Lucida Calligraphy"/>
              </a:rPr>
              <a:t>dire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95680" y="3657600"/>
            <a:ext cx="2743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Lucida Calligraphy"/>
              </a:rPr>
              <a:t>tendr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95680" y="4762440"/>
            <a:ext cx="3048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Lucida Calligraphy"/>
              </a:rPr>
              <a:t>podr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95680" y="5867280"/>
            <a:ext cx="2819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Lucida Calligraphy"/>
              </a:rPr>
              <a:t>saldré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4" dur="75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1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304920"/>
            <a:ext cx="144792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28600" y="380880"/>
            <a:ext cx="1295280" cy="60199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1752480"/>
            <a:ext cx="1143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990720" cy="990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48" name=""/>
          <p:cNvSpPr/>
          <p:nvPr/>
        </p:nvSpPr>
        <p:spPr>
          <a:xfrm>
            <a:off x="380880" y="28954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0880" y="1828800"/>
            <a:ext cx="99072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04920" y="4419720"/>
            <a:ext cx="114300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0880" y="44956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F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6553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CAS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752480" y="304920"/>
            <a:ext cx="723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Verdana"/>
              </a:rPr>
              <a:t>The Conditional Ten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52480" y="1143000"/>
            <a:ext cx="5639040" cy="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In English:</a:t>
            </a: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I would 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I would be play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514600" y="2362320"/>
            <a:ext cx="4876920" cy="3124080"/>
          </a:xfrm>
          <a:prstGeom prst="wedgeEllipseCallout">
            <a:avLst>
              <a:gd name="adj1" fmla="val -53287"/>
              <a:gd name="adj2" fmla="val 604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Conditional Tense is formed in a similar way to the Future Ten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14600" y="2133720"/>
            <a:ext cx="4876920" cy="3276360"/>
          </a:xfrm>
          <a:prstGeom prst="wedgeEllipseCallout">
            <a:avLst>
              <a:gd name="adj1" fmla="val 46092"/>
              <a:gd name="adj2" fmla="val 73013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Conditional Tense is formed using the infinitive and end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2286000" y="2362320"/>
          <a:ext cx="5424480" cy="323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2362320"/>
                    <a:ext cx="5424480" cy="32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"/>
          <p:cNvSpPr/>
          <p:nvPr/>
        </p:nvSpPr>
        <p:spPr>
          <a:xfrm>
            <a:off x="1752480" y="21337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114800" y="2133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213372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90920" y="2743200"/>
            <a:ext cx="609480" cy="762120"/>
          </a:xfrm>
          <a:prstGeom prst="upArrow">
            <a:avLst>
              <a:gd name="adj1" fmla="val 50000"/>
              <a:gd name="adj2" fmla="val 31261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34120" y="2666880"/>
            <a:ext cx="457200" cy="762120"/>
          </a:xfrm>
          <a:prstGeom prst="upArrow">
            <a:avLst>
              <a:gd name="adj1" fmla="val 50000"/>
              <a:gd name="adj2" fmla="val 4167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057400" y="3581280"/>
            <a:ext cx="1676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escuch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le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exist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952880" y="3429000"/>
            <a:ext cx="12193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ía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í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í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781680" y="2971800"/>
            <a:ext cx="1981440" cy="2654280"/>
          </a:xfrm>
          <a:prstGeom prst="rect">
            <a:avLst/>
          </a:prstGeom>
          <a:solidFill>
            <a:srgbClr val="ffff00"/>
          </a:solidFill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Verdana"/>
              </a:rPr>
              <a:t>These endings are the same for all verbs in the Conditional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629400" y="2971800"/>
            <a:ext cx="2133720" cy="12193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eería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629400" y="4724280"/>
            <a:ext cx="2133720" cy="1295640"/>
          </a:xfrm>
          <a:prstGeom prst="rect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would read 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/she wo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629400" y="2971800"/>
            <a:ext cx="2133720" cy="12193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scucharías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629400" y="4724280"/>
            <a:ext cx="2133720" cy="1295640"/>
          </a:xfrm>
          <a:prstGeom prst="rect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You (s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o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i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629400" y="2971800"/>
            <a:ext cx="2133720" cy="12193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xistiría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629400" y="4724280"/>
            <a:ext cx="2133720" cy="1295640"/>
          </a:xfrm>
          <a:prstGeom prst="rect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 wo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629400" y="2971800"/>
            <a:ext cx="2133720" cy="1219320"/>
          </a:xfrm>
          <a:prstGeom prst="rect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ou (p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629400" y="4724280"/>
            <a:ext cx="2133720" cy="1295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scucharí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629400" y="2971800"/>
            <a:ext cx="2133720" cy="1219320"/>
          </a:xfrm>
          <a:prstGeom prst="rect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y wo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629400" y="4724280"/>
            <a:ext cx="2133720" cy="1295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eerí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629400" y="2971800"/>
            <a:ext cx="2133720" cy="1219320"/>
          </a:xfrm>
          <a:prstGeom prst="rect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would exist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/she wo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629400" y="4724280"/>
            <a:ext cx="2133720" cy="1295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xisti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7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3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3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3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3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9T14:16:00Z</dcterms:created>
  <dc:creator>Paul Seccombe</dc:creator>
  <dc:description/>
  <dc:language>en-US</dc:language>
  <cp:lastModifiedBy>P.Seccombe</cp:lastModifiedBy>
  <dcterms:modified xsi:type="dcterms:W3CDTF">2007-02-07T20:59:21Z</dcterms:modified>
  <cp:revision>19</cp:revision>
  <dc:subject/>
  <dc:title>PowerPoint Presentation</dc:title>
</cp:coreProperties>
</file>