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16B-38A7-4AFB-A6E0-6FAE78A6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031A-CCA8-413F-B2BB-9C2DEA19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20F-D220-4FE0-ABDE-98C0D3CE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F90-071B-4A84-BB77-45B9971E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4BE-8810-45B7-B709-9B22758B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D57-2B69-44E1-BC0E-2E0030C9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21C-D35D-4733-81BA-12A4B77B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769-0F3F-4FD1-A950-69D531E6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3C0-DC07-48DB-A335-AC05C92E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651-02CC-4868-A89C-018C99EE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098-3A5C-498E-B465-09152AFA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CFA-4404-4EE0-81B9-8A381838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B142-0653-4EBA-BD31-CF64BDDB6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5661000"/>
            <a:ext cx="20509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cuarto de b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50920" y="2492280"/>
            <a:ext cx="3240000" cy="792360"/>
          </a:xfrm>
          <a:prstGeom prst="leftArrowCallout">
            <a:avLst>
              <a:gd name="adj1" fmla="val 25002"/>
              <a:gd name="adj2" fmla="val 25000"/>
              <a:gd name="adj3" fmla="val 68151"/>
              <a:gd name="adj4" fmla="val 6982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a du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5084640"/>
            <a:ext cx="1944720" cy="1368720"/>
          </a:xfrm>
          <a:prstGeom prst="upArrowCallout">
            <a:avLst>
              <a:gd name="adj1" fmla="val 35524"/>
              <a:gd name="adj2" fmla="val 35521"/>
              <a:gd name="adj3" fmla="val 16667"/>
              <a:gd name="adj4" fmla="val 11740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lava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042920" y="5084640"/>
            <a:ext cx="1657440" cy="1368720"/>
          </a:xfrm>
          <a:prstGeom prst="upArrowCallout">
            <a:avLst>
              <a:gd name="adj1" fmla="val 30276"/>
              <a:gd name="adj2" fmla="val 30274"/>
              <a:gd name="adj3" fmla="val 16667"/>
              <a:gd name="adj4" fmla="val 11740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as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5229360"/>
            <a:ext cx="1944720" cy="1368360"/>
          </a:xfrm>
          <a:prstGeom prst="upArrowCallout">
            <a:avLst>
              <a:gd name="adj1" fmla="val 35533"/>
              <a:gd name="adj2" fmla="val 35530"/>
              <a:gd name="adj3" fmla="val 16667"/>
              <a:gd name="adj4" fmla="val 11740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a 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6720" y="5805360"/>
            <a:ext cx="3095640" cy="719280"/>
          </a:xfrm>
          <a:prstGeom prst="rightArrowCallout">
            <a:avLst>
              <a:gd name="adj1" fmla="val 25002"/>
              <a:gd name="adj2" fmla="val 25000"/>
              <a:gd name="adj3" fmla="val 71730"/>
              <a:gd name="adj4" fmla="val 6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mini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35280" y="5084640"/>
            <a:ext cx="1944720" cy="1368720"/>
          </a:xfrm>
          <a:prstGeom prst="upArrowCallout">
            <a:avLst>
              <a:gd name="adj1" fmla="val 35524"/>
              <a:gd name="adj2" fmla="val 35521"/>
              <a:gd name="adj3" fmla="val 16667"/>
              <a:gd name="adj4" fmla="val 11740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a m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50920" y="5489640"/>
            <a:ext cx="1944720" cy="1368360"/>
          </a:xfrm>
          <a:prstGeom prst="upArrowCallout">
            <a:avLst>
              <a:gd name="adj1" fmla="val 35533"/>
              <a:gd name="adj2" fmla="val 35530"/>
              <a:gd name="adj3" fmla="val 16667"/>
              <a:gd name="adj4" fmla="val 11740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a s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340000" y="765000"/>
            <a:ext cx="2519280" cy="1008360"/>
          </a:xfrm>
          <a:prstGeom prst="downArrowCallout">
            <a:avLst>
              <a:gd name="adj1" fmla="val 62466"/>
              <a:gd name="adj2" fmla="val 62460"/>
              <a:gd name="adj3" fmla="val 16667"/>
              <a:gd name="adj4" fmla="val 6188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a tel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771640" y="2708280"/>
            <a:ext cx="2519640" cy="1008000"/>
          </a:xfrm>
          <a:prstGeom prst="downArrowCallout">
            <a:avLst>
              <a:gd name="adj1" fmla="val 62497"/>
              <a:gd name="adj2" fmla="val 62491"/>
              <a:gd name="adj3" fmla="val 16667"/>
              <a:gd name="adj4" fmla="val 6188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teléf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780000" y="2708280"/>
            <a:ext cx="2519280" cy="1008000"/>
          </a:xfrm>
          <a:prstGeom prst="downArrowCallout">
            <a:avLst>
              <a:gd name="adj1" fmla="val 62488"/>
              <a:gd name="adj2" fmla="val 62482"/>
              <a:gd name="adj3" fmla="val 16667"/>
              <a:gd name="adj4" fmla="val 6188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a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3780000" y="170028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195640" y="4797360"/>
            <a:ext cx="6948360" cy="2060640"/>
          </a:xfrm>
          <a:prstGeom prst="rect">
            <a:avLst/>
          </a:prstGeom>
          <a:solidFill>
            <a:srgbClr val="614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4797360"/>
            <a:ext cx="2195640" cy="206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0"/>
            <a:ext cx="2195640" cy="47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2195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96000" y="1628640"/>
            <a:ext cx="2521080" cy="144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 mi habitación habí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96000" y="2349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79600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667640" y="1628640"/>
            <a:ext cx="647640" cy="1656000"/>
          </a:xfrm>
          <a:custGeom>
            <a:avLst/>
            <a:gdLst>
              <a:gd name="textAreaLeft" fmla="*/ 0 w 647640"/>
              <a:gd name="textAreaRight" fmla="*/ 648000 w 647640"/>
              <a:gd name="textAreaTop" fmla="*/ 214560 h 1656000"/>
              <a:gd name="textAreaBottom" fmla="*/ 14414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400000">
            <a:off x="6947640" y="332280"/>
            <a:ext cx="216000" cy="2808000"/>
          </a:xfrm>
          <a:custGeom>
            <a:avLst/>
            <a:gdLst>
              <a:gd name="textAreaLeft" fmla="*/ 0 w 216000"/>
              <a:gd name="textAreaRight" fmla="*/ 216360 w 216000"/>
              <a:gd name="textAreaTop" fmla="*/ 363960 h 2808000"/>
              <a:gd name="textAreaBottom" fmla="*/ 24440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724360" y="4437000"/>
            <a:ext cx="3276720" cy="720720"/>
          </a:xfrm>
          <a:prstGeom prst="roundRect">
            <a:avLst>
              <a:gd name="adj" fmla="val 16667"/>
            </a:avLst>
          </a:prstGeom>
          <a:solidFill>
            <a:srgbClr val="b42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028000" y="4149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867280" y="5157720"/>
            <a:ext cx="216000" cy="35892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964720" y="4005360"/>
            <a:ext cx="179280" cy="15112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59280" y="1844640"/>
            <a:ext cx="1728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132000" y="1916280"/>
            <a:ext cx="1368720" cy="865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572000" y="1989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2205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572000" y="2421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635280" y="4149720"/>
            <a:ext cx="1944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08360" y="4365720"/>
            <a:ext cx="216000" cy="107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219640" y="4365720"/>
            <a:ext cx="21600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556000" y="4653000"/>
            <a:ext cx="2156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203640" y="4653000"/>
            <a:ext cx="216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84360" y="4437000"/>
            <a:ext cx="100800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27280" y="3645000"/>
            <a:ext cx="720720" cy="79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771640" y="3860640"/>
            <a:ext cx="14472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59280" y="3860640"/>
            <a:ext cx="14436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10800000">
            <a:off x="3850920" y="3860280"/>
            <a:ext cx="360360" cy="289080"/>
          </a:xfrm>
          <a:custGeom>
            <a:avLst/>
            <a:gdLst>
              <a:gd name="textAreaLeft" fmla="*/ 79200 w 360360"/>
              <a:gd name="textAreaRight" fmla="*/ 281160 w 36036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08360" y="378936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140360" y="378936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780000" y="3789360"/>
            <a:ext cx="43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4360" y="3933720"/>
            <a:ext cx="2142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995640" y="4005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284720" y="3922560"/>
            <a:ext cx="154080" cy="227160"/>
          </a:xfrm>
          <a:custGeom>
            <a:avLst/>
            <a:gdLst/>
            <a:ahLst/>
            <a:rect l="l" t="t" r="r" b="b"/>
            <a:pathLst>
              <a:path w="97" h="143">
                <a:moveTo>
                  <a:pt x="0" y="7"/>
                </a:moveTo>
                <a:cubicBezTo>
                  <a:pt x="19" y="3"/>
                  <a:pt x="38" y="0"/>
                  <a:pt x="45" y="7"/>
                </a:cubicBezTo>
                <a:cubicBezTo>
                  <a:pt x="52" y="14"/>
                  <a:pt x="38" y="45"/>
                  <a:pt x="45" y="52"/>
                </a:cubicBezTo>
                <a:cubicBezTo>
                  <a:pt x="52" y="59"/>
                  <a:pt x="90" y="45"/>
                  <a:pt x="90" y="52"/>
                </a:cubicBezTo>
                <a:cubicBezTo>
                  <a:pt x="90" y="59"/>
                  <a:pt x="45" y="90"/>
                  <a:pt x="45" y="97"/>
                </a:cubicBezTo>
                <a:cubicBezTo>
                  <a:pt x="45" y="104"/>
                  <a:pt x="83" y="89"/>
                  <a:pt x="90" y="97"/>
                </a:cubicBezTo>
                <a:cubicBezTo>
                  <a:pt x="97" y="105"/>
                  <a:pt x="90" y="135"/>
                  <a:pt x="90" y="1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643280" y="3789360"/>
            <a:ext cx="720720" cy="360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716360" y="3860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4788000" y="357336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148360" y="357336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003640" y="3860640"/>
            <a:ext cx="289080" cy="73080"/>
          </a:xfrm>
          <a:prstGeom prst="rect">
            <a:avLst/>
          </a:prstGeom>
          <a:solidFill>
            <a:srgbClr val="838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0364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48360" y="4005360"/>
            <a:ext cx="73080" cy="7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5400000">
            <a:off x="90000" y="2043000"/>
            <a:ext cx="2505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5092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0" y="2276640"/>
            <a:ext cx="17928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9280" y="2276640"/>
            <a:ext cx="2174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7928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79280" y="2276640"/>
            <a:ext cx="71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11280" y="1989000"/>
            <a:ext cx="7308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5400000">
            <a:off x="864360" y="396792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10800000">
            <a:off x="971640" y="4508640"/>
            <a:ext cx="287280" cy="576000"/>
          </a:xfrm>
          <a:custGeom>
            <a:avLst/>
            <a:gdLst>
              <a:gd name="textAreaLeft" fmla="*/ 63000 w 287280"/>
              <a:gd name="textAreaRight" fmla="*/ 224280 w 28728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5400000">
            <a:off x="1585080" y="4112280"/>
            <a:ext cx="432000" cy="64944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0800000">
            <a:off x="1618920" y="4652640"/>
            <a:ext cx="431640" cy="360360"/>
          </a:xfrm>
          <a:custGeom>
            <a:avLst/>
            <a:gdLst>
              <a:gd name="textAreaLeft" fmla="*/ 94680 w 431640"/>
              <a:gd name="textAreaRight" fmla="*/ 336960 w 43164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7636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1475280" y="3645360"/>
            <a:ext cx="649440" cy="5050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16000" y="1413000"/>
            <a:ext cx="863640" cy="12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116000" y="17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580000" y="98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0800000">
            <a:off x="5003640" y="836640"/>
            <a:ext cx="1368720" cy="21600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388360" y="5734080"/>
            <a:ext cx="755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172360" y="5877000"/>
            <a:ext cx="71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244000" y="5734080"/>
            <a:ext cx="14436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148360" y="3284640"/>
            <a:ext cx="1944720" cy="1368360"/>
          </a:xfrm>
          <a:prstGeom prst="upArrowCallout">
            <a:avLst>
              <a:gd name="adj1" fmla="val 35533"/>
              <a:gd name="adj2" fmla="val 35530"/>
              <a:gd name="adj3" fmla="val 16667"/>
              <a:gd name="adj4" fmla="val 11740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rt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1:47:53Z</dcterms:created>
  <dc:creator>CSeccombe</dc:creator>
  <dc:description/>
  <dc:language>en-US</dc:language>
  <cp:lastModifiedBy>CSeccombe</cp:lastModifiedBy>
  <dcterms:modified xsi:type="dcterms:W3CDTF">2008-01-11T11:57:55Z</dcterms:modified>
  <cp:revision>7</cp:revision>
  <dc:subject/>
  <dc:title>Slide 1</dc:title>
</cp:coreProperties>
</file>