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E8F-BDC9-48C9-AAFE-82A6AEB4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611-53EB-4910-845E-00B4FED0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AA1-FA87-4317-BE40-0A93E31C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195-74DC-4A80-9720-ADC2B3D5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E95-EE5B-4603-A915-29EECAD7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383-3A05-4DEA-BE83-A09F9E9D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BA1-C537-439C-8CBF-4E20CCDD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64E-180A-4D1D-8306-B09DD2D2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2FF-622C-4920-88D3-8EFC3E7A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167-06C8-4BD6-9064-9B18782F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A7D-F7CF-4C59-B9AC-DCB059AE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09D-0EFC-4FE9-8559-49D00E12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B207-9176-41B2-8B30-CA3A85C0C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5661000"/>
            <a:ext cx="20509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cuarto de b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50920" y="2492280"/>
            <a:ext cx="3240000" cy="792360"/>
          </a:xfrm>
          <a:prstGeom prst="leftArrowCallout">
            <a:avLst>
              <a:gd name="adj1" fmla="val 25002"/>
              <a:gd name="adj2" fmla="val 25000"/>
              <a:gd name="adj3" fmla="val 68151"/>
              <a:gd name="adj4" fmla="val 6982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du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5084640"/>
            <a:ext cx="1944720" cy="1368720"/>
          </a:xfrm>
          <a:prstGeom prst="upArrowCallout">
            <a:avLst>
              <a:gd name="adj1" fmla="val 35524"/>
              <a:gd name="adj2" fmla="val 35521"/>
              <a:gd name="adj3" fmla="val 16667"/>
              <a:gd name="adj4" fmla="val 11740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lava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042920" y="5084640"/>
            <a:ext cx="1657440" cy="1368720"/>
          </a:xfrm>
          <a:prstGeom prst="upArrowCallout">
            <a:avLst>
              <a:gd name="adj1" fmla="val 30276"/>
              <a:gd name="adj2" fmla="val 30274"/>
              <a:gd name="adj3" fmla="val 16667"/>
              <a:gd name="adj4" fmla="val 11740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a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5229360"/>
            <a:ext cx="1944720" cy="1368360"/>
          </a:xfrm>
          <a:prstGeom prst="upArrowCallout">
            <a:avLst>
              <a:gd name="adj1" fmla="val 35533"/>
              <a:gd name="adj2" fmla="val 35530"/>
              <a:gd name="adj3" fmla="val 16667"/>
              <a:gd name="adj4" fmla="val 11740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6720" y="5805360"/>
            <a:ext cx="3095640" cy="719280"/>
          </a:xfrm>
          <a:prstGeom prst="rightArrowCallout">
            <a:avLst>
              <a:gd name="adj1" fmla="val 25002"/>
              <a:gd name="adj2" fmla="val 25000"/>
              <a:gd name="adj3" fmla="val 71730"/>
              <a:gd name="adj4" fmla="val 6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mini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5084640"/>
            <a:ext cx="1944720" cy="1368720"/>
          </a:xfrm>
          <a:prstGeom prst="upArrowCallout">
            <a:avLst>
              <a:gd name="adj1" fmla="val 35524"/>
              <a:gd name="adj2" fmla="val 35521"/>
              <a:gd name="adj3" fmla="val 16667"/>
              <a:gd name="adj4" fmla="val 11740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50920" y="5489640"/>
            <a:ext cx="1944720" cy="1368360"/>
          </a:xfrm>
          <a:prstGeom prst="upArrowCallout">
            <a:avLst>
              <a:gd name="adj1" fmla="val 35533"/>
              <a:gd name="adj2" fmla="val 35530"/>
              <a:gd name="adj3" fmla="val 16667"/>
              <a:gd name="adj4" fmla="val 11740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s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40000" y="765000"/>
            <a:ext cx="2519280" cy="1008360"/>
          </a:xfrm>
          <a:prstGeom prst="downArrowCallout">
            <a:avLst>
              <a:gd name="adj1" fmla="val 62466"/>
              <a:gd name="adj2" fmla="val 62460"/>
              <a:gd name="adj3" fmla="val 16667"/>
              <a:gd name="adj4" fmla="val 6188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771640" y="2708280"/>
            <a:ext cx="2519640" cy="1008000"/>
          </a:xfrm>
          <a:prstGeom prst="downArrowCallout">
            <a:avLst>
              <a:gd name="adj1" fmla="val 62497"/>
              <a:gd name="adj2" fmla="val 62491"/>
              <a:gd name="adj3" fmla="val 16667"/>
              <a:gd name="adj4" fmla="val 6188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teléf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780000" y="2708280"/>
            <a:ext cx="2519280" cy="1008000"/>
          </a:xfrm>
          <a:prstGeom prst="downArrowCallout">
            <a:avLst>
              <a:gd name="adj1" fmla="val 62488"/>
              <a:gd name="adj2" fmla="val 62482"/>
              <a:gd name="adj3" fmla="val 16667"/>
              <a:gd name="adj4" fmla="val 6188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148360" y="3284640"/>
            <a:ext cx="1944720" cy="1368360"/>
          </a:xfrm>
          <a:prstGeom prst="upArrowCallout">
            <a:avLst>
              <a:gd name="adj1" fmla="val 35533"/>
              <a:gd name="adj2" fmla="val 35530"/>
              <a:gd name="adj3" fmla="val 16667"/>
              <a:gd name="adj4" fmla="val 11740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t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1:47:53Z</dcterms:created>
  <dc:creator>CSeccombe</dc:creator>
  <dc:description/>
  <dc:language>en-US</dc:language>
  <cp:lastModifiedBy>CSeccombe</cp:lastModifiedBy>
  <dcterms:modified xsi:type="dcterms:W3CDTF">2008-01-11T11:57:55Z</dcterms:modified>
  <cp:revision>7</cp:revision>
  <dc:subject/>
  <dc:title>Slide 1</dc:title>
</cp:coreProperties>
</file>