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1CC-8E8C-4912-93A0-68F3B700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2160-0E47-4E1D-A8DE-183D084D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4FF-24CB-4F1C-BBAD-59B16DBC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C3D2-55E6-4EB3-A840-D33074F8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E38-C0FA-4B41-BBA7-7C143156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305-96B0-4645-843D-58A11F84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182-E552-408E-982A-28077094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A90-C8F0-4B4A-81EC-9A727E9B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CF2-6EE2-4462-AE11-2568DE57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F59F-F786-4C82-A206-146ECDE6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F9E-5336-4473-AF15-C2A271DD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5D3-3071-4827-A9F9-B8939FE4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8C38-B4DB-424C-954C-92449AE0D37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170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o pescado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eat fis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in the se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o cere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eat cere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breakfa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o pan tosta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eat toas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hot bread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o fru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eat fru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5 a 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Comí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ensala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te sal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rabbit food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í pas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ate pas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Italian favouri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í ques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te che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Cheddar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í chocola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te chocola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Dairy Milk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comer pizz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going to eat pizz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uture, Pepperoni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comer p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going to eat chicke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ture, white meat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comer pa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going to eat bre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uture, sliced or unsliced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comer jam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going to eat ha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uture, sandwich filling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o caramel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I eat swee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Haribo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í sop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I ate sou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tomato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comer gamb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I’m going to eat praw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uture, small fish...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mo tar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I eat cak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birthday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Box 25"/>
          <p:cNvSpPr/>
          <p:nvPr/>
        </p:nvSpPr>
        <p:spPr>
          <a:xfrm>
            <a:off x="3851280" y="6638760"/>
            <a:ext cx="5040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 Rounded MT Bold"/>
                <a:ea typeface="Arial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5092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eat fis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o pesca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o, pesc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eat cere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o cere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o, cerea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eat toas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o pan tosta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o, pan tost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eat fru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o fru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o, fru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ate sal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í ensala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í, ensalad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ate pas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í pas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í, pas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ate che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í ques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í, ques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ate chocola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í chocola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í chocol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eat pizz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comer pizz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y a comer, pizz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eat chicke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comer poll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comer, poll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eat bre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comer pa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y a comer, p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eat ha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comer jam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y a comer, jamó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eat swee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o caramel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o, caramel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ate sou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í sop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í, so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eat praw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comer gamb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y a comer, gamb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eat cak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o tar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o, tar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25"/>
          <p:cNvSpPr/>
          <p:nvPr/>
        </p:nvSpPr>
        <p:spPr>
          <a:xfrm>
            <a:off x="3851280" y="6638760"/>
            <a:ext cx="504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http://www.lightbulblanguages.co.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0920" y="260280"/>
          <a:ext cx="8640720" cy="639936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15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o t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ink t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not coffe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o lech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ink mil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white drin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o cervez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ink be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Fosters e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o caf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ink coffe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hot drin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beber vi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going to drink wi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uture, red or white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beber zum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going to drink jui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uture, orange etc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beber agu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going to drink wa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uture, from the tap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beber limona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going to drink lemonad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uture, made from lem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í coca co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ank Cok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holidays are coming...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í fanta limó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ank lemon Fant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not orange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í fanta naranj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ank orange Fant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colour and fruit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í té con limó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ank lemon t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drink with a twi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o café con lech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drink white coffe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sent, hot &amp; col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í vino tin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I drank red wi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not white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oy a beber chocola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going to drink hot chocola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uture, hot + swee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Bebí agua con g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I drank fizzy wa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t, with bubbles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TextBox 25"/>
          <p:cNvSpPr/>
          <p:nvPr/>
        </p:nvSpPr>
        <p:spPr>
          <a:xfrm>
            <a:off x="3851280" y="6638760"/>
            <a:ext cx="504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http://www.lightbulblanguages.co.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5092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15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ink t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o t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o, t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ink mil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o lech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o, lech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I drink be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o cervez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o, cervez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ink coffe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o caf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o, caf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drink wi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beber vi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y a beber, vi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drink jui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beber zum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y a beber, zum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drink wa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beber agu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y a beber, agu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drink lemonad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beber limona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y a beber, limona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ank Cok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í coca col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í, coca co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ank lemon Fant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í fanta limó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í, fanta limó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I drank orange Fant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í fanta naranj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í, fanta naranj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ank lemon t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í té con limó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í, té con limó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ink white coffe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o café con lech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o, café con lech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ank red wi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í vino tin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í, vino tin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’m going to drink hot chocola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y a beber chocola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y a beber, chocol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 drank fizzy wa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bí agua con g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ebí, agua con g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Box 25"/>
          <p:cNvSpPr/>
          <p:nvPr/>
        </p:nvSpPr>
        <p:spPr>
          <a:xfrm>
            <a:off x="3851280" y="6638760"/>
            <a:ext cx="504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© Light Bulb Languages/MConnolly 2014 http://www.lightbulblanguages.co.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0:00:28Z</dcterms:created>
  <dc:creator>john</dc:creator>
  <dc:description/>
  <dc:language>en-US</dc:language>
  <cp:lastModifiedBy>Clare</cp:lastModifiedBy>
  <dcterms:modified xsi:type="dcterms:W3CDTF">2014-04-09T09:30:03Z</dcterms:modified>
  <cp:revision>14</cp:revision>
  <dc:subject/>
  <dc:title>Slide 1</dc:title>
</cp:coreProperties>
</file>