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F44-5DCB-4525-BAB0-DBEB92D4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207-3682-4A25-B23C-3F3F436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75E-8EA5-419D-920C-FD5928AC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106-10C1-4934-9A89-64524FF0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F42-50AB-49F2-BEF7-1E669F8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80B-EA4A-4856-A427-11A3B0C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38B-17E2-4BA8-BD00-C7D870E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FF1-B1C6-443A-9917-2EA83E8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4B6-EC2C-4683-984F-7DF682D3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443-CFA9-4C2A-A402-E4DF5A6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91A-6971-492E-AE12-7E7A561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F90-AC0B-4174-BB61-3098DA7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348-AE91-4CEE-8C39-767ED1F680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pescad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fi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in the se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cere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cere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breakfa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pan tost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toa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ot bread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fru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fru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5 a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Comí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nsal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te sal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rabbit food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ate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Italian favouri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ques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te che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Cheddar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te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Dairy Milk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pizz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piz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Pepperoni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p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chick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e, white meat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p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bre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sliced or unsliced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jam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ha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sandwich filling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caramel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eat swee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aribo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so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ate sou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tomato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gam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’m going to eat praw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small fish...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tar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eat ca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birthday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25"/>
          <p:cNvSpPr/>
          <p:nvPr/>
        </p:nvSpPr>
        <p:spPr>
          <a:xfrm>
            <a:off x="3851280" y="6638760"/>
            <a:ext cx="50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fi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pesc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pes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cere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cere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cere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toa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pan tost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pan tost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fru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fru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fru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sal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ensal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ensal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pas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che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ques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que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 chocol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piz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piz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chick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poll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, poll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bre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p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p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h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jam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jam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swee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caramel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caramel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sou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so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so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praw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gam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gamb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ca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tar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tar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25"/>
          <p:cNvSpPr/>
          <p:nvPr/>
        </p:nvSpPr>
        <p:spPr>
          <a:xfrm>
            <a:off x="3851280" y="663876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260280"/>
          <a:ext cx="8640720" cy="639936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not coff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lech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mil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white drin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erve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be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Fosters e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ot dri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vi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wi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red or white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zum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ju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orange etc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w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from the tap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lim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lemonad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made from lem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coca c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holidays are coming...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fanta lim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lemon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not orange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fanta nar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orange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colour and fruit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té con lim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lemon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drink with a twi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afé con lech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white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ot &amp; co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vino ti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drank red wi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not white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hot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hot + swee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agua con g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drank fizzy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with bubbles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25"/>
          <p:cNvSpPr/>
          <p:nvPr/>
        </p:nvSpPr>
        <p:spPr>
          <a:xfrm>
            <a:off x="3851280" y="663876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092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mil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lech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lech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I drink be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cerve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cervez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caf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wi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vi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vi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ju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zum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zu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wa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agu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lemona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lim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limona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coca 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coca co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lemon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fanta lim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fanta lim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I drank orange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fanta nar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fanta naran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lemon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té con limó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té con lim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white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café con lech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café con lech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red wi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vino ti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vino ti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hot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chocol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fizzy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agua con g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agua con g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25"/>
          <p:cNvSpPr/>
          <p:nvPr/>
        </p:nvSpPr>
        <p:spPr>
          <a:xfrm>
            <a:off x="3851280" y="663876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0:00:28Z</dcterms:created>
  <dc:creator>john</dc:creator>
  <dc:description/>
  <dc:language>en-US</dc:language>
  <cp:lastModifiedBy>Clare</cp:lastModifiedBy>
  <dcterms:modified xsi:type="dcterms:W3CDTF">2014-04-09T09:30:03Z</dcterms:modified>
  <cp:revision>14</cp:revision>
  <dc:subject/>
  <dc:title>Slide 1</dc:title>
</cp:coreProperties>
</file>