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9A2-84CE-49E0-942E-9D4FCB0A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FA5-5A70-4BDC-A0A4-E601CC24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49F-DE28-428E-87B6-17D24C8C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241-0D31-40F9-AF1B-C4B13D66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5FB-8475-465E-902F-5B7AE86A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B8C-855A-4FEF-8793-56DF22AB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8DF-50E7-40FF-B0B5-43F5D7A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874-A3A0-4FD8-9EB7-F72768E7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A32-B664-475F-8435-F97A8D49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E67-4D4C-4239-ADBD-1FEC3BF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B3E-14E4-48F6-B23F-98200135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1C5-A64A-4A67-B4E5-61C3C341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F96-A4B9-4F6E-B0A3-84B182FA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lipartguide.com/_thumbs/0060-0504-0715-2334.jpg&amp;imgrefurl=http://www.clipartguide.com/_search_terms/shower.html&amp;h=100&amp;w=93&amp;sz=3&amp;hl=en&amp;start=17&amp;tbnid=ND5zhZY-gJ5QGM:&amp;tbnh=82&amp;tbnw=76&amp;prev=/images%3Fq%3Dclipart%2Bshower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imajlar.com/free_clipart/car_clipart/car_clipart_old.gif&amp;imgrefurl=http://www.free-clipart-pictures.net/car_clipart.html&amp;h=170&amp;w=200&amp;sz=11&amp;hl=en&amp;start=1&amp;tbnid=NSc3dMHg1IgWOM:&amp;tbnh=88&amp;tbnw=104&amp;prev=/images%3Fq%3Dcar%2Bclipart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brandchannel.com/images/FeaturesProfile/profile_img1_greenpeace.gif&amp;imgrefurl=http://www.brandchannel.com/features_profile.asp%3Fpr_id%3D11&amp;h=370&amp;w=260&amp;sz=13&amp;hl=en&amp;start=1&amp;tbnid=DZFE86oIGHz6FM:&amp;tbnh=122&amp;tbnw=86&amp;prev=/images%3Fq%3Dgreenpeace%26gbv%3D2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www.fotosearch.com/comp/imz/imz001/wine-bottles-~-jba0481.jpg&amp;imgrefurl=http://www.fotosearch.com/IMZ001/jba0481/&amp;h=178&amp;w=300&amp;sz=24&amp;hl=en&amp;start=10&amp;tbnid=Khtxxv4iycttNM:&amp;tbnh=69&amp;tbnw=116&amp;prev=/images%3Fq%3Dclipart%2Bbottles%26gbv%3D2%26hl%3De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cedargrove.k12.nj.us/north/media/images/bath.jpg&amp;imgrefurl=http://www.cedargrove.k12.nj.us/north/media/PreK.htm&amp;h=364&amp;w=390&amp;sz=22&amp;hl=en&amp;start=13&amp;tbnid=xapX4bBc4JjDjM:&amp;tbnh=115&amp;tbnw=123&amp;prev=/images%3Fq%3Dclipart%2Bbath%26gbv%3D2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files.vector-images.com/clipart/letter2.gif&amp;imgrefurl=http://vector-images.com/search.php%3Fatype%3Dclipart%26query%3Dletter&amp;h=111&amp;w=150&amp;sz=5&amp;hl=en&amp;start=25&amp;tbnid=VTd_3BSMQFp_PM:&amp;tbnh=71&amp;tbnw=96&amp;prev=/images%3Fq%3Dletter%2Bclipart%26start%3D21%26gbv%3D2%26ndsp%3D21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www.smh.com.au/ffxImage/urlpicture_id_1077072782787_2004/02/19/london_bus,0.jpg&amp;imgrefurl=http://www.smh.com.au/articles/2004/02/19/1077072781591.html%3Ffrom%3Dstoryrhs&amp;h=251&amp;w=240&amp;sz=49&amp;hl=en&amp;start=5&amp;tbnid=Yn7Z3WYt0M8MQM:&amp;tbnh=111&amp;tbnw=106&amp;prev=/images%3Fq%3Dlondon%2Bred%2Bbus%26gbv%3D2%26hl%3Den%26sa%3DX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tiki.oneworld.net/food/organic_food.gif&amp;imgrefurl=http://tiki.oneworld.net/food/organic_advantages.html&amp;h=213&amp;w=220&amp;sz=11&amp;hl=en&amp;start=22&amp;tbnid=kMAvyo05fGtPWM:&amp;tbnh=104&amp;tbnw=107&amp;prev=/images%3Fq%3Dorganic%2Bfood%26start%3D21%26gbv%3D2%26ndsp%3D21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www.greenhouse.gov.au/gwci/images/8-tap.jpg&amp;imgrefurl=http://www.greenhouse.gov.au/gwci/water.html&amp;h=125&amp;w=139&amp;sz=4&amp;hl=en&amp;start=5&amp;tbnid=ArAGocIAITbmJM:&amp;tbnh=84&amp;tbnw=93&amp;prev=/images%3Fq%3Ddripping%2Btap%26gbv%3D2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keeptidy.com/mcart/images/egraphic_paperbox.jpg&amp;imgrefurl=http://keeptidy.com/mcart/&amp;h=288&amp;w=288&amp;sz=15&amp;hl=en&amp;start=1&amp;tbnid=ndjhGwXNT6s3pM:&amp;tbnh=115&amp;tbnw=115&amp;prev=/images%3Fq%3Drecycle%2Bpaper%26gbv%3D2%26hl%3Den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.uk/imgres?imgurl=http://www.metrokc.gov/dnr/kidsweb/images/buying_guide/close_the_loop_main4.gif&amp;imgrefurl=http://www.metrokc.gov/dnr/kidsweb/buying_guide_main.htm&amp;h=300&amp;w=576&amp;sz=23&amp;hl=en&amp;start=3&amp;tbnid=mpwAjRom8TpwDM:&amp;tbnh=70&amp;tbnw=134&amp;prev=/images%3Fq%3Drecycled%2Bproducts%26gbv%3D2%26ndsp%3D21%26hl%3Den%26sa%3DN" TargetMode="External"/><Relationship Id="rId22" Type="http://schemas.openxmlformats.org/officeDocument/2006/relationships/image" Target="../media/image11.jpeg"/><Relationship Id="rId23" Type="http://schemas.openxmlformats.org/officeDocument/2006/relationships/hyperlink" Target="http://images.google.co.uk/imgres?imgurl=http://www.wpclipart.com/blanks/shapes/right_foot_print_benji_p_02.png&amp;imgrefurl=http://www.wpclipart.com/blanks/shapes/&amp;h=523&amp;w=412&amp;sz=17&amp;hl=en&amp;start=5&amp;tbnid=9cb-XqXZtCEbYM:&amp;tbnh=131&amp;tbnw=103&amp;prev=/images%3Fq%3Dclipart%2Bfoot%26gbv%3D2%26hl%3Den" TargetMode="External"/><Relationship Id="rId24" Type="http://schemas.openxmlformats.org/officeDocument/2006/relationships/image" Target="../media/image12.jpeg"/><Relationship Id="rId25" Type="http://schemas.openxmlformats.org/officeDocument/2006/relationships/hyperlink" Target="http://images.google.co.uk/imgres?imgurl=http://www.superiorlabels.com/images/Black_WhiteClipart/nuclear/1665483.jpg&amp;imgrefurl=http://www.superiorlabels.com/bwclipart.html&amp;h=72&amp;w=72&amp;sz=4&amp;hl=en&amp;start=32&amp;tbnid=ZnUj9QCVQO0E-M:&amp;tbnh=69&amp;tbnw=69&amp;prev=/images%3Fq%3Dclipart%2Bnuclear%26start%3D21%26gbv%3D2%26ndsp%3D21%26hl%3Den%26sa%3DN" TargetMode="External"/><Relationship Id="rId26" Type="http://schemas.openxmlformats.org/officeDocument/2006/relationships/image" Target="../media/image13.jpeg"/><Relationship Id="rId27" Type="http://schemas.openxmlformats.org/officeDocument/2006/relationships/hyperlink" Target="http://images.google.co.uk/imgres?imgurl=http://www.fotosearch.com/thumb/SUE/SUE104/BWBW0433.jpg&amp;imgrefurl=http://www.fotosearch.com/clip-art/aerosol.html&amp;h=120&amp;w=50&amp;sz=2&amp;hl=en&amp;start=11&amp;tbnid=oIIb17vjxBzFqM:&amp;tbnh=88&amp;tbnw=37&amp;prev=/images%3Fq%3Dclipart%2Baerosol%26gbv%3D2%26hl%3Den" TargetMode="External"/><Relationship Id="rId28" Type="http://schemas.openxmlformats.org/officeDocument/2006/relationships/image" Target="../media/image14.jpeg"/><Relationship Id="rId29" Type="http://schemas.openxmlformats.org/officeDocument/2006/relationships/image" Target="../media/image15.jpe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0"/>
            <a:ext cx="8915400" cy="6553080"/>
          </a:xfrm>
          <a:prstGeom prst="rect">
            <a:avLst/>
          </a:prstGeom>
          <a:noFill/>
          <a:ln w="5724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8"/>
          <p:cNvGrpSpPr/>
          <p:nvPr/>
        </p:nvGrpSpPr>
        <p:grpSpPr>
          <a:xfrm>
            <a:off x="304920" y="228600"/>
            <a:ext cx="8534160" cy="5943600"/>
            <a:chOff x="304920" y="228600"/>
            <a:chExt cx="8534160" cy="5943600"/>
          </a:xfrm>
        </p:grpSpPr>
        <p:sp>
          <p:nvSpPr>
            <p:cNvPr id="43" name="Rectangle 5"/>
            <p:cNvSpPr/>
            <p:nvPr/>
          </p:nvSpPr>
          <p:spPr>
            <a:xfrm>
              <a:off x="304920" y="121896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lbertus Extra Bold"/>
                </a:rPr>
                <a:t>COMIENZ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304920" y="2209680"/>
              <a:ext cx="1218960" cy="990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Ava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304920" y="320040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4920" y="419076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erde t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r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04920" y="5181480"/>
              <a:ext cx="121896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1523880" y="518148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2743200" y="5181480"/>
              <a:ext cx="121932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2743200" y="4190760"/>
              <a:ext cx="1219320" cy="9907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lbertus Extra Bold"/>
                </a:rPr>
                <a:t>Avan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2743200" y="320040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erde t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r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2743200" y="220968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2743200" y="121896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2743200" y="228600"/>
              <a:ext cx="1219320" cy="99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urno ext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3962520" y="22860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181480" y="22860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5181480" y="121896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5181480" y="220968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5181480" y="3200400"/>
              <a:ext cx="1219320" cy="99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troce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a casill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181480" y="4190760"/>
              <a:ext cx="1219320" cy="9907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5181480" y="5181480"/>
              <a:ext cx="121932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vanz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a casill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6400800" y="518148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7620120" y="518148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7620120" y="4190760"/>
              <a:ext cx="121896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7620120" y="320040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7620120" y="220968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lbertus Extra Bold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1"/>
          <p:cNvSpPr/>
          <p:nvPr/>
        </p:nvSpPr>
        <p:spPr>
          <a:xfrm>
            <a:off x="1523880" y="220968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3962520" y="4191120"/>
            <a:ext cx="1218960" cy="99036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1143000" y="220968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5"/>
          <p:cNvSpPr/>
          <p:nvPr/>
        </p:nvSpPr>
        <p:spPr>
          <a:xfrm>
            <a:off x="3505320" y="4267080"/>
            <a:ext cx="2133360" cy="457200"/>
          </a:xfrm>
          <a:custGeom>
            <a:avLst/>
            <a:gdLst>
              <a:gd name="textAreaLeft" fmla="*/ 373320 w 2133360"/>
              <a:gd name="textAreaRight" fmla="*/ 1546920 w 2133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3"/>
          <p:cNvSpPr/>
          <p:nvPr/>
        </p:nvSpPr>
        <p:spPr>
          <a:xfrm>
            <a:off x="6858000" y="914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 MEDIO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4" descr="http://tbn0.google.com/images?q=tbn:ND5zhZY-gJ5QGM:http://www.clipartguide.com/_thumbs/0060-0504-0715-233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334120"/>
            <a:ext cx="7239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8" descr="http://tbn0.google.com/images?q=tbn:NSc3dMHg1IgWOM:http://www.imajlar.com/free_clipart/car_clipart/car_clipart_old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380880"/>
            <a:ext cx="900000" cy="76212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43"/>
          <p:cNvCxnSpPr/>
          <p:nvPr/>
        </p:nvCxnSpPr>
        <p:spPr>
          <a:xfrm>
            <a:off x="4038480" y="380520"/>
            <a:ext cx="1067760" cy="762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5"/>
          <p:cNvCxnSpPr/>
          <p:nvPr/>
        </p:nvCxnSpPr>
        <p:spPr>
          <a:xfrm flipV="1">
            <a:off x="3885840" y="532800"/>
            <a:ext cx="106740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pic>
        <p:nvPicPr>
          <p:cNvPr id="76" name="Picture 180" descr="http://tbn0.google.com/images?q=tbn:DZFE86oIGHz6FM:http://www.brandchannel.com/images/FeaturesProfile/profile_img1_greenpeace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5334120"/>
            <a:ext cx="4842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2" descr="http://tbn0.google.com/images?q=tbn:Khtxxv4iycttNM:http://www.fotosearch.com/comp/imz/imz001/wine-bottles-~-jba048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96080" y="4343400"/>
            <a:ext cx="1028880" cy="65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4" descr="http://tbn0.google.com/images?q=tbn:xapX4bBc4JjDjM:http://www.cedargrove.k12.nj.us/north/media/images/bath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95480" y="5257800"/>
            <a:ext cx="897120" cy="838080"/>
          </a:xfrm>
          <a:prstGeom prst="rect">
            <a:avLst/>
          </a:prstGeom>
          <a:ln w="0">
            <a:noFill/>
          </a:ln>
        </p:spPr>
      </p:pic>
      <p:cxnSp>
        <p:nvCxnSpPr>
          <p:cNvPr id="79" name="Straight Arrow Connector 50"/>
          <p:cNvCxnSpPr/>
          <p:nvPr/>
        </p:nvCxnSpPr>
        <p:spPr>
          <a:xfrm>
            <a:off x="2819160" y="5638320"/>
            <a:ext cx="1067400" cy="762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52"/>
          <p:cNvCxnSpPr/>
          <p:nvPr/>
        </p:nvCxnSpPr>
        <p:spPr>
          <a:xfrm flipV="1">
            <a:off x="2819160" y="5637960"/>
            <a:ext cx="99108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pic>
        <p:nvPicPr>
          <p:cNvPr id="81" name="Picture 188" descr="http://tbn0.google.com/images?q=tbn:VTd_3BSMQFp_PM:http://files.vector-images.com/clipart/letter2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72400" y="335268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0" descr="http://tbn0.google.com/images?q=tbn:Yn7Z3WYt0M8MQM:http://www.smh.com.au/ffxImage/urlpicture_id_1077072782787_2004/02/19/london_bus,0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48720" y="5257800"/>
            <a:ext cx="685800" cy="71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2" descr="http://tbn0.google.com/images?q=tbn:kMAvyo05fGtPWM:http://tiki.oneworld.net/food/organic_food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410080" y="304920"/>
            <a:ext cx="838440" cy="81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4" descr="http://tbn0.google.com/images?q=tbn:ArAGocIAITbmJM:http://www.greenhouse.gov.au/gwci/images/8-tap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971800" y="1371600"/>
            <a:ext cx="885960" cy="80028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59"/>
          <p:cNvCxnSpPr/>
          <p:nvPr/>
        </p:nvCxnSpPr>
        <p:spPr>
          <a:xfrm>
            <a:off x="2819160" y="1371600"/>
            <a:ext cx="1067400" cy="838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6" name="Straight Arrow Connector 61"/>
          <p:cNvCxnSpPr/>
          <p:nvPr/>
        </p:nvCxnSpPr>
        <p:spPr>
          <a:xfrm flipV="1">
            <a:off x="2895480" y="1370880"/>
            <a:ext cx="915120" cy="762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pic>
        <p:nvPicPr>
          <p:cNvPr id="87" name="Picture 196" descr="http://tbn0.google.com/images?q=tbn:ndjhGwXNT6s3pM:http://keeptidy.com/mcart/images/egraphic_paperbox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4100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8" descr="http://tbn0.google.com/images?q=tbn:mpwAjRom8TpwDM:http://www.metrokc.gov/dnr/kidsweb/images/buying_guide/close_the_loop_main4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80880" y="3429000"/>
            <a:ext cx="102096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0" descr="http://tbn0.google.com/images?q=tbn:9cb-XqXZtCEbYM:http://www.wpclipart.com/blanks/shapes/right_foot_print_benji_p_02.pn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828800" y="5257800"/>
            <a:ext cx="609480" cy="77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2" descr="http://tbn0.google.com/images?q=tbn:ZnUj9QCVQO0E-M:http://www.superiorlabels.com/images/Black_WhiteClipart/nuclear/1665483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562720" y="4343400"/>
            <a:ext cx="657000" cy="65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4" descr="http://tbn0.google.com/images?q=tbn:oIIb17vjxBzFqM:http://www.fotosearch.com/thumb/SUE/SUE104/BWBW0433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200400" y="2362320"/>
            <a:ext cx="352440" cy="83808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68"/>
          <p:cNvCxnSpPr/>
          <p:nvPr/>
        </p:nvCxnSpPr>
        <p:spPr>
          <a:xfrm flipV="1">
            <a:off x="2743200" y="2437560"/>
            <a:ext cx="91512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3" name="Straight Arrow Connector 70"/>
          <p:cNvCxnSpPr/>
          <p:nvPr/>
        </p:nvCxnSpPr>
        <p:spPr>
          <a:xfrm>
            <a:off x="2971800" y="2437920"/>
            <a:ext cx="83880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pic>
        <p:nvPicPr>
          <p:cNvPr id="94" name="Picture 206" descr="http://tbn0.google.com/images?q=tbn:QGDVx2M5gEF33M:http://www.tdc.govt.nz/pics/230-Light-switch.jpg"/>
          <p:cNvPicPr/>
          <p:nvPr/>
        </p:nvPicPr>
        <p:blipFill>
          <a:blip r:embed="rId29"/>
          <a:stretch/>
        </p:blipFill>
        <p:spPr>
          <a:xfrm>
            <a:off x="5486400" y="2438280"/>
            <a:ext cx="609480" cy="641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0" y="66294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MC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43:02Z</dcterms:created>
  <dc:creator>Connie Campbell</dc:creator>
  <dc:description/>
  <dc:language>en-US</dc:language>
  <cp:lastModifiedBy>Clare</cp:lastModifiedBy>
  <dcterms:modified xsi:type="dcterms:W3CDTF">2008-11-03T11:37:37Z</dcterms:modified>
  <cp:revision>22</cp:revision>
  <dc:subject/>
  <dc:title>Slide 1</dc:title>
</cp:coreProperties>
</file>