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8DE-EEB7-486E-A238-05B67498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A9D-CD98-4D80-AFEC-B1C3C62F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7B5-410F-40D9-9683-0D58D0A9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439-F77D-40A6-AB7A-A45F9107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3D6-D1B3-49CC-AE50-B92A5568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44A-CC31-4952-A4C1-A4C274C2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DE2-9E1A-491D-9770-D9C5A808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D01-AA48-480F-A080-D30BF6D9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336-2ADE-4823-8538-FDC3FF32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3CE-C578-4345-ADD6-B90A733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21F-BDE5-428C-B38D-758DD41D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6B5-8F6C-4945-B29E-3ED0772C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A5AE-F918-4DDF-ACAF-4D9DABEF55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a Cuba 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 pas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a Argentina en agos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a Ital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jul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de vacaciones al sur de Fra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para una sem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para un m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para quince dí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para diez dí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con mi famil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con el coleg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con mis amig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pasé bi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pasé regul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pasé fenome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pasé bomb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500720" y="6597720"/>
            <a:ext cx="4535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en bar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i en autoc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i 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ch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i 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500720" y="6597720"/>
            <a:ext cx="4535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9:01:54Z</dcterms:created>
  <dc:creator>john</dc:creator>
  <dc:description/>
  <dc:language>en-US</dc:language>
  <cp:lastModifiedBy>Clare Seccombe</cp:lastModifiedBy>
  <dcterms:modified xsi:type="dcterms:W3CDTF">2011-04-04T11:11:03Z</dcterms:modified>
  <cp:revision>14</cp:revision>
  <dc:subject/>
  <dc:title>Slide 1</dc:title>
</cp:coreProperties>
</file>