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EE3-9552-4F6F-9A9C-2D982A99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BDC-9583-4A39-A95A-B8D54542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D4D-8872-4E8C-9B81-41E9BF6A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B46-46B4-47B2-B3AA-25E35991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255-C4C8-48F9-B336-11C9D514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881-46A0-4A24-B7A0-3D3598CB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5CB-33F6-4B82-AF29-9AEBA1F8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316-5842-432B-ADF8-EF248F91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58D-0B75-497A-B161-13F4FF17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7A0-65E4-4862-95C4-B5C76B8D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CD8-98CA-4ABE-8238-AF5857E7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85F-35BB-4618-A85D-1C678A3F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077A-60D5-41E1-8E01-A2191ECAE8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a Cuba 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 pas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a Argentina en agos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a Ital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jul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de vacaciones al sur de Franc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para una sema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para un m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para quince dí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para diez dí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con mi famil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con el coleg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con mis amig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pasé bi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pasé regul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pasé fenome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pasé bomb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4500720" y="6597720"/>
            <a:ext cx="4535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en bar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i en autoc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i 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ch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i 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500720" y="6597720"/>
            <a:ext cx="4535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9:01:54Z</dcterms:created>
  <dc:creator>john</dc:creator>
  <dc:description/>
  <dc:language>en-US</dc:language>
  <cp:lastModifiedBy>Clare Seccombe</cp:lastModifiedBy>
  <dcterms:modified xsi:type="dcterms:W3CDTF">2011-04-04T11:11:03Z</dcterms:modified>
  <cp:revision>14</cp:revision>
  <dc:subject/>
  <dc:title>Slide 1</dc:title>
</cp:coreProperties>
</file>