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3.jpeg" ContentType="image/jpeg"/>
  <Override PartName="/ppt/media/image8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20.png" ContentType="image/png"/>
  <Override PartName="/ppt/media/image6.jpeg" ContentType="image/jpeg"/>
  <Override PartName="/ppt/media/image10.png" ContentType="image/png"/>
  <Override PartName="/ppt/media/image1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E03B9-4887-40B7-9886-503064AC8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A94D9-72E1-46E5-AA69-EBC513C0B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98861-7ABD-4295-BF2B-0C8479673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A7747-56A1-404A-8787-C953D1EEE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9AF47-D602-486B-934C-A577E6945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EAE8B-C309-4B00-A18D-F9AE97B3A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D92E9-F025-4790-A35C-629580841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D0DD0-A0A8-40A6-A227-A839F726C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824A8-F1A8-404F-A2BB-679F8C4B6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FE0AB-C3DB-4213-A524-0CD5F3D54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D7A49-3EA7-44F1-914F-290860F81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A4894-AD50-40EE-BF4C-B8472212E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A3F69-E53A-4772-9015-DCA21B047F6C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ngfl.northumberland.gov.uk/clipart/Food/images/cereal%20bowl_jpg.jpg&amp;imgrefurl=http://ngfl.northumberland.gov.uk/clipart/Food/pages/cereal%20bowl_jpg.htm&amp;usg=__TmZKjIqQziTgjSO3CWp4tILIN6Q=&amp;h=338&amp;w=310&amp;sz=18&amp;hl=en&amp;start=1&amp;um=1&amp;tbnid=2Xbrx0dbsfTFHM:&amp;tbnh=119&amp;tbnw=109&amp;prev=/images?q=bowl+of+cereal+clip+art&amp;hl=en&amp;sa=N&amp;um=1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images.google.co.uk/imgres?imgurl=http://www.best-of-web.com/_images/080108-035708.jpg&amp;imgrefurl=http://www.best-of-web.com/search_term_pages/breakfast.html&amp;usg=__6D0vIl_a5A11VJP59Cfcm_I3DuM=&amp;h=62&amp;w=100&amp;sz=3&amp;hl=en&amp;start=10&amp;um=1&amp;tbnid=D0IAre5wUzezqM:&amp;tbnh=51&amp;tbnw=82&amp;prev=/images?q=toast+clip+art&amp;hl=en&amp;sa=X&amp;um=1" TargetMode="External"/><Relationship Id="rId4" Type="http://schemas.openxmlformats.org/officeDocument/2006/relationships/image" Target="../media/image2.jpeg"/><Relationship Id="rId5" Type="http://schemas.openxmlformats.org/officeDocument/2006/relationships/hyperlink" Target="http://images.google.co.uk/imgres?imgurl=http://www.clipartguide.com/_named_clipart_images/0511-0703-2912-2350_Cooked_Egg_Toast_and_a_Bacon_Strip_clipart_image.jpg&amp;imgrefurl=http://www.clipartguide.com/_pages/0511-0703-2912-2350.html&amp;usg=__SGk3dO4vBdYyWpnV0V-y1dJcA-s=&amp;h=300&amp;w=300&amp;sz=12&amp;hl=en&amp;start=5&amp;um=1&amp;tbnid=wrDRX586XlrTjM:&amp;tbnh=116&amp;tbnw=116&amp;prev=/images?q=bacon+&amp;+egg+clip+art&amp;hl=en&amp;um=1" TargetMode="External"/><Relationship Id="rId6" Type="http://schemas.openxmlformats.org/officeDocument/2006/relationships/image" Target="../media/image3.jpeg"/><Relationship Id="rId7" Type="http://schemas.openxmlformats.org/officeDocument/2006/relationships/hyperlink" Target="http://images.google.co.uk/imgres?imgurl=http://www.clker.com/cliparts/3/b/8/f/11949860391936205509orange_juice_box_bw.svg.hi.png&amp;imgrefurl=http://www.clker.com/clipart-3936.html&amp;usg=__VgL4DFT_id6BsBUZyPFLQ1ffyAU=&amp;h=596&amp;w=408&amp;sz=65&amp;hl=en&amp;start=13&amp;um=1&amp;tbnid=lIUw5lC-xrMzbM:&amp;tbnh=135&amp;tbnw=92&amp;prev=/images?q=juice+clip+art&amp;hl=en&amp;um=1" TargetMode="External"/><Relationship Id="rId8" Type="http://schemas.openxmlformats.org/officeDocument/2006/relationships/image" Target="../media/image4.jpeg"/><Relationship Id="rId9" Type="http://schemas.openxmlformats.org/officeDocument/2006/relationships/hyperlink" Target="http://images.google.co.uk/imgres?imgurl=http://school.discoveryeducation.com/clipart/images/sandwich.gif&amp;imgrefurl=http://school.discoveryeducation.com/clipart/clip/sandwich.html&amp;usg=__Yy80iVcF5sa9cf9LMyHHDOuPT24=&amp;h=363&amp;w=550&amp;sz=5&amp;hl=en&amp;start=1&amp;um=1&amp;tbnid=hRTD_vqppsIbgM:&amp;tbnh=88&amp;tbnw=133&amp;prev=/images?q=sandwich+clip+art&amp;hl=en&amp;um=1" TargetMode="External"/><Relationship Id="rId10" Type="http://schemas.openxmlformats.org/officeDocument/2006/relationships/image" Target="../media/image5.jpeg"/><Relationship Id="rId11" Type="http://schemas.openxmlformats.org/officeDocument/2006/relationships/hyperlink" Target="http://images.google.co.uk/imgres?imgurl=http://framingham.com/kids/clip-art/bw90/sandwich.gif&amp;imgrefurl=http://framingham.com/kids/clip-art/bw90/index.htm&amp;usg=__RULPL43ZiVbAXpm6qwUT9djhYNY=&amp;h=298&amp;w=427&amp;sz=3&amp;hl=en&amp;start=9&amp;um=1&amp;tbnid=U5A4gtll3XNuBM:&amp;tbnh=88&amp;tbnw=126&amp;prev=/images?q=sandwich+clip+art&amp;hl=en&amp;um=1" TargetMode="External"/><Relationship Id="rId12" Type="http://schemas.openxmlformats.org/officeDocument/2006/relationships/image" Target="../media/image6.jpeg"/><Relationship Id="rId13" Type="http://schemas.openxmlformats.org/officeDocument/2006/relationships/hyperlink" Target="http://images.google.co.uk/imgres?imgurl=http://www.fotosearch.com/bthumb/UNC/UNC142/u17010729.jpg&amp;imgrefurl=http://www.fotosearch.com/clip-art/fry.html&amp;usg=__w5vGPw-9ApV0o4S1gQj3yr3csUc=&amp;h=170&amp;w=131&amp;sz=7&amp;hl=en&amp;start=8&amp;um=1&amp;tbnid=U-1-8ClggFCFLM:&amp;tbnh=99&amp;tbnw=76&amp;prev=/images?q=fries+clip+art&amp;hl=en&amp;um=1" TargetMode="External"/><Relationship Id="rId14" Type="http://schemas.openxmlformats.org/officeDocument/2006/relationships/image" Target="../media/image7.jpeg"/><Relationship Id="rId15" Type="http://schemas.openxmlformats.org/officeDocument/2006/relationships/hyperlink" Target="http://images.google.co.uk/imgres?imgurl=http://www.fotosearch.com/bthumb/UNC/UNC153/u23151340.jpg&amp;imgrefurl=http://www.fotosearch.com/clip-art/spaghetti.html&amp;usg=__29LvMNeUsGVsq7elriQ08Yh6Dxs=&amp;h=170&amp;w=142&amp;sz=5&amp;hl=en&amp;start=129&amp;um=1&amp;tbnid=GROn0Ee9Nf3NgM:&amp;tbnh=99&amp;tbnw=83&amp;prev=/images?q=pasta+clip+art&amp;ndsp=21&amp;hl=en&amp;sa=N&amp;start=126&amp;um=1" TargetMode="External"/><Relationship Id="rId16" Type="http://schemas.openxmlformats.org/officeDocument/2006/relationships/image" Target="../media/image8.jpeg"/><Relationship Id="rId17" Type="http://schemas.openxmlformats.org/officeDocument/2006/relationships/hyperlink" Target="http://images.google.co.uk/imgres?imgurl=http://clear.msu.edu/dennie/clipart/pizza.gif&amp;imgrefurl=http://clear.msu.edu/dennie/clipart/&amp;usg=__27IX4aPWXzEpLXlQ_Rb7fVCq6I4=&amp;h=431&amp;w=600&amp;sz=7&amp;hl=en&amp;start=9&amp;um=1&amp;tbnid=EcsrGtLPT2umdM:&amp;tbnh=97&amp;tbnw=135&amp;prev=/images?q=pizza+clip+art&amp;hl=en&amp;um=1" TargetMode="External"/><Relationship Id="rId18" Type="http://schemas.openxmlformats.org/officeDocument/2006/relationships/image" Target="../media/image9.jpeg"/><Relationship Id="rId19" Type="http://schemas.openxmlformats.org/officeDocument/2006/relationships/hyperlink" Target="http://www.google.co.uk/url?sa=i&amp;rct=j&amp;q=coffee+pot+clipart&amp;source=images&amp;cd=&amp;cad=rja&amp;docid=GtJZeF9UhQuY9M&amp;tbnid=QFXn8VYg_tQOUM:&amp;ved=0CAUQjRw&amp;url=http://www.clker.com/clipart-pot-of-coffee.html&amp;ei=-QE5Ud7sO-yT0QXJxYHQBw&amp;bvm=bv.43287494,d.ZWU&amp;psig=AFQjCNFVyVGtAohWw52m4Hb0WpBiCK3VYA&amp;ust=1362776949219329" TargetMode="External"/><Relationship Id="rId20" Type="http://schemas.openxmlformats.org/officeDocument/2006/relationships/image" Target="../media/image10.png"/><Relationship Id="rId21" Type="http://schemas.openxmlformats.org/officeDocument/2006/relationships/hyperlink" Target="http://www.google.co.uk/url?sa=i&amp;rct=j&amp;q=tea+pot+clipart&amp;source=images&amp;cd=&amp;cad=rja&amp;docid=3pqTp8-YxXFG1M&amp;tbnid=1UJBdIOYUL9GEM:&amp;ved=0CAUQjRw&amp;url=http://www.clker.com/clipart-black-teapot.html&amp;ei=PQI5UbW-Aevw0gWVsoCgCA&amp;bvm=bv.43287494,d.ZWU&amp;psig=AFQjCNH5xNw3mznL2B3qV0JhAEPpfYcIDg&amp;ust=1362777010190653" TargetMode="External"/><Relationship Id="rId22" Type="http://schemas.openxmlformats.org/officeDocument/2006/relationships/image" Target="../media/image11.png"/><Relationship Id="rId23" Type="http://schemas.openxmlformats.org/officeDocument/2006/relationships/hyperlink" Target="http://www.lightbulblanguages.co.uk/" TargetMode="External"/><Relationship Id="rId2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ngfl.northumberland.gov.uk/dt/dtclip/Food_Alb/images/chicken_JPG.jpg&amp;imgrefurl=http://ngfl.northumberland.gov.uk/dt/dtclip/Food_Alb/pages/chicken_JPG.htm&amp;usg=__Q8ok6F81LMPaRT6MKMrg-URvIvk=&amp;h=312&amp;w=480&amp;sz=16&amp;hl=en&amp;start=3&amp;um=1&amp;tbnid=_uUh9DuBSlWvxM:&amp;tbnh=84&amp;tbnw=129&amp;prev=/images?q=chicken+clip+art&amp;hl=en&amp;um=1" TargetMode="External"/><Relationship Id="rId2" Type="http://schemas.openxmlformats.org/officeDocument/2006/relationships/image" Target="../media/image12.jpeg"/><Relationship Id="rId3" Type="http://schemas.openxmlformats.org/officeDocument/2006/relationships/hyperlink" Target="http://images.google.co.uk/imgres?imgurl=http://clear.msu.edu/dennie/clipart/egg.gif&amp;imgrefurl=http://clear.msu.edu/dennie/clipart/&amp;usg=__BTt1L6It4vHiIm8Mndpkg2qpZv4=&amp;h=636&amp;w=700&amp;sz=6&amp;hl=en&amp;start=5&amp;um=1&amp;tbnid=p9Pbtdjh5sdDQM:&amp;tbnh=127&amp;tbnw=140&amp;prev=/images?q=eggs+clip+art&amp;hl=en&amp;um=1" TargetMode="External"/><Relationship Id="rId4" Type="http://schemas.openxmlformats.org/officeDocument/2006/relationships/image" Target="../media/image13.jpeg"/><Relationship Id="rId5" Type="http://schemas.openxmlformats.org/officeDocument/2006/relationships/hyperlink" Target="http://images.google.co.uk/imgres?imgurl=http://www.best-of-web.com/_images_named/rice%20bowl_clipart_070923-032843.jpg&amp;imgrefurl=http://www.best-of-web.com/search_term_pages/rice_bowl.html&amp;usg=__mbEXgW3VYFLhsB0sIZ5-ZfphaAI=&amp;h=91&amp;w=100&amp;sz=3&amp;hl=en&amp;start=4&amp;um=1&amp;tbnid=174jJOiApyS6PM:&amp;tbnh=75&amp;tbnw=82&amp;prev=/images?q=rice+clip+art&amp;hl=en&amp;um=1" TargetMode="External"/><Relationship Id="rId6" Type="http://schemas.openxmlformats.org/officeDocument/2006/relationships/image" Target="../media/image14.jpeg"/><Relationship Id="rId7" Type="http://schemas.openxmlformats.org/officeDocument/2006/relationships/hyperlink" Target="http://images.google.co.uk/imgres?imgurl=http://ngfl.northumberland.gov.uk/dt/dtclip/Food_Alb/images/fish_JPG.jpg&amp;imgrefurl=http://ngfl.northumberland.gov.uk/dt/dtclip/Food_Alb/pages/fish_JPG.htm&amp;usg=__gsCrv7fNPXu_m1N4kCXTFEEYEUA=&amp;h=312&amp;w=522&amp;sz=26&amp;hl=en&amp;start=13&amp;um=1&amp;tbnid=l3eD5PYbOIbbDM:&amp;tbnh=78&amp;tbnw=131&amp;prev=/images?q=fish+clip+art&amp;hl=en&amp;um=1" TargetMode="External"/><Relationship Id="rId8" Type="http://schemas.openxmlformats.org/officeDocument/2006/relationships/image" Target="../media/image15.jpeg"/><Relationship Id="rId9" Type="http://schemas.openxmlformats.org/officeDocument/2006/relationships/hyperlink" Target="http://images.google.co.uk/imgres?imgurl=http://ngfl.northumberland.gov.uk/dt/dtclip/Food_Alb/images/meat2_JPG.jpg&amp;imgrefurl=http://ngfl.northumberland.gov.uk/dt/dtclip/Food_Alb/pages/meat2_JPG.htm&amp;usg=__n-t6SVv7ePPSm8_W_AlUNRUNiUo=&amp;h=279&amp;w=434&amp;sz=19&amp;hl=en&amp;start=13&amp;um=1&amp;tbnid=2dRlWESdmtdjxM:&amp;tbnh=81&amp;tbnw=126&amp;prev=/images?q=meat+clip+art&amp;hl=en&amp;um=1" TargetMode="External"/><Relationship Id="rId10" Type="http://schemas.openxmlformats.org/officeDocument/2006/relationships/image" Target="../media/image16.jpeg"/><Relationship Id="rId11" Type="http://schemas.openxmlformats.org/officeDocument/2006/relationships/hyperlink" Target="http://images.google.co.uk/imgres?imgurl=http://clear.msu.edu/dennie/clipart/cake1.gif&amp;imgrefurl=http://clear.msu.edu/dennie/clipart/&amp;usg=__Vt3q6lYKyo4feLjqRs1857jO3c8=&amp;h=505&amp;w=800&amp;sz=7&amp;hl=en&amp;start=22&amp;um=1&amp;tbnid=XJkehmvrScNhNM:&amp;tbnh=90&amp;tbnw=143&amp;prev=/images?q=cake+clip+art&amp;ndsp=21&amp;hl=en&amp;sa=N&amp;start=21&amp;um=1" TargetMode="External"/><Relationship Id="rId12" Type="http://schemas.openxmlformats.org/officeDocument/2006/relationships/image" Target="../media/image17.jpeg"/><Relationship Id="rId13" Type="http://schemas.openxmlformats.org/officeDocument/2006/relationships/hyperlink" Target="http://images.google.co.uk/imgres?imgurl=http://arts.monash.edu.au/korean/klec/assets/clipart002/klec2003-c192.gif&amp;imgrefurl=http://arts.monash.edu.au/korean/klec/clipart/index.php?RollID=clipart002&amp;FrameID=klec2003-c192&amp;usg=__BU0Lxj0mw05M0ZCLoi2Hx-5LmUo=&amp;h=294&amp;w=400&amp;sz=10&amp;hl=en&amp;start=99&amp;um=1&amp;tbnid=V_2So8jhG-YXWM:&amp;tbnh=91&amp;tbnw=124&amp;prev=/images?q=candy+clip+art&amp;ndsp=21&amp;hl=en&amp;sa=N&amp;start=84&amp;um=1" TargetMode="External"/><Relationship Id="rId14" Type="http://schemas.openxmlformats.org/officeDocument/2006/relationships/image" Target="../media/image18.jpeg"/><Relationship Id="rId15" Type="http://schemas.openxmlformats.org/officeDocument/2006/relationships/hyperlink" Target="http://images.google.co.uk/imgres?imgurl=http://www.funfonix.com/clipart/cookie.gif&amp;imgrefurl=http://www.funfonix.com/clipart1.php&amp;usg=__-uz4ta8z9Xv1sYVZ_NrpnRPNffc=&amp;h=300&amp;w=300&amp;sz=7&amp;hl=en&amp;start=7&amp;um=1&amp;tbnid=NOVWQ5eB8n0GWM:&amp;tbnh=116&amp;tbnw=116&amp;prev=/images?q=cookies+clip+art&amp;ndsp=21&amp;hl=en&amp;sa=N&amp;um=1" TargetMode="External"/><Relationship Id="rId16" Type="http://schemas.openxmlformats.org/officeDocument/2006/relationships/image" Target="../media/image19.jpeg"/><Relationship Id="rId17" Type="http://schemas.openxmlformats.org/officeDocument/2006/relationships/hyperlink" Target="http://www.google.co.uk/url?sa=i&amp;rct=j&amp;q=coke+clipart&amp;source=images&amp;cd=&amp;cad=rja&amp;docid=GgEpxLFhCISLIM&amp;tbnid=jhCUKXIBsRHYKM:&amp;ved=0CAUQjRw&amp;url=http://hecklin.de/Ahnentafeln/clipart-coca-cola&amp;ei=nwI5UaOCBemx0QX10oGICA&amp;bvm=bv.43287494,d.ZWU&amp;psig=AFQjCNGJiFUkCHrDmXO-WttI8a1UyyqwdA&amp;ust=1362777110909434" TargetMode="External"/><Relationship Id="rId18" Type="http://schemas.openxmlformats.org/officeDocument/2006/relationships/image" Target="../media/image20.png"/><Relationship Id="rId19" Type="http://schemas.openxmlformats.org/officeDocument/2006/relationships/hyperlink" Target="http://www.google.co.uk/url?sa=i&amp;source=images&amp;cd=&amp;cad=rja&amp;docid=3gJ-O-Z0sxf0WM&amp;tbnid=AaU-paLRHGyAvM:&amp;ved=0CAgQjRwwAA&amp;url=http://bestclipartblog.com/25-ice-cream-clip-art.html/ice-cream-clip-art-3&amp;ei=zQI5Uc3wFIXWPZfVgLAM&amp;psig=AFQjCNHI4VsqiI9mbMkgQxujosiNNjShEQ&amp;ust=1362777165495003" TargetMode="External"/><Relationship Id="rId20" Type="http://schemas.openxmlformats.org/officeDocument/2006/relationships/image" Target="../media/image21.jpeg"/><Relationship Id="rId21" Type="http://schemas.openxmlformats.org/officeDocument/2006/relationships/hyperlink" Target="http://www.google.co.uk/url?sa=i&amp;rct=j&amp;q=fruit+clipart&amp;source=images&amp;cd=&amp;cad=rja&amp;docid=zAsx8ym207EG_M&amp;tbnid=At0HpDHyvjKLuM:&amp;ved=0CAUQjRw&amp;url=http://www.arthursclipart.org/fruits/fruit/page_03.htm&amp;ei=DgM5UdinA8Sa1AW_uYDQCA&amp;bvm=bv.43287494,d.ZWU&amp;psig=AFQjCNFL8Q2t6JSE2PFp95C1U0mU7eW3MQ&amp;ust=1362777219617626" TargetMode="External"/><Relationship Id="rId22" Type="http://schemas.openxmlformats.org/officeDocument/2006/relationships/image" Target="../media/image22.png"/><Relationship Id="rId23" Type="http://schemas.openxmlformats.org/officeDocument/2006/relationships/image" Target="../media/image23.jpeg"/><Relationship Id="rId2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"/>
          <p:cNvSpPr/>
          <p:nvPr/>
        </p:nvSpPr>
        <p:spPr>
          <a:xfrm>
            <a:off x="333360" y="539640"/>
            <a:ext cx="144000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2"/>
          <p:cNvSpPr/>
          <p:nvPr/>
        </p:nvSpPr>
        <p:spPr>
          <a:xfrm>
            <a:off x="1773360" y="539640"/>
            <a:ext cx="143964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3573360" y="539640"/>
            <a:ext cx="144000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4"/>
          <p:cNvSpPr/>
          <p:nvPr/>
        </p:nvSpPr>
        <p:spPr>
          <a:xfrm>
            <a:off x="5013360" y="539640"/>
            <a:ext cx="144000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5"/>
          <p:cNvSpPr/>
          <p:nvPr/>
        </p:nvSpPr>
        <p:spPr>
          <a:xfrm>
            <a:off x="333360" y="1835280"/>
            <a:ext cx="144000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ectangle 6"/>
          <p:cNvSpPr/>
          <p:nvPr/>
        </p:nvSpPr>
        <p:spPr>
          <a:xfrm>
            <a:off x="1773360" y="1835280"/>
            <a:ext cx="143964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3573360" y="1835280"/>
            <a:ext cx="144000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ectangle 8"/>
          <p:cNvSpPr/>
          <p:nvPr/>
        </p:nvSpPr>
        <p:spPr>
          <a:xfrm>
            <a:off x="5013360" y="1835280"/>
            <a:ext cx="144000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Rectangle 9"/>
          <p:cNvSpPr/>
          <p:nvPr/>
        </p:nvSpPr>
        <p:spPr>
          <a:xfrm>
            <a:off x="333360" y="3203640"/>
            <a:ext cx="144000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Rectangle 10"/>
          <p:cNvSpPr/>
          <p:nvPr/>
        </p:nvSpPr>
        <p:spPr>
          <a:xfrm>
            <a:off x="333360" y="4572000"/>
            <a:ext cx="144000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11"/>
          <p:cNvSpPr/>
          <p:nvPr/>
        </p:nvSpPr>
        <p:spPr>
          <a:xfrm>
            <a:off x="333360" y="5940360"/>
            <a:ext cx="144000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ectangle 12"/>
          <p:cNvSpPr/>
          <p:nvPr/>
        </p:nvSpPr>
        <p:spPr>
          <a:xfrm>
            <a:off x="333360" y="7308720"/>
            <a:ext cx="1440000" cy="100836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13"/>
          <p:cNvSpPr/>
          <p:nvPr/>
        </p:nvSpPr>
        <p:spPr>
          <a:xfrm>
            <a:off x="1773360" y="3203640"/>
            <a:ext cx="143964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3573360" y="3203640"/>
            <a:ext cx="144000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15"/>
          <p:cNvSpPr/>
          <p:nvPr/>
        </p:nvSpPr>
        <p:spPr>
          <a:xfrm>
            <a:off x="5013360" y="3203640"/>
            <a:ext cx="144000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Rectangle 16"/>
          <p:cNvSpPr/>
          <p:nvPr/>
        </p:nvSpPr>
        <p:spPr>
          <a:xfrm>
            <a:off x="1773360" y="4572000"/>
            <a:ext cx="143964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Rectangle 17"/>
          <p:cNvSpPr/>
          <p:nvPr/>
        </p:nvSpPr>
        <p:spPr>
          <a:xfrm>
            <a:off x="3573360" y="4572000"/>
            <a:ext cx="144000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Rectangle 18"/>
          <p:cNvSpPr/>
          <p:nvPr/>
        </p:nvSpPr>
        <p:spPr>
          <a:xfrm>
            <a:off x="5013360" y="4572000"/>
            <a:ext cx="144000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Rectangle 19"/>
          <p:cNvSpPr/>
          <p:nvPr/>
        </p:nvSpPr>
        <p:spPr>
          <a:xfrm>
            <a:off x="1773360" y="5940360"/>
            <a:ext cx="143964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Rectangle 20"/>
          <p:cNvSpPr/>
          <p:nvPr/>
        </p:nvSpPr>
        <p:spPr>
          <a:xfrm>
            <a:off x="3573360" y="5940360"/>
            <a:ext cx="144000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Rectangle 21"/>
          <p:cNvSpPr/>
          <p:nvPr/>
        </p:nvSpPr>
        <p:spPr>
          <a:xfrm>
            <a:off x="5013360" y="5940360"/>
            <a:ext cx="144000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Rectangle 22"/>
          <p:cNvSpPr/>
          <p:nvPr/>
        </p:nvSpPr>
        <p:spPr>
          <a:xfrm>
            <a:off x="1773360" y="7308720"/>
            <a:ext cx="1439640" cy="100836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Rectangle 23"/>
          <p:cNvSpPr/>
          <p:nvPr/>
        </p:nvSpPr>
        <p:spPr>
          <a:xfrm>
            <a:off x="3573360" y="7308720"/>
            <a:ext cx="1440000" cy="100836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Rectangle 24"/>
          <p:cNvSpPr/>
          <p:nvPr/>
        </p:nvSpPr>
        <p:spPr>
          <a:xfrm>
            <a:off x="5013360" y="7308720"/>
            <a:ext cx="1440000" cy="100836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Rectangle 26"/>
          <p:cNvSpPr/>
          <p:nvPr/>
        </p:nvSpPr>
        <p:spPr>
          <a:xfrm>
            <a:off x="1945800" y="755640"/>
            <a:ext cx="10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Gothic"/>
              </a:rPr>
              <a:t>lo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Gothic"/>
              </a:rPr>
              <a:t>cereal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Rectangle 28"/>
          <p:cNvSpPr/>
          <p:nvPr/>
        </p:nvSpPr>
        <p:spPr>
          <a:xfrm>
            <a:off x="5013360" y="755640"/>
            <a:ext cx="136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entury Gothic"/>
              </a:rPr>
              <a:t>el pan tostad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Rectangle 30"/>
          <p:cNvSpPr/>
          <p:nvPr/>
        </p:nvSpPr>
        <p:spPr>
          <a:xfrm>
            <a:off x="1773360" y="1979640"/>
            <a:ext cx="15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Gothic"/>
              </a:rPr>
              <a:t>los huevo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Gothic"/>
              </a:rPr>
              <a:t>con beic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Rectangle 32"/>
          <p:cNvSpPr/>
          <p:nvPr/>
        </p:nvSpPr>
        <p:spPr>
          <a:xfrm>
            <a:off x="5013360" y="1979640"/>
            <a:ext cx="137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Gothic"/>
              </a:rPr>
              <a:t>el café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Rectangle 34"/>
          <p:cNvSpPr/>
          <p:nvPr/>
        </p:nvSpPr>
        <p:spPr>
          <a:xfrm>
            <a:off x="1773360" y="3419640"/>
            <a:ext cx="136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entury Gothic"/>
              </a:rPr>
              <a:t>el té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Rectangle 36"/>
          <p:cNvSpPr/>
          <p:nvPr/>
        </p:nvSpPr>
        <p:spPr>
          <a:xfrm>
            <a:off x="5244840" y="3348000"/>
            <a:ext cx="103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Gothic"/>
              </a:rPr>
              <a:t>el zum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Rectangle 38"/>
          <p:cNvSpPr/>
          <p:nvPr/>
        </p:nvSpPr>
        <p:spPr>
          <a:xfrm>
            <a:off x="1893240" y="4788000"/>
            <a:ext cx="126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Gothic"/>
              </a:rPr>
              <a:t>lo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Gothic"/>
              </a:rPr>
              <a:t>bocadillo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40"/>
          <p:cNvSpPr/>
          <p:nvPr/>
        </p:nvSpPr>
        <p:spPr>
          <a:xfrm>
            <a:off x="5039640" y="4788000"/>
            <a:ext cx="1441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entury Gothic"/>
              </a:rPr>
              <a:t>la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entury Gothic"/>
              </a:rPr>
              <a:t>hamburguesa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Rectangle 42"/>
          <p:cNvSpPr/>
          <p:nvPr/>
        </p:nvSpPr>
        <p:spPr>
          <a:xfrm>
            <a:off x="1841040" y="6156360"/>
            <a:ext cx="133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Gothic"/>
              </a:rPr>
              <a:t>las patata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Gothic"/>
              </a:rPr>
              <a:t>frita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Rectangle 45"/>
          <p:cNvSpPr/>
          <p:nvPr/>
        </p:nvSpPr>
        <p:spPr>
          <a:xfrm>
            <a:off x="5252040" y="6156360"/>
            <a:ext cx="101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Gothic"/>
              </a:rPr>
              <a:t>la past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Rectangle 49"/>
          <p:cNvSpPr/>
          <p:nvPr/>
        </p:nvSpPr>
        <p:spPr>
          <a:xfrm>
            <a:off x="1773360" y="7596360"/>
            <a:ext cx="14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Gothic"/>
              </a:rPr>
              <a:t>la pizz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51"/>
          <p:cNvSpPr/>
          <p:nvPr/>
        </p:nvSpPr>
        <p:spPr>
          <a:xfrm>
            <a:off x="5191560" y="7524720"/>
            <a:ext cx="96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Gothic"/>
              </a:rPr>
              <a:t>el poll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TextBox 48"/>
          <p:cNvSpPr/>
          <p:nvPr/>
        </p:nvSpPr>
        <p:spPr>
          <a:xfrm>
            <a:off x="476280" y="755640"/>
            <a:ext cx="10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LA COMID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2" descr="http://tbn3.google.com/images?q=tbn:2Xbrx0dbsfTFHM:http://ngfl.northumberland.gov.uk/clipart/Food/images/cereal%2520bowl_jpg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716280" y="684360"/>
            <a:ext cx="1047960" cy="8064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4" descr="http://tbn0.google.com/images?q=tbn:D0IAre5wUzezqM:http://www.best-of-web.com/_images/080108-035708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76280" y="1979640"/>
            <a:ext cx="1149480" cy="7142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6" descr="http://tbn1.google.com/images?q=tbn:wrDRX586XlrTjM:http://www.clipartguide.com/_named_clipart_images/0511-0703-2912-2350_Cooked_Egg_Toast_and_a_Bacon_Strip_clipart_image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860640" y="1908000"/>
            <a:ext cx="889200" cy="8892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0" descr="http://tbn0.google.com/images?q=tbn:lIUw5lC-xrMzbM:http://www.clker.com/cliparts/3/b/8/f/11949860391936205509orange_juice_box_bw.svg.hi.png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549360" y="4643280"/>
            <a:ext cx="1008000" cy="9082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2" descr="http://tbn3.google.com/images?q=tbn:hRTD_vqppsIbgM:http://school.discoveryeducation.com/clipart/images/sandwich.gif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3645000" y="4643280"/>
            <a:ext cx="1266840" cy="8384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4" descr="http://tbn0.google.com/images?q=tbn:U5A4gtll3XNuBM:http://framingham.com/kids/clip-art/bw90/sandwich.gif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476280" y="6012000"/>
            <a:ext cx="1200240" cy="8380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6" descr="http://tbn2.google.com/images?q=tbn:U-1-8ClggFCFLM:http://www.fotosearch.com/bthumb/UNC/UNC142/u17010729.jpg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3789360" y="6012000"/>
            <a:ext cx="1015920" cy="8636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8" descr="http://tbn3.google.com/images?q=tbn:GROn0Ee9Nf3NgM:http://www.fotosearch.com/bthumb/UNC/UNC153/u23151340.jpg">
            <a:hlinkClick r:id="rId15"/>
          </p:cNvPr>
          <p:cNvPicPr/>
          <p:nvPr/>
        </p:nvPicPr>
        <p:blipFill>
          <a:blip r:embed="rId16"/>
          <a:stretch/>
        </p:blipFill>
        <p:spPr>
          <a:xfrm>
            <a:off x="549360" y="7451640"/>
            <a:ext cx="976320" cy="8002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0" descr="http://tbn3.google.com/images?q=tbn:EcsrGtLPT2umdM:http://clear.msu.edu/dennie/clipart/pizza.gif">
            <a:hlinkClick r:id="rId17"/>
          </p:cNvPr>
          <p:cNvPicPr/>
          <p:nvPr/>
        </p:nvPicPr>
        <p:blipFill>
          <a:blip r:embed="rId18"/>
          <a:stretch/>
        </p:blipFill>
        <p:spPr>
          <a:xfrm>
            <a:off x="3645000" y="7380360"/>
            <a:ext cx="1185840" cy="8524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" descr="http://www.clker.com/cliparts/Y/5/s/d/m/l/pot-of-coffee-md.png">
            <a:hlinkClick r:id="rId19"/>
          </p:cNvPr>
          <p:cNvPicPr/>
          <p:nvPr/>
        </p:nvPicPr>
        <p:blipFill>
          <a:blip r:embed="rId20"/>
          <a:stretch/>
        </p:blipFill>
        <p:spPr>
          <a:xfrm>
            <a:off x="476280" y="3271680"/>
            <a:ext cx="1152360" cy="8906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4" descr="http://www.clker.com/cliparts/S/A/Y/u/o/F/black-teapot-hi.png">
            <a:hlinkClick r:id="rId21"/>
          </p:cNvPr>
          <p:cNvPicPr/>
          <p:nvPr/>
        </p:nvPicPr>
        <p:blipFill>
          <a:blip r:embed="rId22"/>
          <a:stretch/>
        </p:blipFill>
        <p:spPr>
          <a:xfrm>
            <a:off x="3789360" y="3276720"/>
            <a:ext cx="1009800" cy="758880"/>
          </a:xfrm>
          <a:prstGeom prst="rect">
            <a:avLst/>
          </a:prstGeom>
          <a:ln w="0">
            <a:noFill/>
          </a:ln>
        </p:spPr>
      </p:pic>
      <p:sp>
        <p:nvSpPr>
          <p:cNvPr id="89" name="TextBox 25"/>
          <p:cNvSpPr/>
          <p:nvPr/>
        </p:nvSpPr>
        <p:spPr>
          <a:xfrm>
            <a:off x="1628640" y="8783640"/>
            <a:ext cx="5040360" cy="2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 Rounded MT Bold"/>
              </a:rPr>
              <a:t>© Light Bulb Languages/MConnolly 2014 </a:t>
            </a:r>
            <a:r>
              <a:rPr b="0" lang="en-GB" sz="800" spc="-1" strike="noStrike" u="sng">
                <a:solidFill>
                  <a:srgbClr val="0000ff"/>
                </a:solidFill>
                <a:uFillTx/>
                <a:latin typeface="Arial Rounded MT Bold"/>
                <a:hlinkClick r:id="rId23"/>
              </a:rPr>
              <a:t>http://www.lightbulblanguages.co.uk</a:t>
            </a:r>
            <a:r>
              <a:rPr b="0" lang="en-GB" sz="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1"/>
          <p:cNvSpPr/>
          <p:nvPr/>
        </p:nvSpPr>
        <p:spPr>
          <a:xfrm>
            <a:off x="333360" y="539640"/>
            <a:ext cx="144000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Rectangle 2"/>
          <p:cNvSpPr/>
          <p:nvPr/>
        </p:nvSpPr>
        <p:spPr>
          <a:xfrm>
            <a:off x="1773360" y="539640"/>
            <a:ext cx="143964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Rectangle 3"/>
          <p:cNvSpPr/>
          <p:nvPr/>
        </p:nvSpPr>
        <p:spPr>
          <a:xfrm>
            <a:off x="3573360" y="539640"/>
            <a:ext cx="144000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Rectangle 4"/>
          <p:cNvSpPr/>
          <p:nvPr/>
        </p:nvSpPr>
        <p:spPr>
          <a:xfrm>
            <a:off x="5013360" y="539640"/>
            <a:ext cx="144000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Rectangle 5"/>
          <p:cNvSpPr/>
          <p:nvPr/>
        </p:nvSpPr>
        <p:spPr>
          <a:xfrm>
            <a:off x="333360" y="1835280"/>
            <a:ext cx="144000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Rectangle 6"/>
          <p:cNvSpPr/>
          <p:nvPr/>
        </p:nvSpPr>
        <p:spPr>
          <a:xfrm>
            <a:off x="1773360" y="1835280"/>
            <a:ext cx="143964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Rectangle 7"/>
          <p:cNvSpPr/>
          <p:nvPr/>
        </p:nvSpPr>
        <p:spPr>
          <a:xfrm>
            <a:off x="3573360" y="1835280"/>
            <a:ext cx="144000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Rectangle 8"/>
          <p:cNvSpPr/>
          <p:nvPr/>
        </p:nvSpPr>
        <p:spPr>
          <a:xfrm>
            <a:off x="5013360" y="1835280"/>
            <a:ext cx="144000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Rectangle 9"/>
          <p:cNvSpPr/>
          <p:nvPr/>
        </p:nvSpPr>
        <p:spPr>
          <a:xfrm>
            <a:off x="333360" y="3203640"/>
            <a:ext cx="144000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Rectangle 10"/>
          <p:cNvSpPr/>
          <p:nvPr/>
        </p:nvSpPr>
        <p:spPr>
          <a:xfrm>
            <a:off x="333360" y="4572000"/>
            <a:ext cx="144000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Rectangle 11"/>
          <p:cNvSpPr/>
          <p:nvPr/>
        </p:nvSpPr>
        <p:spPr>
          <a:xfrm>
            <a:off x="333360" y="5940360"/>
            <a:ext cx="144000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Rectangle 12"/>
          <p:cNvSpPr/>
          <p:nvPr/>
        </p:nvSpPr>
        <p:spPr>
          <a:xfrm>
            <a:off x="333360" y="7308720"/>
            <a:ext cx="1440000" cy="100836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Rectangle 13"/>
          <p:cNvSpPr/>
          <p:nvPr/>
        </p:nvSpPr>
        <p:spPr>
          <a:xfrm>
            <a:off x="1773360" y="3203640"/>
            <a:ext cx="143964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Rectangle 14"/>
          <p:cNvSpPr/>
          <p:nvPr/>
        </p:nvSpPr>
        <p:spPr>
          <a:xfrm>
            <a:off x="3573360" y="3203640"/>
            <a:ext cx="144000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Rectangle 15"/>
          <p:cNvSpPr/>
          <p:nvPr/>
        </p:nvSpPr>
        <p:spPr>
          <a:xfrm>
            <a:off x="5013360" y="3203640"/>
            <a:ext cx="144000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Rectangle 16"/>
          <p:cNvSpPr/>
          <p:nvPr/>
        </p:nvSpPr>
        <p:spPr>
          <a:xfrm>
            <a:off x="1773360" y="4572000"/>
            <a:ext cx="143964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Rectangle 17"/>
          <p:cNvSpPr/>
          <p:nvPr/>
        </p:nvSpPr>
        <p:spPr>
          <a:xfrm>
            <a:off x="3573360" y="4572000"/>
            <a:ext cx="144000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Rectangle 18"/>
          <p:cNvSpPr/>
          <p:nvPr/>
        </p:nvSpPr>
        <p:spPr>
          <a:xfrm>
            <a:off x="5013360" y="4572000"/>
            <a:ext cx="144000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Rectangle 19"/>
          <p:cNvSpPr/>
          <p:nvPr/>
        </p:nvSpPr>
        <p:spPr>
          <a:xfrm>
            <a:off x="1773360" y="5940360"/>
            <a:ext cx="143964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Rectangle 20"/>
          <p:cNvSpPr/>
          <p:nvPr/>
        </p:nvSpPr>
        <p:spPr>
          <a:xfrm>
            <a:off x="3573360" y="5940360"/>
            <a:ext cx="144000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Rectangle 21"/>
          <p:cNvSpPr/>
          <p:nvPr/>
        </p:nvSpPr>
        <p:spPr>
          <a:xfrm>
            <a:off x="5013360" y="5940360"/>
            <a:ext cx="144000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Rectangle 22"/>
          <p:cNvSpPr/>
          <p:nvPr/>
        </p:nvSpPr>
        <p:spPr>
          <a:xfrm>
            <a:off x="1773360" y="7308720"/>
            <a:ext cx="1439640" cy="100836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Rectangle 23"/>
          <p:cNvSpPr/>
          <p:nvPr/>
        </p:nvSpPr>
        <p:spPr>
          <a:xfrm>
            <a:off x="3573360" y="7308720"/>
            <a:ext cx="1440000" cy="100836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Rectangle 24"/>
          <p:cNvSpPr/>
          <p:nvPr/>
        </p:nvSpPr>
        <p:spPr>
          <a:xfrm>
            <a:off x="5013360" y="7308720"/>
            <a:ext cx="1440000" cy="100836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Rectangle 37"/>
          <p:cNvSpPr/>
          <p:nvPr/>
        </p:nvSpPr>
        <p:spPr>
          <a:xfrm>
            <a:off x="1861560" y="755640"/>
            <a:ext cx="132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Gothic"/>
              </a:rPr>
              <a:t>los huevo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Rectangle 38"/>
          <p:cNvSpPr/>
          <p:nvPr/>
        </p:nvSpPr>
        <p:spPr>
          <a:xfrm>
            <a:off x="5052240" y="3348000"/>
            <a:ext cx="129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Gothic"/>
              </a:rPr>
              <a:t>lo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Gothic"/>
              </a:rPr>
              <a:t>caramelo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Rectangle 39"/>
          <p:cNvSpPr/>
          <p:nvPr/>
        </p:nvSpPr>
        <p:spPr>
          <a:xfrm>
            <a:off x="5208120" y="2124000"/>
            <a:ext cx="103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Gothic"/>
              </a:rPr>
              <a:t>la carn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Rectangle 40"/>
          <p:cNvSpPr/>
          <p:nvPr/>
        </p:nvSpPr>
        <p:spPr>
          <a:xfrm>
            <a:off x="1773360" y="3492360"/>
            <a:ext cx="151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entury Gothic"/>
              </a:rPr>
              <a:t>la tart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Rectangle 43"/>
          <p:cNvSpPr/>
          <p:nvPr/>
        </p:nvSpPr>
        <p:spPr>
          <a:xfrm>
            <a:off x="5084640" y="4859280"/>
            <a:ext cx="13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Gothic"/>
              </a:rPr>
              <a:t>la co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Gothic"/>
              </a:rPr>
              <a:t>col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Rectangle 46"/>
          <p:cNvSpPr/>
          <p:nvPr/>
        </p:nvSpPr>
        <p:spPr>
          <a:xfrm>
            <a:off x="5429880" y="7596360"/>
            <a:ext cx="55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Gothic"/>
              </a:rPr>
              <a:t>F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49"/>
          <p:cNvSpPr/>
          <p:nvPr/>
        </p:nvSpPr>
        <p:spPr>
          <a:xfrm>
            <a:off x="1844640" y="4716360"/>
            <a:ext cx="129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Gothic"/>
              </a:rPr>
              <a:t>las galleta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50"/>
          <p:cNvSpPr/>
          <p:nvPr/>
        </p:nvSpPr>
        <p:spPr>
          <a:xfrm>
            <a:off x="5013360" y="75564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Gothic"/>
              </a:rPr>
              <a:t>el arroz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TextBox 52"/>
          <p:cNvSpPr/>
          <p:nvPr/>
        </p:nvSpPr>
        <p:spPr>
          <a:xfrm>
            <a:off x="1844640" y="6227640"/>
            <a:ext cx="12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entury Gothic"/>
              </a:rPr>
              <a:t>el helad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TextBox 53"/>
          <p:cNvSpPr/>
          <p:nvPr/>
        </p:nvSpPr>
        <p:spPr>
          <a:xfrm>
            <a:off x="1916280" y="7451640"/>
            <a:ext cx="115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Gothic"/>
              </a:rPr>
              <a:t>la cervez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Rectangle 65"/>
          <p:cNvSpPr/>
          <p:nvPr/>
        </p:nvSpPr>
        <p:spPr>
          <a:xfrm>
            <a:off x="961920" y="7451640"/>
            <a:ext cx="18576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TextBox 51"/>
          <p:cNvSpPr/>
          <p:nvPr/>
        </p:nvSpPr>
        <p:spPr>
          <a:xfrm>
            <a:off x="1844640" y="2124000"/>
            <a:ext cx="144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entury Gothic"/>
              </a:rPr>
              <a:t>el pescad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Rectangle 71"/>
          <p:cNvSpPr/>
          <p:nvPr/>
        </p:nvSpPr>
        <p:spPr>
          <a:xfrm>
            <a:off x="5247000" y="6227640"/>
            <a:ext cx="95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Gothic"/>
              </a:rPr>
              <a:t>la frut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Picture 22" descr="http://tbn1.google.com/images?q=tbn:_uUh9DuBSlWvxM:http://ngfl.northumberland.gov.uk/dt/dtclip/Food_Alb/images/chicken_JPG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76280" y="611280"/>
            <a:ext cx="1228680" cy="7999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24" descr="http://tbn3.google.com/images?q=tbn:p9Pbtdjh5sdDQM:http://clear.msu.edu/dennie/clipart/egg.gif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716280" y="611280"/>
            <a:ext cx="1152720" cy="8650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26" descr="http://tbn3.google.com/images?q=tbn:174jJOiApyS6PM:http://www.best-of-web.com/_images_named/rice%2520bowl_clipart_070923-032843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49360" y="1979640"/>
            <a:ext cx="1117440" cy="7920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28" descr="http://tbn3.google.com/images?q=tbn:l3eD5PYbOIbbDM:http://ngfl.northumberland.gov.uk/dt/dtclip/Food_Alb/images/fish_JPG.jpg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3645000" y="1979640"/>
            <a:ext cx="1247760" cy="7430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30" descr="http://tbn1.google.com/images?q=tbn:2dRlWESdmtdjxM:http://ngfl.northumberland.gov.uk/dt/dtclip/Food_Alb/images/meat2_JPG.jpg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404640" y="3348000"/>
            <a:ext cx="1200240" cy="7714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32" descr="http://tbn2.google.com/images?q=tbn:XJkehmvrScNhNM:http://clear.msu.edu/dennie/clipart/cake1.gif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3573360" y="3276720"/>
            <a:ext cx="1362240" cy="8571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34" descr="http://tbn2.google.com/images?q=tbn:V_2So8jhG-YXWM:http://arts.monash.edu.au/korean/klec/assets/clipart002/klec2003-c192.gif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476280" y="4643280"/>
            <a:ext cx="1181160" cy="86688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36" descr="http://tbn2.google.com/images?q=tbn:NOVWQ5eB8n0GWM:http://www.funfonix.com/clipart/cookie.gif">
            <a:hlinkClick r:id="rId15"/>
          </p:cNvPr>
          <p:cNvPicPr/>
          <p:nvPr/>
        </p:nvPicPr>
        <p:blipFill>
          <a:blip r:embed="rId16"/>
          <a:stretch/>
        </p:blipFill>
        <p:spPr>
          <a:xfrm>
            <a:off x="3789360" y="4716360"/>
            <a:ext cx="1152360" cy="75096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2" descr="http://www.arts.monash.edu.au/korean/klec/assets/clipart001/klec2003-c059.gif">
            <a:hlinkClick r:id="rId17"/>
          </p:cNvPr>
          <p:cNvPicPr/>
          <p:nvPr/>
        </p:nvPicPr>
        <p:blipFill>
          <a:blip r:embed="rId18"/>
          <a:stretch/>
        </p:blipFill>
        <p:spPr>
          <a:xfrm>
            <a:off x="549360" y="6012000"/>
            <a:ext cx="1008000" cy="9111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4" descr="http://bestclipartblog.com/clipart-pics/ice-cream-clip-art-3.jpg">
            <a:hlinkClick r:id="rId19"/>
          </p:cNvPr>
          <p:cNvPicPr/>
          <p:nvPr/>
        </p:nvPicPr>
        <p:blipFill>
          <a:blip r:embed="rId20"/>
          <a:stretch/>
        </p:blipFill>
        <p:spPr>
          <a:xfrm>
            <a:off x="3789360" y="6012000"/>
            <a:ext cx="934920" cy="8506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6" descr="http://www.arthursclipart.org/fruits/fruit/fruit%20mix.gif">
            <a:hlinkClick r:id="rId21"/>
          </p:cNvPr>
          <p:cNvPicPr/>
          <p:nvPr/>
        </p:nvPicPr>
        <p:blipFill>
          <a:blip r:embed="rId22"/>
          <a:stretch/>
        </p:blipFill>
        <p:spPr>
          <a:xfrm>
            <a:off x="476280" y="7380360"/>
            <a:ext cx="1224000" cy="8586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0" descr="http://www.kooziez.com/wp-content/uploads/2011/06/Beer-Mug1.jpg"/>
          <p:cNvPicPr/>
          <p:nvPr/>
        </p:nvPicPr>
        <p:blipFill>
          <a:blip r:embed="rId23"/>
          <a:stretch/>
        </p:blipFill>
        <p:spPr>
          <a:xfrm>
            <a:off x="3933720" y="7380360"/>
            <a:ext cx="790560" cy="895320"/>
          </a:xfrm>
          <a:prstGeom prst="rect">
            <a:avLst/>
          </a:prstGeom>
          <a:ln w="0">
            <a:noFill/>
          </a:ln>
        </p:spPr>
      </p:pic>
      <p:sp>
        <p:nvSpPr>
          <p:cNvPr id="139" name="TextBox 58"/>
          <p:cNvSpPr/>
          <p:nvPr/>
        </p:nvSpPr>
        <p:spPr>
          <a:xfrm>
            <a:off x="1628640" y="8783640"/>
            <a:ext cx="504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 Rounded MT Bold"/>
              </a:rPr>
              <a:t>© Light Bulb Languages/MConnolly 2014 http://www.lightbulblanguages.co.uk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3T18:18:48Z</dcterms:created>
  <dc:creator>john</dc:creator>
  <dc:description/>
  <dc:language>en-US</dc:language>
  <cp:lastModifiedBy>Clare</cp:lastModifiedBy>
  <dcterms:modified xsi:type="dcterms:W3CDTF">2014-04-09T09:24:52Z</dcterms:modified>
  <cp:revision>24</cp:revision>
  <dc:subject/>
  <dc:title>Slide 1</dc:title>
</cp:coreProperties>
</file>