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795-4579-474F-BE90-703AA039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ADF-6C7B-44D9-9EDC-C431A1C1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B8F-7B30-45D8-A3E6-575F4C3C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295-1255-47A4-929C-634531F5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794-77C2-4C30-9E8F-F3DD895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176-F1D8-4579-BEAC-C5F4815C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10B-8F12-4D7C-AF0D-139AAB4F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B92-0C1F-4E2E-972C-D1DC0162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90A-4A66-4EE4-B962-5B4406C8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67D-7A8E-4D1C-8949-273B8DDE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19F-B78A-4DAC-82B0-43F16146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CE2-8F6B-41DE-ABC2-D761C016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1FA0-A767-4CEA-890B-01C10372FC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ngfl.northumberland.gov.uk/clipart/Food/images/cereal%20bowl_jpg.jpg&amp;imgrefurl=http://ngfl.northumberland.gov.uk/clipart/Food/pages/cereal%20bowl_jpg.htm&amp;usg=__TmZKjIqQziTgjSO3CWp4tILIN6Q=&amp;h=338&amp;w=310&amp;sz=18&amp;hl=en&amp;start=1&amp;um=1&amp;tbnid=2Xbrx0dbsfTFHM:&amp;tbnh=119&amp;tbnw=109&amp;prev=/images?q=bowl+of+cereal+clip+art&amp;hl=en&amp;sa=N&amp;um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best-of-web.com/_images/080108-035708.jpg&amp;imgrefurl=http://www.best-of-web.com/search_term_pages/breakfast.html&amp;usg=__6D0vIl_a5A11VJP59Cfcm_I3DuM=&amp;h=62&amp;w=100&amp;sz=3&amp;hl=en&amp;start=10&amp;um=1&amp;tbnid=D0IAre5wUzezqM:&amp;tbnh=51&amp;tbnw=82&amp;prev=/images?q=toast+clip+art&amp;hl=en&amp;sa=X&amp;um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clipartguide.com/_named_clipart_images/0511-0703-2912-2350_Cooked_Egg_Toast_and_a_Bacon_Strip_clipart_image.jpg&amp;imgrefurl=http://www.clipartguide.com/_pages/0511-0703-2912-2350.html&amp;usg=__SGk3dO4vBdYyWpnV0V-y1dJcA-s=&amp;h=300&amp;w=300&amp;sz=12&amp;hl=en&amp;start=5&amp;um=1&amp;tbnid=wrDRX586XlrTjM:&amp;tbnh=116&amp;tbnw=116&amp;prev=/images?q=bacon+&amp;+egg+clip+art&amp;hl=en&amp;um=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www.clker.com/cliparts/3/b/8/f/11949860391936205509orange_juice_box_bw.svg.hi.png&amp;imgrefurl=http://www.clker.com/clipart-3936.html&amp;usg=__VgL4DFT_id6BsBUZyPFLQ1ffyAU=&amp;h=596&amp;w=408&amp;sz=65&amp;hl=en&amp;start=13&amp;um=1&amp;tbnid=lIUw5lC-xrMzbM:&amp;tbnh=135&amp;tbnw=92&amp;prev=/images?q=juice+clip+art&amp;hl=en&amp;um=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school.discoveryeducation.com/clipart/images/sandwich.gif&amp;imgrefurl=http://school.discoveryeducation.com/clipart/clip/sandwich.html&amp;usg=__Yy80iVcF5sa9cf9LMyHHDOuPT24=&amp;h=363&amp;w=550&amp;sz=5&amp;hl=en&amp;start=1&amp;um=1&amp;tbnid=hRTD_vqppsIbgM:&amp;tbnh=88&amp;tbnw=133&amp;prev=/images?q=sandwich+clip+art&amp;hl=en&amp;um=1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framingham.com/kids/clip-art/bw90/sandwich.gif&amp;imgrefurl=http://framingham.com/kids/clip-art/bw90/index.htm&amp;usg=__RULPL43ZiVbAXpm6qwUT9djhYNY=&amp;h=298&amp;w=427&amp;sz=3&amp;hl=en&amp;start=9&amp;um=1&amp;tbnid=U5A4gtll3XNuBM:&amp;tbnh=88&amp;tbnw=126&amp;prev=/images?q=sandwich+clip+art&amp;hl=en&amp;um=1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www.fotosearch.com/bthumb/UNC/UNC142/u17010729.jpg&amp;imgrefurl=http://www.fotosearch.com/clip-art/fry.html&amp;usg=__w5vGPw-9ApV0o4S1gQj3yr3csUc=&amp;h=170&amp;w=131&amp;sz=7&amp;hl=en&amp;start=8&amp;um=1&amp;tbnid=U-1-8ClggFCFLM:&amp;tbnh=99&amp;tbnw=76&amp;prev=/images?q=fries+clip+art&amp;hl=en&amp;um=1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www.fotosearch.com/bthumb/UNC/UNC153/u23151340.jpg&amp;imgrefurl=http://www.fotosearch.com/clip-art/spaghetti.html&amp;usg=__29LvMNeUsGVsq7elriQ08Yh6Dxs=&amp;h=170&amp;w=142&amp;sz=5&amp;hl=en&amp;start=129&amp;um=1&amp;tbnid=GROn0Ee9Nf3NgM:&amp;tbnh=99&amp;tbnw=83&amp;prev=/images?q=pasta+clip+art&amp;ndsp=21&amp;hl=en&amp;sa=N&amp;start=126&amp;um=1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clear.msu.edu/dennie/clipart/pizza.gif&amp;imgrefurl=http://clear.msu.edu/dennie/clipart/&amp;usg=__27IX4aPWXzEpLXlQ_Rb7fVCq6I4=&amp;h=431&amp;w=600&amp;sz=7&amp;hl=en&amp;start=9&amp;um=1&amp;tbnid=EcsrGtLPT2umdM:&amp;tbnh=97&amp;tbnw=135&amp;prev=/images?q=pizza+clip+art&amp;hl=en&amp;um=1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www.google.co.uk/url?sa=i&amp;rct=j&amp;q=coffee+pot+clipart&amp;source=images&amp;cd=&amp;cad=rja&amp;docid=GtJZeF9UhQuY9M&amp;tbnid=QFXn8VYg_tQOUM:&amp;ved=0CAUQjRw&amp;url=http://www.clker.com/clipart-pot-of-coffee.html&amp;ei=-QE5Ud7sO-yT0QXJxYHQBw&amp;bvm=bv.43287494,d.ZWU&amp;psig=AFQjCNFVyVGtAohWw52m4Hb0WpBiCK3VYA&amp;ust=1362776949219329" TargetMode="External"/><Relationship Id="rId20" Type="http://schemas.openxmlformats.org/officeDocument/2006/relationships/image" Target="../media/image10.png"/><Relationship Id="rId21" Type="http://schemas.openxmlformats.org/officeDocument/2006/relationships/hyperlink" Target="http://www.google.co.uk/url?sa=i&amp;rct=j&amp;q=tea+pot+clipart&amp;source=images&amp;cd=&amp;cad=rja&amp;docid=3pqTp8-YxXFG1M&amp;tbnid=1UJBdIOYUL9GEM:&amp;ved=0CAUQjRw&amp;url=http://www.clker.com/clipart-black-teapot.html&amp;ei=PQI5UbW-Aevw0gWVsoCgCA&amp;bvm=bv.43287494,d.ZWU&amp;psig=AFQjCNH5xNw3mznL2B3qV0JhAEPpfYcIDg&amp;ust=1362777010190653" TargetMode="External"/><Relationship Id="rId22" Type="http://schemas.openxmlformats.org/officeDocument/2006/relationships/image" Target="../media/image11.png"/><Relationship Id="rId23" Type="http://schemas.openxmlformats.org/officeDocument/2006/relationships/hyperlink" Target="http://www.lightbulblanguages.co.uk/" TargetMode="External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ngfl.northumberland.gov.uk/dt/dtclip/Food_Alb/images/chicken_JPG.jpg&amp;imgrefurl=http://ngfl.northumberland.gov.uk/dt/dtclip/Food_Alb/pages/chicken_JPG.htm&amp;usg=__Q8ok6F81LMPaRT6MKMrg-URvIvk=&amp;h=312&amp;w=480&amp;sz=16&amp;hl=en&amp;start=3&amp;um=1&amp;tbnid=_uUh9DuBSlWvxM:&amp;tbnh=84&amp;tbnw=129&amp;prev=/images?q=chicken+clip+art&amp;hl=en&amp;um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uk/imgres?imgurl=http://clear.msu.edu/dennie/clipart/egg.gif&amp;imgrefurl=http://clear.msu.edu/dennie/clipart/&amp;usg=__BTt1L6It4vHiIm8Mndpkg2qpZv4=&amp;h=636&amp;w=700&amp;sz=6&amp;hl=en&amp;start=5&amp;um=1&amp;tbnid=p9Pbtdjh5sdDQM:&amp;tbnh=127&amp;tbnw=140&amp;prev=/images?q=eggs+clip+art&amp;hl=en&amp;um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uk/imgres?imgurl=http://www.best-of-web.com/_images_named/rice%20bowl_clipart_070923-032843.jpg&amp;imgrefurl=http://www.best-of-web.com/search_term_pages/rice_bowl.html&amp;usg=__mbEXgW3VYFLhsB0sIZ5-ZfphaAI=&amp;h=91&amp;w=100&amp;sz=3&amp;hl=en&amp;start=4&amp;um=1&amp;tbnid=174jJOiApyS6PM:&amp;tbnh=75&amp;tbnw=82&amp;prev=/images?q=rice+clip+art&amp;hl=en&amp;um=1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.uk/imgres?imgurl=http://ngfl.northumberland.gov.uk/dt/dtclip/Food_Alb/images/fish_JPG.jpg&amp;imgrefurl=http://ngfl.northumberland.gov.uk/dt/dtclip/Food_Alb/pages/fish_JPG.htm&amp;usg=__gsCrv7fNPXu_m1N4kCXTFEEYEUA=&amp;h=312&amp;w=522&amp;sz=26&amp;hl=en&amp;start=13&amp;um=1&amp;tbnid=l3eD5PYbOIbbDM:&amp;tbnh=78&amp;tbnw=131&amp;prev=/images?q=fish+clip+art&amp;hl=en&amp;um=1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co.uk/imgres?imgurl=http://ngfl.northumberland.gov.uk/dt/dtclip/Food_Alb/images/meat2_JPG.jpg&amp;imgrefurl=http://ngfl.northumberland.gov.uk/dt/dtclip/Food_Alb/pages/meat2_JPG.htm&amp;usg=__n-t6SVv7ePPSm8_W_AlUNRUNiUo=&amp;h=279&amp;w=434&amp;sz=19&amp;hl=en&amp;start=13&amp;um=1&amp;tbnid=2dRlWESdmtdjxM:&amp;tbnh=81&amp;tbnw=126&amp;prev=/images?q=meat+clip+art&amp;hl=en&amp;um=1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co.uk/imgres?imgurl=http://clear.msu.edu/dennie/clipart/cake1.gif&amp;imgrefurl=http://clear.msu.edu/dennie/clipart/&amp;usg=__Vt3q6lYKyo4feLjqRs1857jO3c8=&amp;h=505&amp;w=800&amp;sz=7&amp;hl=en&amp;start=22&amp;um=1&amp;tbnid=XJkehmvrScNhNM:&amp;tbnh=90&amp;tbnw=143&amp;prev=/images?q=cake+clip+art&amp;ndsp=21&amp;hl=en&amp;sa=N&amp;start=21&amp;um=1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co.uk/imgres?imgurl=http://arts.monash.edu.au/korean/klec/assets/clipart002/klec2003-c192.gif&amp;imgrefurl=http://arts.monash.edu.au/korean/klec/clipart/index.php?RollID=clipart002&amp;FrameID=klec2003-c192&amp;usg=__BU0Lxj0mw05M0ZCLoi2Hx-5LmUo=&amp;h=294&amp;w=400&amp;sz=10&amp;hl=en&amp;start=99&amp;um=1&amp;tbnid=V_2So8jhG-YXWM:&amp;tbnh=91&amp;tbnw=124&amp;prev=/images?q=candy+clip+art&amp;ndsp=21&amp;hl=en&amp;sa=N&amp;start=84&amp;um=1" TargetMode="External"/><Relationship Id="rId14" Type="http://schemas.openxmlformats.org/officeDocument/2006/relationships/image" Target="../media/image18.jpeg"/><Relationship Id="rId15" Type="http://schemas.openxmlformats.org/officeDocument/2006/relationships/hyperlink" Target="http://images.google.co.uk/imgres?imgurl=http://www.funfonix.com/clipart/cookie.gif&amp;imgrefurl=http://www.funfonix.com/clipart1.php&amp;usg=__-uz4ta8z9Xv1sYVZ_NrpnRPNffc=&amp;h=300&amp;w=300&amp;sz=7&amp;hl=en&amp;start=7&amp;um=1&amp;tbnid=NOVWQ5eB8n0GWM:&amp;tbnh=116&amp;tbnw=116&amp;prev=/images?q=cookies+clip+art&amp;ndsp=21&amp;hl=en&amp;sa=N&amp;um=1" TargetMode="External"/><Relationship Id="rId16" Type="http://schemas.openxmlformats.org/officeDocument/2006/relationships/image" Target="../media/image19.jpeg"/><Relationship Id="rId17" Type="http://schemas.openxmlformats.org/officeDocument/2006/relationships/hyperlink" Target="http://www.google.co.uk/url?sa=i&amp;rct=j&amp;q=coke+clipart&amp;source=images&amp;cd=&amp;cad=rja&amp;docid=GgEpxLFhCISLIM&amp;tbnid=jhCUKXIBsRHYKM:&amp;ved=0CAUQjRw&amp;url=http://hecklin.de/Ahnentafeln/clipart-coca-cola&amp;ei=nwI5UaOCBemx0QX10oGICA&amp;bvm=bv.43287494,d.ZWU&amp;psig=AFQjCNGJiFUkCHrDmXO-WttI8a1UyyqwdA&amp;ust=1362777110909434" TargetMode="External"/><Relationship Id="rId18" Type="http://schemas.openxmlformats.org/officeDocument/2006/relationships/image" Target="../media/image20.png"/><Relationship Id="rId19" Type="http://schemas.openxmlformats.org/officeDocument/2006/relationships/hyperlink" Target="http://www.google.co.uk/url?sa=i&amp;source=images&amp;cd=&amp;cad=rja&amp;docid=3gJ-O-Z0sxf0WM&amp;tbnid=AaU-paLRHGyAvM:&amp;ved=0CAgQjRwwAA&amp;url=http://bestclipartblog.com/25-ice-cream-clip-art.html/ice-cream-clip-art-3&amp;ei=zQI5Uc3wFIXWPZfVgLAM&amp;psig=AFQjCNHI4VsqiI9mbMkgQxujosiNNjShEQ&amp;ust=1362777165495003" TargetMode="External"/><Relationship Id="rId20" Type="http://schemas.openxmlformats.org/officeDocument/2006/relationships/image" Target="../media/image21.jpeg"/><Relationship Id="rId21" Type="http://schemas.openxmlformats.org/officeDocument/2006/relationships/hyperlink" Target="http://www.google.co.uk/url?sa=i&amp;rct=j&amp;q=fruit+clipart&amp;source=images&amp;cd=&amp;cad=rja&amp;docid=zAsx8ym207EG_M&amp;tbnid=At0HpDHyvjKLuM:&amp;ved=0CAUQjRw&amp;url=http://www.arthursclipart.org/fruits/fruit/page_03.htm&amp;ei=DgM5UdinA8Sa1AW_uYDQCA&amp;bvm=bv.43287494,d.ZWU&amp;psig=AFQjCNFL8Q2t6JSE2PFp95C1U0mU7eW3MQ&amp;ust=1362777219617626" TargetMode="External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945800" y="75564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ere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5013360" y="755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 pan tost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1773360" y="197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 hue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n beic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013360" y="197964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l caf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1773360" y="3419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 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5244840" y="3348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l zu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1893240" y="4788000"/>
            <a:ext cx="12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ocadil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5039640" y="478800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l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hamburgues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841040" y="615636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s pata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ri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5252040" y="61563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pa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1773360" y="7596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piz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5191560" y="75247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l pol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8"/>
          <p:cNvSpPr/>
          <p:nvPr/>
        </p:nvSpPr>
        <p:spPr>
          <a:xfrm>
            <a:off x="476280" y="755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A COMI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tbn3.google.com/images?q=tbn:2Xbrx0dbsfTFHM:http://ngfl.northumberland.gov.uk/clipart/Food/images/cereal%2520bowl_jp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6280" y="684360"/>
            <a:ext cx="1047960" cy="80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tbn0.google.com/images?q=tbn:D0IAre5wUzezqM:http://www.best-of-web.com/_images/080108-0357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280" y="1979640"/>
            <a:ext cx="114948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tbn1.google.com/images?q=tbn:wrDRX586XlrTjM:http://www.clipartguide.com/_named_clipart_images/0511-0703-2912-2350_Cooked_Egg_Toast_and_a_Bacon_Strip_clipart_imag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60640" y="1908000"/>
            <a:ext cx="889200" cy="889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tbn0.google.com/images?q=tbn:lIUw5lC-xrMzbM:http://www.clker.com/cliparts/3/b/8/f/11949860391936205509orange_juice_box_bw.svg.hi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9360" y="4643280"/>
            <a:ext cx="1008000" cy="90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tbn3.google.com/images?q=tbn:hRTD_vqppsIbgM:http://school.discoveryeducation.com/clipart/images/sandwich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45000" y="4643280"/>
            <a:ext cx="1266840" cy="83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http://tbn0.google.com/images?q=tbn:U5A4gtll3XNuBM:http://framingham.com/kids/clip-art/bw90/sandwich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6280" y="6012000"/>
            <a:ext cx="120024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http://tbn2.google.com/images?q=tbn:U-1-8ClggFCFLM:http://www.fotosearch.com/bthumb/UNC/UNC142/u17010729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89360" y="6012000"/>
            <a:ext cx="101592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http://tbn3.google.com/images?q=tbn:GROn0Ee9Nf3NgM:http://www.fotosearch.com/bthumb/UNC/UNC153/u23151340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49360" y="7451640"/>
            <a:ext cx="976320" cy="800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http://tbn3.google.com/images?q=tbn:EcsrGtLPT2umdM:http://clear.msu.edu/dennie/clipart/pizza.gif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645000" y="7380360"/>
            <a:ext cx="1185840" cy="852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www.clker.com/cliparts/Y/5/s/d/m/l/pot-of-coffee-md.pn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76280" y="3271680"/>
            <a:ext cx="1152360" cy="89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www.clker.com/cliparts/S/A/Y/u/o/F/black-teapot-hi.pn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789360" y="3276720"/>
            <a:ext cx="1009800" cy="758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5"/>
          <p:cNvSpPr/>
          <p:nvPr/>
        </p:nvSpPr>
        <p:spPr>
          <a:xfrm>
            <a:off x="1628640" y="8783640"/>
            <a:ext cx="50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hlinkClick r:id="rId23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861560" y="755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 hue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052240" y="334800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arame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5208120" y="2124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car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1773360" y="3492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a tar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5084640" y="4859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co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9"/>
          <p:cNvSpPr/>
          <p:nvPr/>
        </p:nvSpPr>
        <p:spPr>
          <a:xfrm>
            <a:off x="1844640" y="471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s galle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0"/>
          <p:cNvSpPr/>
          <p:nvPr/>
        </p:nvSpPr>
        <p:spPr>
          <a:xfrm>
            <a:off x="5013360" y="755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l arro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2"/>
          <p:cNvSpPr/>
          <p:nvPr/>
        </p:nvSpPr>
        <p:spPr>
          <a:xfrm>
            <a:off x="1844640" y="6227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 hel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3"/>
          <p:cNvSpPr/>
          <p:nvPr/>
        </p:nvSpPr>
        <p:spPr>
          <a:xfrm>
            <a:off x="1916280" y="7451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cerv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961920" y="745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1844640" y="2124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l pesc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1"/>
          <p:cNvSpPr/>
          <p:nvPr/>
        </p:nvSpPr>
        <p:spPr>
          <a:xfrm>
            <a:off x="5247000" y="6227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fru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2" descr="http://tbn1.google.com/images?q=tbn:_uUh9DuBSlWvxM:http://ngfl.northumberland.gov.uk/dt/dtclip/Food_Alb/images/chicken_JP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6280" y="611280"/>
            <a:ext cx="1228680" cy="7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http://tbn3.google.com/images?q=tbn:p9Pbtdjh5sdDQM:http://clear.msu.edu/dennie/clipart/egg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6280" y="611280"/>
            <a:ext cx="1152720" cy="86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http://tbn3.google.com/images?q=tbn:174jJOiApyS6PM:http://www.best-of-web.com/_images_named/rice%2520bowl_clipart_070923-03284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9360" y="1979640"/>
            <a:ext cx="1117440" cy="79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8" descr="http://tbn3.google.com/images?q=tbn:l3eD5PYbOIbbDM:http://ngfl.northumberland.gov.uk/dt/dtclip/Food_Alb/images/fish_JP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45000" y="1979640"/>
            <a:ext cx="1247760" cy="74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0" descr="http://tbn1.google.com/images?q=tbn:2dRlWESdmtdjxM:http://ngfl.northumberland.gov.uk/dt/dtclip/Food_Alb/images/meat2_JPG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4640" y="3348000"/>
            <a:ext cx="1200240" cy="77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http://tbn2.google.com/images?q=tbn:XJkehmvrScNhNM:http://clear.msu.edu/dennie/clipart/cake1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73360" y="3276720"/>
            <a:ext cx="1362240" cy="857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http://tbn2.google.com/images?q=tbn:V_2So8jhG-YXWM:http://arts.monash.edu.au/korean/klec/assets/clipart002/klec2003-c192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6280" y="4643280"/>
            <a:ext cx="1181160" cy="86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6" descr="http://tbn2.google.com/images?q=tbn:NOVWQ5eB8n0GWM:http://www.funfonix.com/clipart/cookie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789360" y="4716360"/>
            <a:ext cx="1152360" cy="750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www.arts.monash.edu.au/korean/klec/assets/clipart001/klec2003-c059.gif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49360" y="6012000"/>
            <a:ext cx="1008000" cy="91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bestclipartblog.com/clipart-pics/ice-cream-clip-art-3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789360" y="6012000"/>
            <a:ext cx="934920" cy="850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www.arthursclipart.org/fruits/fruit/fruit%20mix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76280" y="7380360"/>
            <a:ext cx="1224000" cy="85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ttp://www.kooziez.com/wp-content/uploads/2011/06/Beer-Mug1.jpg"/>
          <p:cNvPicPr/>
          <p:nvPr/>
        </p:nvPicPr>
        <p:blipFill>
          <a:blip r:embed="rId23"/>
          <a:stretch/>
        </p:blipFill>
        <p:spPr>
          <a:xfrm>
            <a:off x="3933720" y="7380360"/>
            <a:ext cx="790560" cy="8953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8"/>
          <p:cNvSpPr/>
          <p:nvPr/>
        </p:nvSpPr>
        <p:spPr>
          <a:xfrm>
            <a:off x="1628640" y="8783640"/>
            <a:ext cx="50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</cp:lastModifiedBy>
  <dcterms:modified xsi:type="dcterms:W3CDTF">2014-04-09T09:24:52Z</dcterms:modified>
  <cp:revision>24</cp:revision>
  <dc:subject/>
  <dc:title>Slide 1</dc:title>
</cp:coreProperties>
</file>