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21.jpeg" ContentType="image/jpeg"/>
  <Override PartName="/ppt/media/image15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E61-FA95-4196-AC6F-65AAE754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C26-426F-42DF-BCED-69371FD9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A59-E58E-4B40-AAE4-D799BCB5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102-20FC-4B6C-B194-62BDE0E9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49D-9D47-44C4-AF2A-19DC4B59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96E-1D87-4F53-987D-A3B38EF6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138-4194-4151-BFAD-A2CEEDD9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3FD-3CEF-4E36-A0F1-BE5F3486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F4D-056C-43A2-A9D4-456DA333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7CE-9277-4E66-8814-0CCDBD59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D2A-11AB-45CF-99C2-16265A9C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3E9-75EE-43FC-BB68-9D68445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0CAF-2E2F-4576-B2BD-4246553E30B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hyperlink" Target="http://www.google.co.uk/url?sa=i&amp;rct=j&amp;q=friendship+clipart&amp;source=images&amp;cd=&amp;cad=rja&amp;docid=3mWXIbe_UtetLM&amp;tbnid=BnKW-yoy1lJt6M:&amp;ved=0CAUQjRw&amp;url=http://www.acclaimclipart.com/free_clipart_images/friends_having_fun_together__boys_and_girls_laughing_and_smiling_0515-1003-2917-0555.html&amp;ei=K6U8Ub6mEKO80QW6pYDgBQ&amp;bvm=bv.43287494,d.d2k&amp;psig=AFQjCNFf_QUPnKY_fVg8w5qHlv6OcoZH-Q&amp;ust=1363015331781555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www.lightbulblanguages.co.uk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hyperlink" Target="http://www.google.co.uk/url?sa=i&amp;rct=j&amp;q=gift+clipart&amp;source=images&amp;cd=&amp;cad=rja&amp;docid=BbWAuIzCGnsStM&amp;tbnid=pqagm0vWK4BnaM:&amp;ved=0CAUQjRw&amp;url=http://www.clipartpal.com/clipart_pd/holiday/christmas/christmasgifts2.html&amp;ei=g6U8UaHVLO6r0AXw_oHwBw&amp;bvm=bv.43287494,d.d2k&amp;psig=AFQjCNFXDenQYhHDdUXcXk-JETS3YZYAVw&amp;ust=1363015413212102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o.uk/url?sa=i&amp;source=images&amp;cd=&amp;cad=rja&amp;docid=LU6dqRrvmDUzPM&amp;tbnid=h1HL56LoDv_hoM:&amp;ved=0CAgQjRwwAA&amp;url=http://bestclipartblog.com/32-bike-clip-art.html/bike-clip-art-3&amp;ei=qqU8UcrVDJTB7AbUn4GIAg&amp;psig=AFQjCNHJ6wbygTNAfJ1FZK4e_iZG65fhnQ&amp;ust=1363015466238890" TargetMode="External"/><Relationship Id="rId9" Type="http://schemas.openxmlformats.org/officeDocument/2006/relationships/image" Target="../media/image18.png"/><Relationship Id="rId10" Type="http://schemas.openxmlformats.org/officeDocument/2006/relationships/hyperlink" Target="http://www.google.co.uk/url?sa=i&amp;rct=j&amp;q=laptop+clipart&amp;source=images&amp;cd=&amp;cad=rja&amp;docid=o_-pmSif_P3fBM&amp;tbnid=AvL8ARmXdAWSYM:&amp;ved=0CAUQjRw&amp;url=http://www.clker.com/clipart-laptop-outline.html&amp;ei=6KU8UbjfGqLU0QXI64CoBg&amp;bvm=bv.43287494,d.d2k&amp;psig=AFQjCNEjJv5VB5mhyobY2UhFwm7c9vO6SQ&amp;ust=1363015521908708" TargetMode="External"/><Relationship Id="rId11" Type="http://schemas.openxmlformats.org/officeDocument/2006/relationships/image" Target="../media/image19.png"/><Relationship Id="rId12" Type="http://schemas.openxmlformats.org/officeDocument/2006/relationships/hyperlink" Target="http://www.google.co.uk/url?sa=i&amp;rct=j&amp;q=trainers+clipart&amp;source=images&amp;cd=&amp;cad=rja&amp;docid=zU5gh2vao0tkWM&amp;tbnid=nfO4_wKbqmSM8M:&amp;ved=0CAUQjRw&amp;url=http://www.clker.com/clipart-158758.html&amp;ei=R6Y8UZqhD4Kn0AXyloCoAw&amp;bvm=bv.43287494,d.d2k&amp;psig=AFQjCNH9-xPYShb-BY2GNeJVrK8Q7Ytx7A&amp;ust=1363015615870935" TargetMode="External"/><Relationship Id="rId13" Type="http://schemas.openxmlformats.org/officeDocument/2006/relationships/image" Target="../media/image20.png"/><Relationship Id="rId14" Type="http://schemas.openxmlformats.org/officeDocument/2006/relationships/hyperlink" Target="http://www.google.co.uk/url?sa=i&amp;rct=j&amp;q=concert+clipart&amp;source=images&amp;cd=&amp;cad=rja&amp;docid=jiDg7UMcD-wjPM&amp;tbnid=mu0ACZf0FPkY6M:&amp;ved=0CAUQjRw&amp;url=http://bhsmusicboosters.blogspot.com/&amp;ei=4qg8UcWiJcTG0QXk4IHYDg&amp;bvm=bv.43287494,d.d2k&amp;psig=AFQjCNF8HAEtQkuUlC1Skfkq9-nCPPbRbw&amp;ust=1363015817275064" TargetMode="External"/><Relationship Id="rId15" Type="http://schemas.openxmlformats.org/officeDocument/2006/relationships/image" Target="../media/image21.jpeg"/><Relationship Id="rId16" Type="http://schemas.openxmlformats.org/officeDocument/2006/relationships/hyperlink" Target="http://www.google.co.uk/url?sa=i&amp;rct=j&amp;q=soft+drinks+clipart&amp;source=images&amp;cd=&amp;cad=rja&amp;docid=M2zrjcTtdhRrGM&amp;tbnid=PRx1PyceW9E17M:&amp;ved=0CAUQjRw&amp;url=http://www.clipartlord.com/free-soft-drinks-cup-clip-art/&amp;ei=0Kw8UaWECMia0QWpmICgCA&amp;bvm=bv.43287494,d.d2k&amp;psig=AFQjCNHOePZElQJI7COEELaCcERBCid9gg&amp;ust=1363017290028931" TargetMode="External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2009520" y="755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5013360" y="755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rev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1773360" y="2124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5013360" y="1979640"/>
            <a:ext cx="13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salir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mi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4"/>
          <p:cNvSpPr/>
          <p:nvPr/>
        </p:nvSpPr>
        <p:spPr>
          <a:xfrm>
            <a:off x="1773360" y="3564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5176440" y="3492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r al 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2090880" y="4788000"/>
            <a:ext cx="8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r 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ol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5242320" y="4788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e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1862280" y="6156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aram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5301720" y="6156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ho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1773360" y="7596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1"/>
          <p:cNvSpPr/>
          <p:nvPr/>
        </p:nvSpPr>
        <p:spPr>
          <a:xfrm>
            <a:off x="5005080" y="7524720"/>
            <a:ext cx="13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rédito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i 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8"/>
          <p:cNvSpPr/>
          <p:nvPr/>
        </p:nvSpPr>
        <p:spPr>
          <a:xfrm>
            <a:off x="476280" y="755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A P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ww.musical-clipart.com/clipartcontent/fun25.gif"/>
          <p:cNvPicPr/>
          <p:nvPr/>
        </p:nvPicPr>
        <p:blipFill>
          <a:blip r:embed="rId1"/>
          <a:stretch/>
        </p:blipFill>
        <p:spPr>
          <a:xfrm>
            <a:off x="3716280" y="61128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://lessonpix.com/drawings/4927/380x380/Magazines.png"/>
          <p:cNvPicPr/>
          <p:nvPr/>
        </p:nvPicPr>
        <p:blipFill>
          <a:blip r:embed="rId2"/>
          <a:stretch/>
        </p:blipFill>
        <p:spPr>
          <a:xfrm>
            <a:off x="476280" y="1908000"/>
            <a:ext cx="1224000" cy="86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j0079245"/>
          <p:cNvPicPr/>
          <p:nvPr/>
        </p:nvPicPr>
        <p:blipFill>
          <a:blip r:embed="rId3"/>
          <a:stretch/>
        </p:blipFill>
        <p:spPr>
          <a:xfrm>
            <a:off x="3860640" y="1908000"/>
            <a:ext cx="935280" cy="78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abcteach.com/free/b/book02_cute_rgb1.jpg"/>
          <p:cNvPicPr/>
          <p:nvPr/>
        </p:nvPicPr>
        <p:blipFill>
          <a:blip r:embed="rId4"/>
          <a:stretch/>
        </p:blipFill>
        <p:spPr>
          <a:xfrm>
            <a:off x="3789360" y="3276720"/>
            <a:ext cx="1079640" cy="80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EN00633_"/>
          <p:cNvPicPr/>
          <p:nvPr/>
        </p:nvPicPr>
        <p:blipFill>
          <a:blip r:embed="rId5"/>
          <a:stretch/>
        </p:blipFill>
        <p:spPr>
          <a:xfrm>
            <a:off x="476280" y="4643280"/>
            <a:ext cx="1152360" cy="925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SL00268_"/>
          <p:cNvPicPr/>
          <p:nvPr/>
        </p:nvPicPr>
        <p:blipFill>
          <a:blip r:embed="rId6"/>
          <a:stretch/>
        </p:blipFill>
        <p:spPr>
          <a:xfrm>
            <a:off x="3716280" y="4716360"/>
            <a:ext cx="1120680" cy="712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BD07840_"/>
          <p:cNvPicPr/>
          <p:nvPr/>
        </p:nvPicPr>
        <p:blipFill>
          <a:blip r:embed="rId7"/>
          <a:stretch/>
        </p:blipFill>
        <p:spPr>
          <a:xfrm>
            <a:off x="476280" y="6084720"/>
            <a:ext cx="1081080" cy="760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FD00472_"/>
          <p:cNvPicPr/>
          <p:nvPr/>
        </p:nvPicPr>
        <p:blipFill>
          <a:blip r:embed="rId8"/>
          <a:stretch/>
        </p:blipFill>
        <p:spPr>
          <a:xfrm>
            <a:off x="3716280" y="6012000"/>
            <a:ext cx="1152720" cy="834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BD17390_"/>
          <p:cNvPicPr/>
          <p:nvPr/>
        </p:nvPicPr>
        <p:blipFill>
          <a:blip r:embed="rId9"/>
          <a:stretch/>
        </p:blipFill>
        <p:spPr>
          <a:xfrm>
            <a:off x="404640" y="7380360"/>
            <a:ext cx="1224000" cy="81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FD01162_"/>
          <p:cNvPicPr/>
          <p:nvPr/>
        </p:nvPicPr>
        <p:blipFill>
          <a:blip r:embed="rId10"/>
          <a:stretch/>
        </p:blipFill>
        <p:spPr>
          <a:xfrm>
            <a:off x="3645000" y="7451640"/>
            <a:ext cx="123192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www.acclaimclipart.com/free_clipart_images/friends_having_fun_together__boys_and_girls_laughing_and_smiling_0515-1003-2917-0555_SMU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04640" y="3348000"/>
            <a:ext cx="1314720" cy="719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5"/>
          <p:cNvSpPr/>
          <p:nvPr/>
        </p:nvSpPr>
        <p:spPr>
          <a:xfrm>
            <a:off x="1714680" y="8731080"/>
            <a:ext cx="5040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3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860840" y="75564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ueg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orde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248440" y="3492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a b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5355720" y="21240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1773360" y="3492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rega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5084640" y="485928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zapat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0"/>
          <p:cNvSpPr/>
          <p:nvPr/>
        </p:nvSpPr>
        <p:spPr>
          <a:xfrm>
            <a:off x="5013360" y="900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a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2"/>
          <p:cNvSpPr/>
          <p:nvPr/>
        </p:nvSpPr>
        <p:spPr>
          <a:xfrm>
            <a:off x="1844640" y="615636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ir a concier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3"/>
          <p:cNvSpPr/>
          <p:nvPr/>
        </p:nvSpPr>
        <p:spPr>
          <a:xfrm>
            <a:off x="1916280" y="7451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ráp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5"/>
          <p:cNvSpPr/>
          <p:nvPr/>
        </p:nvSpPr>
        <p:spPr>
          <a:xfrm>
            <a:off x="961920" y="745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1"/>
          <p:cNvSpPr/>
          <p:nvPr/>
        </p:nvSpPr>
        <p:spPr>
          <a:xfrm>
            <a:off x="1773360" y="2124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1"/>
          <p:cNvSpPr/>
          <p:nvPr/>
        </p:nvSpPr>
        <p:spPr>
          <a:xfrm>
            <a:off x="5135760" y="622764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refre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clker.com/cliparts/D/t/G/N/m/G/toy-mobile-phone-md.png"/>
          <p:cNvPicPr/>
          <p:nvPr/>
        </p:nvPicPr>
        <p:blipFill>
          <a:blip r:embed="rId1"/>
          <a:stretch/>
        </p:blipFill>
        <p:spPr>
          <a:xfrm>
            <a:off x="620640" y="611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bestclipartblog.com/clipart-pics/games-clip-art-1.png"/>
          <p:cNvPicPr/>
          <p:nvPr/>
        </p:nvPicPr>
        <p:blipFill>
          <a:blip r:embed="rId2"/>
          <a:stretch/>
        </p:blipFill>
        <p:spPr>
          <a:xfrm>
            <a:off x="3716280" y="611280"/>
            <a:ext cx="1065240" cy="87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BD05733_"/>
          <p:cNvPicPr/>
          <p:nvPr/>
        </p:nvPicPr>
        <p:blipFill>
          <a:blip r:embed="rId3"/>
          <a:stretch/>
        </p:blipFill>
        <p:spPr>
          <a:xfrm>
            <a:off x="476280" y="1908000"/>
            <a:ext cx="1101600" cy="816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H00782_"/>
          <p:cNvPicPr/>
          <p:nvPr/>
        </p:nvPicPr>
        <p:blipFill>
          <a:blip r:embed="rId4"/>
          <a:stretch/>
        </p:blipFill>
        <p:spPr>
          <a:xfrm>
            <a:off x="3849840" y="1908000"/>
            <a:ext cx="772920" cy="916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SO01832_"/>
          <p:cNvPicPr/>
          <p:nvPr/>
        </p:nvPicPr>
        <p:blipFill>
          <a:blip r:embed="rId5"/>
          <a:stretch/>
        </p:blipFill>
        <p:spPr>
          <a:xfrm>
            <a:off x="476280" y="3276720"/>
            <a:ext cx="1147680" cy="90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t0.gstatic.com/images?q=tbn:ANd9GcSKTjOsc7IrMCvRA7X2GOjlfonFbDU65H3x1h6ytm0mwU3ya9ovY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89360" y="3348000"/>
            <a:ext cx="1025640" cy="717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bestclipartblog.com/clipart-pics/bike-clip-art-3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6280" y="4716360"/>
            <a:ext cx="1117440" cy="62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www.clker.com/cliparts/8/d/1/8/12065644251491435347ericlemerdy_laptop_1.svg.med.pn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45000" y="4626000"/>
            <a:ext cx="1224000" cy="9158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4"/>
          <p:cNvSpPr/>
          <p:nvPr/>
        </p:nvSpPr>
        <p:spPr>
          <a:xfrm>
            <a:off x="1836360" y="48592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portá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http://www.clker.com/cliparts/f/7/9/7/1320853113158260866trainers-hi.pn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04640" y="6084720"/>
            <a:ext cx="1214640" cy="635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http://1.bp.blogspot.com/-dAP02evhBo4/UJG93ej9XzI/AAAAAAAAAtE/Zp50vTstygk/s1600/26500-Clipart-Illustration-Of-A-Group-Of-Three-Musicians-Playing-The-Drums-And-Guitars-At-A-Rock-Concert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645000" y="6012000"/>
            <a:ext cx="1296720" cy="86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http://www.clipartlord.com/wp-content/uploads/2013/02/soda-cup.pn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65000" y="738036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http://www.clker.com/cliparts/d/8/d/9/11949862891903374227chicken_burger.svg.med.png"/>
          <p:cNvPicPr/>
          <p:nvPr/>
        </p:nvPicPr>
        <p:blipFill>
          <a:blip r:embed="rId18"/>
          <a:stretch/>
        </p:blipFill>
        <p:spPr>
          <a:xfrm>
            <a:off x="3645000" y="7380360"/>
            <a:ext cx="1368360" cy="8539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5"/>
          <p:cNvSpPr/>
          <p:nvPr/>
        </p:nvSpPr>
        <p:spPr>
          <a:xfrm>
            <a:off x="1714680" y="8731080"/>
            <a:ext cx="50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</cp:lastModifiedBy>
  <dcterms:modified xsi:type="dcterms:W3CDTF">2014-04-09T09:26:07Z</dcterms:modified>
  <cp:revision>27</cp:revision>
  <dc:subject/>
  <dc:title>Slide 1</dc:title>
</cp:coreProperties>
</file>