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7D15-EA34-46EF-AE6D-A62AFA6349F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AT C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CB3A-81B2-4BC2-BC08-5738A440791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AT C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E527-5FCF-4B04-9730-799BA9DEE5A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1648-3BB3-474A-B289-ADE10284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9521-8D17-4EE1-B01B-DDA535B1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F6B6-5403-4D6B-B5A8-A0A46176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9C1F-1CF2-4DF9-836F-2BD99EDC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F766-F1ED-4F35-9F6F-B502C7CE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2B92-3C4E-4F59-8601-19B0ED89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71E2-9DE5-4157-905F-56525CF1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7FCD-9DCC-48F7-9788-6B1A0EB0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932D-515C-4279-AA71-B83E6FDC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953E-4704-47C9-85A8-D2C5DA22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5259-3D7A-4D25-8552-E740EDED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715-E8EE-4CB4-9294-7EF67A9F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FFE6-177D-45AA-ADF5-CC5515342D8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14200" y="214200"/>
          <a:ext cx="8572680" cy="61437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  <a:gridCol w="1714680"/>
              </a:tblGrid>
              <a:tr h="2048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vo los platos todos los dí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sábados hago la compr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co la basura los miércol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veces plancho la rop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fines de semana arreglo mi dormito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7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gusta pasear al perr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sto pasar la aspirador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da igual lavar la rop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mi madre le gusta pasear al perr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mi padre le gusta lavar el coch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8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 madre prepara la cen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 padre pone la mesa.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 hermano no hace nad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 hermana trabaja en el jardí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 madre detesta poner la mes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9" name="TextBox 25"/>
          <p:cNvSpPr/>
          <p:nvPr/>
        </p:nvSpPr>
        <p:spPr>
          <a:xfrm>
            <a:off x="3780000" y="6524640"/>
            <a:ext cx="5040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 Light Bulb Languages/MConnolly 2014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14200" y="214200"/>
          <a:ext cx="8572680" cy="63216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  <a:gridCol w="1714680"/>
              </a:tblGrid>
              <a:tr h="2046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 padre detesta quitar la mes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mi madre le da igual lavar los pla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mi padre le da igual trabajar en el jardí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mi hermana le da igual hacer la compr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mi hermano le da igual sacar la basur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Box 25"/>
          <p:cNvSpPr/>
          <p:nvPr/>
        </p:nvSpPr>
        <p:spPr>
          <a:xfrm>
            <a:off x="3780000" y="6642000"/>
            <a:ext cx="5040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 Light Bulb Languages/MConnolly 2014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10:07:06Z</dcterms:created>
  <dc:creator>john</dc:creator>
  <dc:description/>
  <dc:language>en-US</dc:language>
  <cp:lastModifiedBy>Clare</cp:lastModifiedBy>
  <cp:lastPrinted>2012-03-28T06:48:01Z</cp:lastPrinted>
  <dcterms:modified xsi:type="dcterms:W3CDTF">2014-04-09T09:31:21Z</dcterms:modified>
  <cp:revision>21</cp:revision>
  <dc:subject/>
  <dc:title>MIS COMIDAS TÍPICAS</dc:title>
</cp:coreProperties>
</file>