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29AF-A4E5-4C0C-AEE4-8FB7102C68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AT 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972E-B6B5-43FB-8659-10991874294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AT 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93BB-4F23-4104-ACD9-D2713C1507D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779-92E4-4D07-BD92-2BD52A22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263-E6D8-42E9-9C99-38F806E9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C9F-04FB-4175-9DA5-22D42366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B70-02C2-4371-A3B2-BCFAA569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68D-646D-436B-8E28-C30B25F7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EC5-7D48-4A9C-A5EE-3F57E28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6E1-0427-44DD-8A46-E1F3CFF2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FAD-CA94-4746-BB2C-1970877D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EB4-3923-47E9-98D9-5ADB27BE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9C6-EAE2-48FB-AB9C-0DE2DDA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94E-9B00-4134-9EB6-7788D2EB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E7E-2473-4E60-9CB2-D359F502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B885-0100-4755-8AA6-5A6EB8C5F7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vo los platos todos los dí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sábados hago la comp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o la basura los miérco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veces plancho la rop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fines de semana arreglo mi dormito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7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gusta pasear al perr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sto pasar la aspirado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da igual lavar la rop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 madre le gusta pasear al perr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 padre le gusta lavar el coch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 madre prepara la ce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 padre pone la mesa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 hermano no hace n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 hermana trabaja en el jard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 madre detesta poner la mes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" name="TextBox 25"/>
          <p:cNvSpPr/>
          <p:nvPr/>
        </p:nvSpPr>
        <p:spPr>
          <a:xfrm>
            <a:off x="3780000" y="6524640"/>
            <a:ext cx="5040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14200" y="214200"/>
          <a:ext cx="8572680" cy="63216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6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 padre detesta quitar la mes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 madre le da igual lavar los pla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 padre le da igual trabajar en el jard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 hermana le da igual hacer la comp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 hermano le da igual sacar la basu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Box 25"/>
          <p:cNvSpPr/>
          <p:nvPr/>
        </p:nvSpPr>
        <p:spPr>
          <a:xfrm>
            <a:off x="3780000" y="6642000"/>
            <a:ext cx="5040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0:07:06Z</dcterms:created>
  <dc:creator>john</dc:creator>
  <dc:description/>
  <dc:language>en-US</dc:language>
  <cp:lastModifiedBy>Clare</cp:lastModifiedBy>
  <cp:lastPrinted>2012-03-28T06:48:01Z</cp:lastPrinted>
  <dcterms:modified xsi:type="dcterms:W3CDTF">2014-04-09T09:31:21Z</dcterms:modified>
  <cp:revision>21</cp:revision>
  <dc:subject/>
  <dc:title>MIS COMIDAS TÍPICAS</dc:title>
</cp:coreProperties>
</file>