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1108-9D00-4F5C-8BBD-70401A21C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0823-5728-4524-BDD6-A19170A1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F931-E916-4F81-94F7-1CDD0597D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EB62-7C94-4FFC-9FB2-BDE6BD1E9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CBAF-10ED-4D6D-968A-C74C57F5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297E-96AB-4EEB-A05B-118E8936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C85E-A71B-42DD-B09E-D0C056A0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9A95-9AAD-4181-88A0-A2D47091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D00A-F98F-4E69-8B05-15B36450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BC36-4D19-4C49-859E-08128A43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1AAF-C676-4287-8E67-B183DC7F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7C93-08FE-4800-AD94-FC3AD472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3EF4-93CB-45EF-A7FA-F83FE3E4676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14200" y="214200"/>
          <a:ext cx="8572680" cy="61437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  <a:gridCol w="1714680"/>
              </a:tblGrid>
              <a:tr h="204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y fuerte en matemátic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y fuerte en geografí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 me dan bien las cienci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 me da bien la músic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 me da mal la informátic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04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 me da mal el deport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y flojo/a en inglé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y flojo/a en dibuj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co buenas notas en teatr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co buenas notas en tecnologí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04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co malas notas en españo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co malas notas en cocin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 comporto mal en clase de inglé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 comporto mal en clase de relig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 comporto bien en clase de francé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2" name="TextBox 25"/>
          <p:cNvSpPr/>
          <p:nvPr/>
        </p:nvSpPr>
        <p:spPr>
          <a:xfrm>
            <a:off x="3780000" y="6524640"/>
            <a:ext cx="50400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 Light Bulb Languages/MConnolly 2014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 Rounded MT Bold"/>
                <a:ea typeface="Arial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14200" y="214200"/>
          <a:ext cx="8572680" cy="61437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  <a:gridCol w="1714680"/>
              </a:tblGrid>
              <a:tr h="204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4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M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4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 comporto bien en clase 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buj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 comporto bien en clase 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or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 me da fatal la geografí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 me da fatal la músic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y fuerte en idiom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4" name="TextBox 25"/>
          <p:cNvSpPr/>
          <p:nvPr/>
        </p:nvSpPr>
        <p:spPr>
          <a:xfrm>
            <a:off x="3780000" y="6524640"/>
            <a:ext cx="50400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 Light Bulb Languages/MConnolly 2014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 Rounded MT Bold"/>
                <a:ea typeface="Arial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9:01:54Z</dcterms:created>
  <dc:creator>john</dc:creator>
  <dc:description/>
  <dc:language>en-US</dc:language>
  <cp:lastModifiedBy>Clare</cp:lastModifiedBy>
  <dcterms:modified xsi:type="dcterms:W3CDTF">2014-04-09T09:32:46Z</dcterms:modified>
  <cp:revision>21</cp:revision>
  <dc:subject/>
  <dc:title>Slide 1</dc:title>
</cp:coreProperties>
</file>