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6DD-585A-4F72-BAB9-04A4B157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94F-BFF3-414E-91F8-5B3150D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026-381B-46DC-8044-22F6C9D2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CDF-C2DF-40F6-B973-A984760F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146-8A5E-4308-9990-3E35D207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4C7-277A-4250-9D1E-7E319F26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006-F163-47D8-90C9-029B8950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471-B9BB-415C-8BAC-FE856B62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B99-D07A-4F0D-87BB-F76AFE0A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EC8-2BC4-4923-92A7-09873113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AAE-EBA2-4625-9C92-5C0AE88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29F-C1EC-4F2E-B069-9640E02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3D70-D9E5-48FD-B914-4C6A8A6436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uerte en matemátic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uerte en geograf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n bien las cienci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bien la mús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mal la informát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mal el depor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lojo/a en ingl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lojo/a en dibuj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buenas notas en teat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buenas notas en tecnolog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malas notas en españ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malas notas en coci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mal en clase de ingl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mal en clase de relig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bien en clase de franc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5"/>
          <p:cNvSpPr/>
          <p:nvPr/>
        </p:nvSpPr>
        <p:spPr>
          <a:xfrm>
            <a:off x="3780000" y="652464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bien en clas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bien en clas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or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fatal la geograf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fatal la mús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uerte en idiom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TextBox 25"/>
          <p:cNvSpPr/>
          <p:nvPr/>
        </p:nvSpPr>
        <p:spPr>
          <a:xfrm>
            <a:off x="3780000" y="652464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</cp:lastModifiedBy>
  <dcterms:modified xsi:type="dcterms:W3CDTF">2014-04-09T09:32:46Z</dcterms:modified>
  <cp:revision>21</cp:revision>
  <dc:subject/>
  <dc:title>Slide 1</dc:title>
</cp:coreProperties>
</file>