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B16E-0A03-4D1E-BA4D-5B6C5EF95E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6F1-51E9-48B6-A2E4-59C7566D8B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23A-7723-4CBD-9E53-11040162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DCD-9F7E-45D9-9760-F030D15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0B2-533F-4DE8-BA96-A6AE5BC9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CCA-6F26-4A5D-B397-45596F17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D46-D17C-43F9-A4F6-D267CEAA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27B-1012-491E-A25C-45B40C44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AB9-B599-442E-849C-76779943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1A3-1896-413B-AE73-A0E7240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69D-285B-4BDB-8618-5F12DE4A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237-E319-4709-8435-1D91046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37F-5CD9-42DF-9791-85DAD968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FA6-6BC0-456E-92A2-681F91B7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CECE-D3EF-42BA-A377-7AC4329499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260280"/>
          <a:ext cx="8640720" cy="64594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una manz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an ap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fru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eats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Italian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s un plát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eat a ban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yellow fruit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mos un bocadill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eat a r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bread and fill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n patatas frit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eat cris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 Walk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éis una hamburgue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McDonal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agua miner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from a tap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s coca col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Holidays are coming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 zumo de naranj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drinks orange ju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breakfast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mos limonad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drink lemona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yellow drink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éis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You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British favourite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n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caffe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un plát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eat a ban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yellow fru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s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You eat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Itali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mos una manz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We eat an ap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fru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n una hamburgues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They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McDonal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25"/>
          <p:cNvSpPr/>
          <p:nvPr/>
        </p:nvSpPr>
        <p:spPr>
          <a:xfrm>
            <a:off x="3454560" y="6642000"/>
            <a:ext cx="5689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0920" y="260280"/>
          <a:ext cx="8640720" cy="648972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 patatas frit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eats crisp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Walk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éis  un bocadill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(pl) eat a r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bread &amp; ?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oca 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holidays are coming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s limon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rink lemona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lemona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drinks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....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mos agu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from the tap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éis caf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 pl drink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coff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n zumo de naranj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drink orange ju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very healthy....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piz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..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eat a rol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s un bocadi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s, un bocadil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eats an app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Come una manza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, una manza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eat cris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mos patatas fri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n, p_____ f____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is una hamburgue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is, drop the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eat a ban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Comen un plát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n, un p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o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té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s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s, agu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25"/>
          <p:cNvSpPr/>
          <p:nvPr/>
        </p:nvSpPr>
        <p:spPr>
          <a:xfrm>
            <a:off x="3276720" y="6642000"/>
            <a:ext cx="56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260280"/>
          <a:ext cx="8640720" cy="648972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drinks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, caf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mos coca c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mos,...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drink orange ju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éis zumo de naranj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éis, zumo de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drink lemon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n limon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n, limon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a r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un bocadi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un boca..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eat cris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s patatas fri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s, patatas frit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eats an app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 una manza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, una manza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mos una hamburgue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mos, drop the 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eat a bana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is un plát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éis, un plát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eat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n pizz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n, .........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lemonad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o limon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limona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s caf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, café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drinks jui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 zumo de naranj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, zumo de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mos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mos, 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éis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éis, agu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n coca 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n, coca co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25"/>
          <p:cNvSpPr/>
          <p:nvPr/>
        </p:nvSpPr>
        <p:spPr>
          <a:xfrm>
            <a:off x="3441600" y="6642000"/>
            <a:ext cx="56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0:00:28Z</dcterms:created>
  <dc:creator>john</dc:creator>
  <dc:description/>
  <dc:language>en-US</dc:language>
  <cp:lastModifiedBy>Clare</cp:lastModifiedBy>
  <dcterms:modified xsi:type="dcterms:W3CDTF">2014-04-09T09:55:55Z</dcterms:modified>
  <cp:revision>13</cp:revision>
  <dc:subject/>
  <dc:title>Slide 1</dc:title>
</cp:coreProperties>
</file>