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D057-BC86-4219-BFCE-EE3E9B741A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B5C4-52BC-45BD-B521-FBD426F089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224-D2BD-4C13-AD38-00ED61F0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7F-18A7-42EA-A355-60D89CA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2C1-511B-456D-869D-551F3FE3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26F-9FBB-4089-826C-28E839E0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796-4DD7-4EB6-A4DE-1C4FEED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AC2-7C83-4CCE-8D4A-C2F66A66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B9D-1C00-4A16-A45D-37B8A567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1EA-E004-48A8-BBBB-4E37AAAA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FFA-1F4B-4609-A1B9-7FD04F42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062-4209-43A1-AA84-1BAF0EE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1DA-E205-414D-8C87-0FDBF37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B4A-1D16-418F-8908-FDA925C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578-BE27-4EB1-BCC5-AB22265CE8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260280"/>
          <a:ext cx="8640720" cy="64594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una manz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an ap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eats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Italian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s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yellow fruit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mos un bocadill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bread and fill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n patatas frit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 Walk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éis una hamburgue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McDonal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agua miner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from a tap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s coca co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Holidays are coming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 zumo de naran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drinks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breakfas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mos limonad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drink lemon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yellow drink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éis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You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British favourite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n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caffe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yellow fru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s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You eat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Itali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mos una manz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We eat an ap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fru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n una hamburgues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They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McDonal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25"/>
          <p:cNvSpPr/>
          <p:nvPr/>
        </p:nvSpPr>
        <p:spPr>
          <a:xfrm>
            <a:off x="3454560" y="6642000"/>
            <a:ext cx="5689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260280"/>
          <a:ext cx="8640720" cy="6489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e patatas fri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eats cris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Walk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éis  un bocadill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(pl)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bread &amp; ?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, holidays are coming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s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rink lemon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, lemon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 drinks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e/she, ..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mos agu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e, from the tap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éis caf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 pl drink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You pl, coffe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en zumo de naran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drink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y, very healthy....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piz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eat a ro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un bocadi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s, un bocadill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eats an app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Come una manz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, una manza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mos patatas fri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p_____ f____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 una hamburgu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, drop the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eat a bana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Comen un pláta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un p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té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s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s, 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25"/>
          <p:cNvSpPr/>
          <p:nvPr/>
        </p:nvSpPr>
        <p:spPr>
          <a:xfrm>
            <a:off x="3276720" y="66420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260280"/>
          <a:ext cx="8640720" cy="648972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drinks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caf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mos coca c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mos,...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drink orange jui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éis zumo de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éis, zumo de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drink lemon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n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n, limon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a r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un bocadi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un boca..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eat cris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patatas fri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s, patatas frit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eats an app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 una manz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, una manza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eat a burg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mos una hamburgu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mos, drop the 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eat a ban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éis un plát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éis, un plát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eat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n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en, ........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lemonad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o limon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limon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es caf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café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e/she drinks jui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 zumo de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, zumo d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e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mos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mos, 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pl drink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éis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éis, 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y dri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Beben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en, coca co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25"/>
          <p:cNvSpPr/>
          <p:nvPr/>
        </p:nvSpPr>
        <p:spPr>
          <a:xfrm>
            <a:off x="3441600" y="66420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0:00:28Z</dcterms:created>
  <dc:creator>john</dc:creator>
  <dc:description/>
  <dc:language>en-US</dc:language>
  <cp:lastModifiedBy>Clare</cp:lastModifiedBy>
  <dcterms:modified xsi:type="dcterms:W3CDTF">2014-04-09T09:55:55Z</dcterms:modified>
  <cp:revision>13</cp:revision>
  <dc:subject/>
  <dc:title>Slide 1</dc:title>
</cp:coreProperties>
</file>