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CED-B281-407A-A03E-68B237F9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CEB-53B1-47BD-A454-7E7EC73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93C-1141-4F74-8886-CEC6A3B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055-3AEE-4EFB-9E6C-8E3F353A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58C-8998-4761-927C-DBD5F5A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90A-2D6F-46C9-B1D1-1611FD16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FBE-C812-4D6B-A53A-0D7DFB5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2B3-D85C-4A3D-B98B-8FB54BFB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2F1-8F76-4D4C-B76E-95DF5999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047-3617-41B7-8E9F-0D2A6D5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BC6-18F5-4D33-81A1-79CC7F7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AF3-472B-40BA-AC97-F103BC0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2348-3182-4384-90D0-0FB9DDD1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nimals listening exercise”  The sound file has 9 statements, each saying what animals each person h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say the number of the picture which is being describ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come to the board and point to the picture that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grids and use it as a stimulus for pair work, either identifying numbers/pictures or giving true/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213000"/>
            <a:ext cx="60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-tu un anim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J’ai un c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J’ai deux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J’ai un l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Je n’ai pas d’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J’ai une tor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J’ai cinq poissons 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J’ai une perruche qui s’appelle Perce-N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J’ai un cochon d’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J’ai un oiseau et un ch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79280" y="1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189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2303280" cy="153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4389" t="56438" r="34389" b="0"/>
          <a:stretch/>
        </p:blipFill>
        <p:spPr>
          <a:xfrm>
            <a:off x="1258920" y="836640"/>
            <a:ext cx="71928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71680" cy="193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1038240" cy="118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708360" y="549360"/>
            <a:ext cx="998640" cy="17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348000" y="5113440"/>
            <a:ext cx="2519280" cy="126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659640" y="476280"/>
            <a:ext cx="1942920" cy="167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332000" y="5805360"/>
            <a:ext cx="1655640" cy="773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24000" y="5084640"/>
            <a:ext cx="1655640" cy="7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3708360" y="2421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6443640" y="4869000"/>
            <a:ext cx="2195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1:19:31Z</dcterms:created>
  <dc:creator>Clare</dc:creator>
  <dc:description/>
  <dc:language>en-US</dc:language>
  <cp:lastModifiedBy>Clare</cp:lastModifiedBy>
  <dcterms:modified xsi:type="dcterms:W3CDTF">2008-05-09T12:37:50Z</dcterms:modified>
  <cp:revision>6</cp:revision>
  <dc:subject/>
  <dc:title>Slide 1</dc:title>
</cp:coreProperties>
</file>