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77-0961-4CA8-8542-CE5C03B7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4B4-6661-4EF4-A61D-ADAC988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40F-C556-438D-921C-46FFABD6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B2A-FC60-4DE4-B698-633ADEFE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45A-B478-40A2-8211-82EDD18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F13-97C9-4811-A278-AE4C2585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EF8-85C2-4FB6-83C1-74BE35BB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A51-120F-4824-B58F-9F1009A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F18-FBBA-40A5-80F7-696D20A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6A1-0769-4431-84A6-DF8ED3F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FE8-4336-4EFB-A48A-58F8B30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44A-888B-4194-8FFE-B6BFCDA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BBD7-C24C-49B9-92CF-E57EB1F2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PowerPoint is designed to be used with the sound file “Animals listening exercise”  The sound file has 9 statements, each saying what animals each person h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resource can be used in several different ways.  Here are some sugg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listen to the sound file and say the number of the picture which is being describ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come to the board and point to the picture that is being descri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pils use the pictures as a stimulus for spea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follow-up, pupils could draw their own grids and use it as a stimulus for pair work, either identifying numbers/pictures or giving true/false stat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213000"/>
            <a:ext cx="60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cri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-tu un anim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J’ai un c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J’ai deux sou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J’ai un l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Je n’ai pas d’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J’ai une tor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J’ai cinq poissons rou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J’ai une perruche qui s’appelle Perce-N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J’ai un cochon d’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J’ai un oiseau et un ch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79280" y="1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189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2303280" cy="153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4389" t="56438" r="34389" b="0"/>
          <a:stretch/>
        </p:blipFill>
        <p:spPr>
          <a:xfrm>
            <a:off x="1258920" y="836640"/>
            <a:ext cx="71928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71680" cy="193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1038240" cy="118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708360" y="549360"/>
            <a:ext cx="998640" cy="172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348000" y="5113440"/>
            <a:ext cx="2519280" cy="126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659640" y="476280"/>
            <a:ext cx="1942920" cy="167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332000" y="5805360"/>
            <a:ext cx="1655640" cy="773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24000" y="5084640"/>
            <a:ext cx="1655640" cy="7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3708360" y="2421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6443640" y="4869000"/>
            <a:ext cx="2195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1:19:31Z</dcterms:created>
  <dc:creator>Clare</dc:creator>
  <dc:description/>
  <dc:language>en-US</dc:language>
  <cp:lastModifiedBy>Clare</cp:lastModifiedBy>
  <dcterms:modified xsi:type="dcterms:W3CDTF">2008-05-09T12:37:50Z</dcterms:modified>
  <cp:revision>6</cp:revision>
  <dc:subject/>
  <dc:title>Slide 1</dc:title>
</cp:coreProperties>
</file>