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09F-5309-4DE6-A067-3766CD63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B50-9360-4997-9023-9D39448E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F05-CA0A-4394-9573-7D863B8F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2FE-6EA1-4B12-B760-21244334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C46-1C1E-42ED-A2A1-34AA4DDB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909-6322-4BA8-9CAA-EC8A2E17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AD1-BD86-4091-8E44-FE4CC694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8B4-CE7C-4692-91BA-79EEDD0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065-1768-4E5B-B174-0A0FEE4A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BB5-91FF-47D4-968F-3585E7A1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83D-5966-4BB2-BAA3-CB2A346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3E5-A4B6-44AF-B799-F384347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46E4-6670-49C9-8499-6B3F41991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Animals True or False”  The sound file has 6 statements, each saying which animal is in which numbered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listen to the sound file and answer “Vrai” or “Faux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correct the 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use the pictures as a stimulus for spea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a follow-up, pupils could draw their own grids and use it as a stimulus for pair work, either identifying numbers/pictures or giving true/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429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rai ou fau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trois, c’est un hippopot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quatre, c’est un fla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un, c’est un zè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six, c’est un ours p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cinq, c’est un élé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deux, c’est un 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189000"/>
          <a:ext cx="8713800" cy="64087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2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50920" y="189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1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1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429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335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335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56360" y="90792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968480" cy="295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08360" y="333360"/>
            <a:ext cx="195120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276720" y="4076640"/>
            <a:ext cx="2663640" cy="17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4076640"/>
            <a:ext cx="27352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40:24Z</dcterms:created>
  <dc:creator>Clare</dc:creator>
  <dc:description/>
  <dc:language>en-US</dc:language>
  <cp:lastModifiedBy>Clare</cp:lastModifiedBy>
  <dcterms:modified xsi:type="dcterms:W3CDTF">2008-05-09T12:57:48Z</dcterms:modified>
  <cp:revision>4</cp:revision>
  <dc:subject/>
  <dc:title>Slide 1</dc:title>
</cp:coreProperties>
</file>