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ACB-CF95-4DC6-A084-F39CA08C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720-E57E-4E9C-B02B-41ADF90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BD8-9DF3-42D0-96E3-F742ED44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F8B-25BB-49AD-9C0E-DBAD7E86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154-EF1A-4E81-8731-B4F2F7D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C2E-02BA-48E3-B769-D0F3628C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CF0-DD8B-4AC8-8968-9CC3BAF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67E-BBCE-452D-A915-1DE9F5C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B45-E2B0-4EE7-8E11-A7D6148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762-B53C-4F40-BEFD-A05240E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D43-DC6E-436A-AB8E-515158DC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25D-4347-48FF-9CE8-F18035D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39A-E7C0-4F99-B870-7E9E405C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Animals True or False”  The sound file has 6 statements, each saying which animal is in which numbered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listen to the sound file and answer “Vrai” or “Faux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correct the 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use the pictures as a stimulus for spea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a follow-up, pupils could draw their own grids and use it as a stimulus for pair work, either identifying numbers/pictures or giving true/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429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rai ou fau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trois, c’est un hippopot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quatre, c’est un fla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un, c’est un zè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six, c’est un ours p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cinq, c’est un élé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numéro deux, c’est un 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189000"/>
          <a:ext cx="8713800" cy="64087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2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50920" y="189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1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1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429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335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335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56360" y="90792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968480" cy="295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08360" y="333360"/>
            <a:ext cx="195120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276720" y="4076640"/>
            <a:ext cx="2663640" cy="17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24000" y="4076640"/>
            <a:ext cx="27352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40:24Z</dcterms:created>
  <dc:creator>Clare</dc:creator>
  <dc:description/>
  <dc:language>en-US</dc:language>
  <cp:lastModifiedBy>Clare</cp:lastModifiedBy>
  <dcterms:modified xsi:type="dcterms:W3CDTF">2008-05-09T12:57:48Z</dcterms:modified>
  <cp:revision>4</cp:revision>
  <dc:subject/>
  <dc:title>Slide 1</dc:title>
</cp:coreProperties>
</file>