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D00-8AFC-41F7-89F8-93F5A3DB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6872-8C10-4A7F-A1D9-5AF38298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9AA5-4448-4423-BE26-06CDC28A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CD8-D754-41E1-9876-92F74950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3E8-59CF-457E-A19A-8A070827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A10-68F1-4B36-8DA6-69D60284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E17-D562-4220-BD69-FD669E54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D3C-9CA6-4E5A-85E1-ABCF07FB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48D-9820-439A-BCBB-383281F2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E9A-2F64-4FD7-A34F-83768BD1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2B6-871F-43B5-A58A-6266146B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8000-083B-4AB9-BCA0-22816382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8EC7-889B-4A63-96C0-FA30F870B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hyperlink" Target="http://www.sunderlandschools.org.mfl-sunderland/" TargetMode="External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-tu des frères ou des soeur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5280" y="692280"/>
          <a:ext cx="8353440" cy="5905440"/>
        </p:xfrm>
        <a:graphic>
          <a:graphicData uri="http://schemas.openxmlformats.org/drawingml/2006/table">
            <a:tbl>
              <a:tblPr/>
              <a:tblGrid>
                <a:gridCol w="2784600"/>
                <a:gridCol w="2784240"/>
                <a:gridCol w="2784600"/>
              </a:tblGrid>
              <a:tr h="19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19640" y="2852640"/>
            <a:ext cx="1006200" cy="151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00720" y="2852640"/>
            <a:ext cx="1006200" cy="151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58920" y="4797360"/>
            <a:ext cx="1006560" cy="151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195640" y="1197000"/>
            <a:ext cx="815760" cy="122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332000" y="1197000"/>
            <a:ext cx="815760" cy="1225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68360" y="1197000"/>
            <a:ext cx="815760" cy="1225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211640" y="4941720"/>
            <a:ext cx="814320" cy="1224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276720" y="4941720"/>
            <a:ext cx="861840" cy="1297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851280" y="836640"/>
            <a:ext cx="1092240" cy="160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012000" y="2924280"/>
            <a:ext cx="880920" cy="129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6948360" y="2924280"/>
            <a:ext cx="881280" cy="129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7812000" y="2924280"/>
            <a:ext cx="881280" cy="129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6012000" y="1052640"/>
            <a:ext cx="911160" cy="13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7812000" y="1052640"/>
            <a:ext cx="881280" cy="129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6948360" y="1052640"/>
            <a:ext cx="881280" cy="129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5003640" y="4941720"/>
            <a:ext cx="881280" cy="1297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7380360" y="4797360"/>
            <a:ext cx="1092240" cy="1608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6300720" y="4797360"/>
            <a:ext cx="1092240" cy="1608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6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6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6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036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200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6669000"/>
            <a:ext cx="52196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8 CS/IR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9"/>
              </a:rPr>
              <a:t>http://www.sunderlandschools.org.mfl-sunderland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5:05:27Z</dcterms:created>
  <dc:creator>CSeccombe</dc:creator>
  <dc:description/>
  <dc:language>en-US</dc:language>
  <cp:lastModifiedBy>CSeccombe</cp:lastModifiedBy>
  <dcterms:modified xsi:type="dcterms:W3CDTF">2008-03-28T15:06:46Z</dcterms:modified>
  <cp:revision>2</cp:revision>
  <dc:subject/>
  <dc:title>Slide 1</dc:title>
</cp:coreProperties>
</file>