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CBA3-5CAE-4B4F-999B-1E386400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382E-2585-41CD-9331-B671F2C4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842E-EBDD-4668-8187-5A4A559F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49E8-46F0-449F-87F1-D9BC00AC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6170-98C6-4EE7-BFB6-7DF79E39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7908-B8B8-44F0-A578-D9DF2061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FBF7-A186-4CD5-94D3-B80DB242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C407-96EA-49EB-84D3-7DAF5DB7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F22E-83A7-4299-9421-EAE19834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D468-7E82-4227-9538-3663BDDA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2C92-1A8D-4FC1-A167-9765CC35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74DC-DB39-4976-8440-A9F52998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8B3F-B9DF-41E7-A337-DED2757CC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hyperlink" Target="http://www.sunderlandschools.org.mfl-sunderland/" TargetMode="External"/><Relationship Id="rId2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s-tu des frères ou des soeur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95280" y="692280"/>
          <a:ext cx="8353440" cy="5905440"/>
        </p:xfrm>
        <a:graphic>
          <a:graphicData uri="http://schemas.openxmlformats.org/drawingml/2006/table">
            <a:tbl>
              <a:tblPr/>
              <a:tblGrid>
                <a:gridCol w="2784600"/>
                <a:gridCol w="2784240"/>
                <a:gridCol w="2784600"/>
              </a:tblGrid>
              <a:tr h="19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19640" y="2852640"/>
            <a:ext cx="1006200" cy="1513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00720" y="2852640"/>
            <a:ext cx="1006200" cy="1513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258920" y="4797360"/>
            <a:ext cx="1006560" cy="1513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195640" y="1197000"/>
            <a:ext cx="815760" cy="1225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332000" y="1197000"/>
            <a:ext cx="815760" cy="1225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68360" y="1197000"/>
            <a:ext cx="815760" cy="1225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4211640" y="4941720"/>
            <a:ext cx="814320" cy="1224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276720" y="4941720"/>
            <a:ext cx="861840" cy="1297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3851280" y="836640"/>
            <a:ext cx="1092240" cy="1608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6012000" y="2924280"/>
            <a:ext cx="880920" cy="129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6948360" y="2924280"/>
            <a:ext cx="881280" cy="129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7812000" y="2924280"/>
            <a:ext cx="881280" cy="1296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6012000" y="1052640"/>
            <a:ext cx="911160" cy="136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7812000" y="1052640"/>
            <a:ext cx="881280" cy="129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5"/>
          <a:stretch/>
        </p:blipFill>
        <p:spPr>
          <a:xfrm>
            <a:off x="6948360" y="1052640"/>
            <a:ext cx="881280" cy="1296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6"/>
          <a:stretch/>
        </p:blipFill>
        <p:spPr>
          <a:xfrm>
            <a:off x="5003640" y="4941720"/>
            <a:ext cx="881280" cy="1297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7"/>
          <a:stretch/>
        </p:blipFill>
        <p:spPr>
          <a:xfrm>
            <a:off x="7380360" y="4797360"/>
            <a:ext cx="1092240" cy="1608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8"/>
          <a:stretch/>
        </p:blipFill>
        <p:spPr>
          <a:xfrm>
            <a:off x="6300720" y="4797360"/>
            <a:ext cx="1092240" cy="1608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692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692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692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270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263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40360" y="26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465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465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12000" y="465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24360" y="6669000"/>
            <a:ext cx="52196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8 CS/IR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19"/>
              </a:rPr>
              <a:t>http://www.sunderlandschools.org.mfl-sunderland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5:05:27Z</dcterms:created>
  <dc:creator>CSeccombe</dc:creator>
  <dc:description/>
  <dc:language>en-US</dc:language>
  <cp:lastModifiedBy>CSeccombe</cp:lastModifiedBy>
  <dcterms:modified xsi:type="dcterms:W3CDTF">2008-03-28T15:06:46Z</dcterms:modified>
  <cp:revision>2</cp:revision>
  <dc:subject/>
  <dc:title>Slide 1</dc:title>
</cp:coreProperties>
</file>