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D87-7E4E-4EE4-98AB-D0691711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109D-49A1-4FB4-A7F2-68D21E95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8A2B-4980-4B68-8756-F30D954E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FCC1-ECED-4F76-82E2-4D28F136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BB67-F5C0-4519-876A-FD0A9FA2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182F-A8AF-4A32-A851-2475BBA6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FA53-8F16-4CA8-86E3-39D6EE49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9D96-C585-4ECB-922C-9697A4B4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8BA-14FC-4723-AAE0-5F5ABB40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652D-84E7-4A83-9FA3-9FE6C44E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29B-84F3-4ECB-821D-D0A95B06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C0AF-C1AF-4F36-AE5A-924936E0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C3D5-4CF4-4036-96A0-FB1EE5720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image" Target="../media/image2.wmf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5.wmf"/><Relationship Id="rId35" Type="http://schemas.openxmlformats.org/officeDocument/2006/relationships/image" Target="../media/image5.wmf"/><Relationship Id="rId36" Type="http://schemas.openxmlformats.org/officeDocument/2006/relationships/image" Target="../media/image5.wmf"/><Relationship Id="rId37" Type="http://schemas.openxmlformats.org/officeDocument/2006/relationships/image" Target="../media/image5.wmf"/><Relationship Id="rId38" Type="http://schemas.openxmlformats.org/officeDocument/2006/relationships/image" Target="../media/image4.wmf"/><Relationship Id="rId39" Type="http://schemas.openxmlformats.org/officeDocument/2006/relationships/image" Target="../media/image4.wmf"/><Relationship Id="rId40" Type="http://schemas.openxmlformats.org/officeDocument/2006/relationships/image" Target="../media/image4.wmf"/><Relationship Id="rId41" Type="http://schemas.openxmlformats.org/officeDocument/2006/relationships/image" Target="../media/image4.wmf"/><Relationship Id="rId42" Type="http://schemas.openxmlformats.org/officeDocument/2006/relationships/image" Target="../media/image4.wmf"/><Relationship Id="rId4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otes for the teach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PowerPoint is designed to be used with the sound file “Au Zoo”  The sound file lists the animals which are in a zo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resource can be used in several different ways.  Here are some sugg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pils listen to the sound file and decide which of the two zoos pictured is being describ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pils use the pictures as a stimulus for spea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 a follow-up, pupils could draw their own zoos and use write or say the animals that are in it.  This will oblige them to use their prior knowledge of plural for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3429000"/>
            <a:ext cx="446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cript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 zoo il y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ux tort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tre 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ours po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x serp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nq perroqu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is zè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189000"/>
            <a:ext cx="8642160" cy="30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3573360"/>
            <a:ext cx="8642160" cy="309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92360" cy="654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792000" cy="654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792360" cy="654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258920" y="404640"/>
            <a:ext cx="792000" cy="654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84360" y="2205000"/>
            <a:ext cx="1150920" cy="692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596360" y="1052640"/>
            <a:ext cx="973080" cy="579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524720" y="404640"/>
            <a:ext cx="973080" cy="579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2771640" y="404640"/>
            <a:ext cx="573120" cy="64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3276720" y="333360"/>
            <a:ext cx="573120" cy="647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3276720" y="981000"/>
            <a:ext cx="573120" cy="64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2771640" y="1268280"/>
            <a:ext cx="573120" cy="64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3780000" y="981000"/>
            <a:ext cx="572760" cy="647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2484360" y="2133720"/>
            <a:ext cx="792360" cy="530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2916360" y="2421000"/>
            <a:ext cx="79200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5"/>
          <a:stretch/>
        </p:blipFill>
        <p:spPr>
          <a:xfrm>
            <a:off x="3492360" y="2565360"/>
            <a:ext cx="79236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6"/>
          <a:stretch/>
        </p:blipFill>
        <p:spPr>
          <a:xfrm>
            <a:off x="3492360" y="2060640"/>
            <a:ext cx="79236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7"/>
          <a:stretch/>
        </p:blipFill>
        <p:spPr>
          <a:xfrm>
            <a:off x="4211640" y="2421000"/>
            <a:ext cx="79200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8"/>
          <a:stretch/>
        </p:blipFill>
        <p:spPr>
          <a:xfrm>
            <a:off x="4643280" y="2133720"/>
            <a:ext cx="79236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9"/>
          <a:stretch/>
        </p:blipFill>
        <p:spPr>
          <a:xfrm>
            <a:off x="5508720" y="476280"/>
            <a:ext cx="1017360" cy="995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0"/>
          <a:stretch/>
        </p:blipFill>
        <p:spPr>
          <a:xfrm>
            <a:off x="6588000" y="1197000"/>
            <a:ext cx="1017720" cy="995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1"/>
          <a:stretch/>
        </p:blipFill>
        <p:spPr>
          <a:xfrm>
            <a:off x="5651640" y="1557360"/>
            <a:ext cx="1017360" cy="995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2"/>
          <a:stretch/>
        </p:blipFill>
        <p:spPr>
          <a:xfrm>
            <a:off x="684360" y="3789360"/>
            <a:ext cx="663480" cy="79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3"/>
          <a:stretch/>
        </p:blipFill>
        <p:spPr>
          <a:xfrm>
            <a:off x="1332000" y="3860640"/>
            <a:ext cx="663480" cy="792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4"/>
          <a:stretch/>
        </p:blipFill>
        <p:spPr>
          <a:xfrm>
            <a:off x="2484360" y="4005360"/>
            <a:ext cx="1150920" cy="691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8101080" y="2421000"/>
            <a:ext cx="4446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028000" y="5877000"/>
            <a:ext cx="4446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5"/>
          <a:stretch/>
        </p:blipFill>
        <p:spPr>
          <a:xfrm>
            <a:off x="539640" y="4724280"/>
            <a:ext cx="1017720" cy="995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6"/>
          <a:stretch/>
        </p:blipFill>
        <p:spPr>
          <a:xfrm>
            <a:off x="1042920" y="5516640"/>
            <a:ext cx="1017720" cy="995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7"/>
          <a:stretch/>
        </p:blipFill>
        <p:spPr>
          <a:xfrm>
            <a:off x="1619280" y="4724280"/>
            <a:ext cx="1017720" cy="995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8"/>
          <a:stretch/>
        </p:blipFill>
        <p:spPr>
          <a:xfrm>
            <a:off x="4140360" y="3789360"/>
            <a:ext cx="792000" cy="654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9"/>
          <a:stretch/>
        </p:blipFill>
        <p:spPr>
          <a:xfrm>
            <a:off x="4788000" y="4221000"/>
            <a:ext cx="792000" cy="654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0"/>
          <a:stretch/>
        </p:blipFill>
        <p:spPr>
          <a:xfrm>
            <a:off x="4211640" y="4581360"/>
            <a:ext cx="792000" cy="654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1"/>
          <a:stretch/>
        </p:blipFill>
        <p:spPr>
          <a:xfrm>
            <a:off x="5219640" y="4869000"/>
            <a:ext cx="792360" cy="653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2"/>
          <a:stretch/>
        </p:blipFill>
        <p:spPr>
          <a:xfrm>
            <a:off x="5364000" y="3716280"/>
            <a:ext cx="792360" cy="65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3"/>
          <a:stretch/>
        </p:blipFill>
        <p:spPr>
          <a:xfrm>
            <a:off x="5651640" y="4365720"/>
            <a:ext cx="792000" cy="654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4"/>
          <a:stretch/>
        </p:blipFill>
        <p:spPr>
          <a:xfrm>
            <a:off x="7596360" y="3789360"/>
            <a:ext cx="792000" cy="530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5"/>
          <a:stretch/>
        </p:blipFill>
        <p:spPr>
          <a:xfrm>
            <a:off x="7093080" y="4005360"/>
            <a:ext cx="792000" cy="530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6"/>
          <a:stretch/>
        </p:blipFill>
        <p:spPr>
          <a:xfrm>
            <a:off x="7885080" y="4437000"/>
            <a:ext cx="792360" cy="530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7"/>
          <a:stretch/>
        </p:blipFill>
        <p:spPr>
          <a:xfrm>
            <a:off x="7164360" y="4653000"/>
            <a:ext cx="792360" cy="530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8"/>
          <a:stretch/>
        </p:blipFill>
        <p:spPr>
          <a:xfrm>
            <a:off x="3419640" y="5661000"/>
            <a:ext cx="572760" cy="647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9"/>
          <a:stretch/>
        </p:blipFill>
        <p:spPr>
          <a:xfrm>
            <a:off x="4067280" y="5805360"/>
            <a:ext cx="573120" cy="64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0"/>
          <a:stretch/>
        </p:blipFill>
        <p:spPr>
          <a:xfrm>
            <a:off x="4572000" y="5516640"/>
            <a:ext cx="57312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1"/>
          <a:stretch/>
        </p:blipFill>
        <p:spPr>
          <a:xfrm>
            <a:off x="5148360" y="6021360"/>
            <a:ext cx="573120" cy="647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2"/>
          <a:stretch/>
        </p:blipFill>
        <p:spPr>
          <a:xfrm>
            <a:off x="5651640" y="5734080"/>
            <a:ext cx="5731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2:40:24Z</dcterms:created>
  <dc:creator>Clare</dc:creator>
  <dc:description/>
  <dc:language>en-US</dc:language>
  <cp:lastModifiedBy>Clare</cp:lastModifiedBy>
  <dcterms:modified xsi:type="dcterms:W3CDTF">2008-05-09T13:21:07Z</dcterms:modified>
  <cp:revision>9</cp:revision>
  <dc:subject/>
  <dc:title>Slide 1</dc:title>
</cp:coreProperties>
</file>